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FA3-C2AB-4626-843C-54CB7B31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87C-8DF1-4C60-B8B8-150D424F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058-A599-47D8-B78F-EE545140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63D-B506-49E1-84DE-BFCFAD4C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F1A1-BBFE-4728-B369-04C1B30D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CA20-16A2-40CC-AE2F-24C5A83C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F83-A0DA-4F6B-AFE9-8970DA85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E141-F1D2-4975-8E5C-6674F3C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8961-FCED-47EF-9E95-3BE11D8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FBC9-336A-4B0C-9A78-C83F6AD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E770-FBD6-47C0-B8DC-1CBB57C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24C-7EE1-461E-9023-DC60F452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58E-9901-49F8-9484-A1E28825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0A8B-6C03-4B8B-B609-5936401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2D09-74B4-441A-9A12-900A6D46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66AE-CE77-469A-BBE5-F05B9E7F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557-8A02-45EC-B179-DB11CD6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8F9-6C58-47A0-ACC1-6F85A0B8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30D-6A46-40F3-B44B-B1E27113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427-0F80-4884-A18F-7783896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D2A-7D8B-4B23-8F6E-AFD41883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C1D-FDE0-49FC-BE19-35A2A10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E92-8FE6-4C9E-896F-2A88DE5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E2C-5332-449E-89D6-A69758E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50000">
                  <a:srgbClr val="00aca8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33cccc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50000">
                  <a:srgbClr val="00aca8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50000">
                  <a:srgbClr val="00aca8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B152-EB74-4665-B650-CD6A690253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50000">
                  <a:srgbClr val="00aca8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33cccc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50000">
                  <a:srgbClr val="00aca8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50000">
                  <a:srgbClr val="00aca8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5864-90B7-4893-BB05-81ECB78607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00600" y="4572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57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Софья Васильевна Ковалевская (1850-189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74320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Я чувствую, что предназначена служить истине - науке и прокладывать новый путь женщинам, потому что это значит - служить справедливости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Возвращение в Росс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66880" y="685800"/>
            <a:ext cx="3581640" cy="2808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320040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В 1874 году Ковалевские вернулись в Россию. Софья Васильевна, получившая замечательное математическое образование, не могла найти применение своим знаниям  у себя на Родине: в те годы женщина в России могла преподавать только арифметику в младших клас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Работа в Стокгольм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70000" contrast="-70000"/>
          </a:blip>
          <a:srcRect l="12667" t="8348" r="10279" b="15015"/>
          <a:stretch/>
        </p:blipFill>
        <p:spPr>
          <a:xfrm>
            <a:off x="2820960" y="687240"/>
            <a:ext cx="4183200" cy="5254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785880"/>
            <a:ext cx="89154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Вскоре Софья Васильевна обратилась к министру народного просвещения с заявлением о допуске к магистерским экзаменам. Министр не только отказал, на и дал следующий прогно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«Ковалевская и её дочка успеют состариться, прежде чем женщин будут допускать к институту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Потеряв всякую надежду заниматься наукой и преподаванием в России, Софья принимает приглашение Стокгольмского университета читать в нём лекции по математике. Весной 1883 года она вынуждена с дочерью уехать в Шве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Работа в Стокгольм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5400" y="0"/>
            <a:ext cx="229860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3120"/>
            <a:ext cx="655308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Швеция ждала учёную-математика. Газеты писали: «Наш город почтила своим посещением принцесса науки – госпожа Ковалевская. Она будет первым приват-доцентом женщиной во всей Швеци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Будучи профессором Стокгольмского университета, Ковалевская прочла студентам более 10 различных математических курсов. Популярность её быстро возраст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Работа в Стокгольм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08920" y="0"/>
            <a:ext cx="2035080" cy="3048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83808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В 1888 году Софья Васильевна получает премию Парижской Академии Наук, в 1889 премию Шведской Академии Наук за работу о вращении твёрдого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1240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Но и, находясь на вершине славы, Софья не забывала о Родине. В 1887 году была избрана членом-корресподентом Петербургской Академии Наук. Получив известие об этом Ковалевская воскликнула: «Наконец-то я удостоена чести от дорогого мне Отечества. Наконец-то русская женщина вошла в Академию Наук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4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2027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Литературное творче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5740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Софья Васильевна была наделена и другим даром – даром воображения. Этот бесценный дар проявился у неё в другой области – в области литературного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«Я понимаю, что вас так удивляет, что я могу зараз заниматься и математикой и литературой. Математика – наука, требующая фантазии. Нельзя быть математиком, не будучи в то же время поэтом в душ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оследние годы жи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2120"/>
            <a:ext cx="6553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В мае 1890 года Ковалевская в последний раз приехала в Россию. Своё сорокалетие она встречала очень нервным и больным человеком. Она знала, что страдает болезнью сердца. В конце января 1891 года Софья Васильевна сильно простуженная вернулась в Стокгольм. 10 февраля она скончалась от воспаления лёгк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Её загадочные последние слова: «Слишком много счасть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76960" y="990720"/>
            <a:ext cx="2867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-77" r="30076" b="34828"/>
          <a:stretch/>
        </p:blipFill>
        <p:spPr>
          <a:xfrm>
            <a:off x="6324480" y="914400"/>
            <a:ext cx="2819520" cy="3038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оследние годы жи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600200"/>
            <a:ext cx="60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хоронена Софья Ковалевская в Стокгольме, где русские женщины поставили ей памятник, который был открыт летом 1896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етство Со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523880"/>
            <a:ext cx="60195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Софья родилась 15 января 1850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Мать Елизавета Фёдоровна – дочь почетного члена Петербургской Академии наук – геодезиста Ф.Ф. Шуберта, отец – генерал Василий Васильевич Корвин-Круков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00800" y="838080"/>
            <a:ext cx="244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етство Со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71920" cy="4619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1752480"/>
            <a:ext cx="5257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У Сони была страсть к стихам и чтению книг. Училась девочка с большим жела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В 12 лет Софья была уверена, что станет поэтесс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6668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етство Со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61840"/>
            <a:ext cx="5715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Пришлось ли раз вам безучастно Безраздельно средь толпы гулять И вдруг какой-то песни страстной    Случайно звуки услыхать.               Но вот нежданною волною               Пахнула память прежних лет.          И что-то милое, родное                      В душе откликнулось в ответ.          Казалось вам, что эти звуки              Вы в детстве слышали не раз          Так много счастья, неги, муки            В них вспоминалося для вас.           Спешили вы привычным слухом     Напев знакомый уловить                   Хотелось вам за каждым звуком,       За каждым словом уследить</a:t>
            </a: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752480" y="838080"/>
            <a:ext cx="6553440" cy="6019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етство Со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21932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С математикой, ещё не зная её, Соня соприкоснулась рано. В имении Палибино весь дом отделывали заново. На одну из дестских комнат обоев не хватило и стену покрыли листами лекции математика Остроградского. Эти листы с непонятными формулами привлекали внимание девочки. От долгого и ежедневного разглядывания формул, хотя они были непонятны, запечатлелись у Сони в памя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34340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914400"/>
            <a:ext cx="4952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В 1866 году пятнадцатилетней девочкой Софья начала заниматься высшей математикой у известного преподавателя Александра Николаевича Страннолюбского. В течение двух с половиной лет она усвоила всю арифметику, отлично решала самые трудные зада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етство Со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3048120" cy="225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Учёба за границ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55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Соня хотела поступить в университет, но доступ женщинам во все русские университеты был закрыт. Высшее образование она могла получить только за границей. От лиц, уезжающих за границу, требовался паспорт, получить который девушка могла только с согласия родителей или, вступив в брак. Вот тогда и был заключён фиктивный брак между С.В. Корвин-Круковской и палеонтологом В.О. Ковалевским. Это произошло 15 сентября 1868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66688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Учёба за границ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3733920"/>
            <a:ext cx="2666880" cy="45972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К. Вейерштр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66680"/>
            <a:ext cx="6553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Софья много слышала о Берлинском  профессоре, математике Карле Вейерштрассе, и во что бы то ни стало, решила стать слушательницей его лекций и поехала в Берл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За неполные 4 года Ковалевская  усвоила университетский курс математики, приобрела такую математическую подготовку, что Вейерштрасс немногих своих учеников мог сравнить с ней по математическому образов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Возвращение в Росс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66880" y="685800"/>
            <a:ext cx="3581640" cy="280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1905120"/>
            <a:ext cx="8839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С.В. Ковалевская, получив образование в Германии, решила вернуться на Родину. По словам супругов Ковалевских, их угнетала необходимость находиться в чужой стране, разговаривать не на своём язы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«Это всё равно, как если бы вас, заставили ходить целый день с маской на лице, поэтому всякий раз, когда я возвращаюсь в Россию, мне кажется, что я вернулась из тюрьмы, где держали все мои мысли взапер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8-30T10:51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