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8283-6A5E-4150-88AF-A25753CD71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7701-A7D8-4C4B-8D8A-A0255F6A16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29B8-C28E-4705-84F4-6308859E7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F75-0070-4BC1-8436-602C886C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5A8-2FF2-454B-BDD0-3ACB30A5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F7F-272E-41CE-B6FB-A9D8013A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665-683C-467E-91DD-8AECA94E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BEE-76D6-4AA3-A96E-A20CF4B3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C20-D8D7-48EE-A5AD-DAF8F4A6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E71-1BD9-4538-9DD1-E360D76B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68C-BA68-4159-9987-C89A0C57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0C4-87D2-4033-93FB-6574F03C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D30-4E2D-4B40-AA37-4ABEE876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24E-52B7-42C8-B770-3DBB059B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C47-F93A-436A-9F30-93556D4B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67D2-2ACE-4D42-B0E5-7B6AABAEE85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DF09-A626-4463-8268-925FD10F8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4143240" y="43578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асько Л.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У СОШ №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ород Мончег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урман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ship2"/>
          <p:cNvPicPr/>
          <p:nvPr/>
        </p:nvPicPr>
        <p:blipFill>
          <a:blip r:embed="rId1"/>
          <a:stretch/>
        </p:blipFill>
        <p:spPr>
          <a:xfrm flipH="1">
            <a:off x="7605720" y="1571760"/>
            <a:ext cx="719280" cy="2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hip2"/>
          <p:cNvPicPr/>
          <p:nvPr/>
        </p:nvPicPr>
        <p:blipFill>
          <a:blip r:embed="rId2"/>
          <a:stretch/>
        </p:blipFill>
        <p:spPr>
          <a:xfrm>
            <a:off x="285840" y="4929120"/>
            <a:ext cx="2214360" cy="835200"/>
          </a:xfrm>
          <a:prstGeom prst="rect">
            <a:avLst/>
          </a:prstGeom>
          <a:ln w="0">
            <a:noFill/>
          </a:ln>
        </p:spPr>
      </p:pic>
      <p:pic>
        <p:nvPicPr>
          <p:cNvPr id="51" name="429.mid" descr=""/>
          <p:cNvPicPr/>
          <p:nvPr/>
        </p:nvPicPr>
        <p:blipFill>
          <a:blip r:embed="rId3"/>
          <a:stretch/>
        </p:blipFill>
        <p:spPr>
          <a:xfrm>
            <a:off x="21420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643040" y="1500120"/>
            <a:ext cx="55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мину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 море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-конечная звезда 10"/>
          <p:cNvSpPr/>
          <p:nvPr/>
        </p:nvSpPr>
        <p:spPr>
          <a:xfrm>
            <a:off x="1428840" y="35712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-конечная звезда 12"/>
          <p:cNvSpPr/>
          <p:nvPr/>
        </p:nvSpPr>
        <p:spPr>
          <a:xfrm rot="19151400">
            <a:off x="1374480" y="45828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5" descr="анкруг2.gif"/>
          <p:cNvPicPr/>
          <p:nvPr/>
        </p:nvPicPr>
        <p:blipFill>
          <a:blip r:embed="rId1"/>
          <a:stretch/>
        </p:blipFill>
        <p:spPr>
          <a:xfrm>
            <a:off x="3929040" y="2571840"/>
            <a:ext cx="1314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0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357120" y="42876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бята, чтобы ст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ряком, надо иметь хорошее зре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ерегите зре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D:\Мои документы\Мои рисунки\моряк1.jpg"/>
          <p:cNvPicPr/>
          <p:nvPr/>
        </p:nvPicPr>
        <p:blipFill>
          <a:blip r:embed="rId1"/>
          <a:srcRect l="0" t="0" r="0" b="15233"/>
          <a:stretch/>
        </p:blipFill>
        <p:spPr>
          <a:xfrm>
            <a:off x="2428920" y="4071960"/>
            <a:ext cx="39225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428760" y="19288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инка  с сайт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form sh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н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ив звуковых эффектов композитора Алексея Парк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ttp://parkov3.narod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500040" y="135720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ю «оживил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ship2"/>
          <p:cNvPicPr/>
          <p:nvPr/>
        </p:nvPicPr>
        <p:blipFill>
          <a:blip r:embed="rId1"/>
          <a:stretch/>
        </p:blipFill>
        <p:spPr>
          <a:xfrm>
            <a:off x="285840" y="1428840"/>
            <a:ext cx="11430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08141E-006 C 0.07951 0.00648 0.1592 0.00532 0.23871 0.00786 C 0.31146 0.00231 0.38524 0.01018 0.45816 0.01388 C 0.62777 0.01064 0.52187 0.01203 0.77604 0.01203 E">
                                      <p:cBhvr>
                                        <p:cTn id="409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трелка вправо 3"/>
          <p:cNvSpPr/>
          <p:nvPr/>
        </p:nvSpPr>
        <p:spPr>
          <a:xfrm rot="10800000">
            <a:off x="1714320" y="5572080"/>
            <a:ext cx="1571400" cy="9288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4"/>
          <p:cNvSpPr/>
          <p:nvPr/>
        </p:nvSpPr>
        <p:spPr>
          <a:xfrm>
            <a:off x="7929720" y="357192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5"/>
          <p:cNvSpPr/>
          <p:nvPr/>
        </p:nvSpPr>
        <p:spPr>
          <a:xfrm>
            <a:off x="292896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9"/>
          <p:cNvSpPr/>
          <p:nvPr/>
        </p:nvSpPr>
        <p:spPr>
          <a:xfrm rot="10800000">
            <a:off x="3643200" y="5571720"/>
            <a:ext cx="1500480" cy="8571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право 11"/>
          <p:cNvSpPr/>
          <p:nvPr/>
        </p:nvSpPr>
        <p:spPr>
          <a:xfrm>
            <a:off x="4857840" y="285840"/>
            <a:ext cx="1500120" cy="8571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2"/>
          <p:cNvSpPr/>
          <p:nvPr/>
        </p:nvSpPr>
        <p:spPr>
          <a:xfrm>
            <a:off x="92880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13"/>
          <p:cNvSpPr/>
          <p:nvPr/>
        </p:nvSpPr>
        <p:spPr>
          <a:xfrm rot="5400000">
            <a:off x="7643880" y="5214960"/>
            <a:ext cx="92880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4"/>
          <p:cNvSpPr/>
          <p:nvPr/>
        </p:nvSpPr>
        <p:spPr>
          <a:xfrm>
            <a:off x="7929720" y="157176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5"/>
          <p:cNvSpPr/>
          <p:nvPr/>
        </p:nvSpPr>
        <p:spPr>
          <a:xfrm rot="5400000">
            <a:off x="5786280" y="5214960"/>
            <a:ext cx="928440" cy="15001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16"/>
          <p:cNvSpPr/>
          <p:nvPr/>
        </p:nvSpPr>
        <p:spPr>
          <a:xfrm>
            <a:off x="6929280" y="357120"/>
            <a:ext cx="1500480" cy="785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право 17"/>
          <p:cNvSpPr/>
          <p:nvPr/>
        </p:nvSpPr>
        <p:spPr>
          <a:xfrm rot="16200000">
            <a:off x="249840" y="5107680"/>
            <a:ext cx="1214640" cy="857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18"/>
          <p:cNvSpPr/>
          <p:nvPr/>
        </p:nvSpPr>
        <p:spPr>
          <a:xfrm rot="16200000">
            <a:off x="285840" y="3357360"/>
            <a:ext cx="114300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19"/>
          <p:cNvSpPr/>
          <p:nvPr/>
        </p:nvSpPr>
        <p:spPr>
          <a:xfrm rot="16200000">
            <a:off x="329400" y="171540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20"/>
          <p:cNvSpPr/>
          <p:nvPr/>
        </p:nvSpPr>
        <p:spPr>
          <a:xfrm rot="7260000">
            <a:off x="3111840" y="4137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21"/>
          <p:cNvSpPr/>
          <p:nvPr/>
        </p:nvSpPr>
        <p:spPr>
          <a:xfrm rot="10629000">
            <a:off x="2450880" y="317124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23"/>
          <p:cNvSpPr/>
          <p:nvPr/>
        </p:nvSpPr>
        <p:spPr>
          <a:xfrm rot="14487000">
            <a:off x="3101040" y="220428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право 24"/>
          <p:cNvSpPr/>
          <p:nvPr/>
        </p:nvSpPr>
        <p:spPr>
          <a:xfrm rot="20284800">
            <a:off x="5059440" y="268596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право 25"/>
          <p:cNvSpPr/>
          <p:nvPr/>
        </p:nvSpPr>
        <p:spPr>
          <a:xfrm rot="1240200">
            <a:off x="5126040" y="367812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право 26"/>
          <p:cNvSpPr/>
          <p:nvPr/>
        </p:nvSpPr>
        <p:spPr>
          <a:xfrm rot="17496000">
            <a:off x="4273920" y="2040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право 27"/>
          <p:cNvSpPr/>
          <p:nvPr/>
        </p:nvSpPr>
        <p:spPr>
          <a:xfrm rot="5623800">
            <a:off x="4127760" y="429660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трелка вправо 8"/>
          <p:cNvSpPr/>
          <p:nvPr/>
        </p:nvSpPr>
        <p:spPr>
          <a:xfrm rot="5400000">
            <a:off x="178200" y="4640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9"/>
          <p:cNvSpPr/>
          <p:nvPr/>
        </p:nvSpPr>
        <p:spPr>
          <a:xfrm rot="5400000">
            <a:off x="249480" y="210744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10"/>
          <p:cNvSpPr/>
          <p:nvPr/>
        </p:nvSpPr>
        <p:spPr>
          <a:xfrm rot="5400000">
            <a:off x="321120" y="3750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11"/>
          <p:cNvSpPr/>
          <p:nvPr/>
        </p:nvSpPr>
        <p:spPr>
          <a:xfrm rot="5400000">
            <a:off x="392400" y="54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13"/>
          <p:cNvSpPr/>
          <p:nvPr/>
        </p:nvSpPr>
        <p:spPr>
          <a:xfrm>
            <a:off x="2000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371484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15"/>
          <p:cNvSpPr/>
          <p:nvPr/>
        </p:nvSpPr>
        <p:spPr>
          <a:xfrm>
            <a:off x="5429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16"/>
          <p:cNvSpPr/>
          <p:nvPr/>
        </p:nvSpPr>
        <p:spPr>
          <a:xfrm>
            <a:off x="72867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17"/>
          <p:cNvSpPr/>
          <p:nvPr/>
        </p:nvSpPr>
        <p:spPr>
          <a:xfrm rot="16200000">
            <a:off x="7708320" y="4485240"/>
            <a:ext cx="1285560" cy="9284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19"/>
          <p:cNvSpPr/>
          <p:nvPr/>
        </p:nvSpPr>
        <p:spPr>
          <a:xfrm rot="16200000">
            <a:off x="7607880" y="289332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20"/>
          <p:cNvSpPr/>
          <p:nvPr/>
        </p:nvSpPr>
        <p:spPr>
          <a:xfrm rot="16200000">
            <a:off x="7679520" y="1464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21"/>
          <p:cNvSpPr/>
          <p:nvPr/>
        </p:nvSpPr>
        <p:spPr>
          <a:xfrm rot="10800000">
            <a:off x="7429320" y="21420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22"/>
          <p:cNvSpPr/>
          <p:nvPr/>
        </p:nvSpPr>
        <p:spPr>
          <a:xfrm rot="10800000">
            <a:off x="578628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23"/>
          <p:cNvSpPr/>
          <p:nvPr/>
        </p:nvSpPr>
        <p:spPr>
          <a:xfrm rot="10800000">
            <a:off x="414324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24"/>
          <p:cNvSpPr/>
          <p:nvPr/>
        </p:nvSpPr>
        <p:spPr>
          <a:xfrm rot="10800000">
            <a:off x="200016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2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40"/>
          <p:cNvSpPr/>
          <p:nvPr/>
        </p:nvSpPr>
        <p:spPr>
          <a:xfrm rot="14493000">
            <a:off x="3572640" y="196452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право 41"/>
          <p:cNvSpPr/>
          <p:nvPr/>
        </p:nvSpPr>
        <p:spPr>
          <a:xfrm rot="3006600">
            <a:off x="4912200" y="40406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право 42"/>
          <p:cNvSpPr/>
          <p:nvPr/>
        </p:nvSpPr>
        <p:spPr>
          <a:xfrm rot="11506800">
            <a:off x="2866680" y="27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43"/>
          <p:cNvSpPr/>
          <p:nvPr/>
        </p:nvSpPr>
        <p:spPr>
          <a:xfrm rot="8894400">
            <a:off x="3004920" y="369684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право 44"/>
          <p:cNvSpPr/>
          <p:nvPr/>
        </p:nvSpPr>
        <p:spPr>
          <a:xfrm rot="21213000">
            <a:off x="5405040" y="29988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право 45"/>
          <p:cNvSpPr/>
          <p:nvPr/>
        </p:nvSpPr>
        <p:spPr>
          <a:xfrm rot="6238800">
            <a:off x="3819960" y="42728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право 46"/>
          <p:cNvSpPr/>
          <p:nvPr/>
        </p:nvSpPr>
        <p:spPr>
          <a:xfrm rot="18748200">
            <a:off x="4848840" y="210888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трелка вправо 4"/>
          <p:cNvSpPr/>
          <p:nvPr/>
        </p:nvSpPr>
        <p:spPr>
          <a:xfrm>
            <a:off x="500040" y="285768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5"/>
          <p:cNvSpPr/>
          <p:nvPr/>
        </p:nvSpPr>
        <p:spPr>
          <a:xfrm>
            <a:off x="7143840" y="30002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6"/>
          <p:cNvSpPr/>
          <p:nvPr/>
        </p:nvSpPr>
        <p:spPr>
          <a:xfrm flipH="1">
            <a:off x="7071480" y="4357800"/>
            <a:ext cx="1357560" cy="9284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право 7"/>
          <p:cNvSpPr/>
          <p:nvPr/>
        </p:nvSpPr>
        <p:spPr>
          <a:xfrm flipH="1">
            <a:off x="500040" y="42148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8"/>
          <p:cNvSpPr/>
          <p:nvPr/>
        </p:nvSpPr>
        <p:spPr>
          <a:xfrm flipH="1">
            <a:off x="500040" y="178596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право 9"/>
          <p:cNvSpPr/>
          <p:nvPr/>
        </p:nvSpPr>
        <p:spPr>
          <a:xfrm flipH="1">
            <a:off x="7000200" y="1714680"/>
            <a:ext cx="1428840" cy="9284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500040" y="35712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право 11"/>
          <p:cNvSpPr/>
          <p:nvPr/>
        </p:nvSpPr>
        <p:spPr>
          <a:xfrm>
            <a:off x="7143840" y="42876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право 12"/>
          <p:cNvSpPr/>
          <p:nvPr/>
        </p:nvSpPr>
        <p:spPr>
          <a:xfrm>
            <a:off x="571680" y="5357880"/>
            <a:ext cx="1357200" cy="928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право 13"/>
          <p:cNvSpPr/>
          <p:nvPr/>
        </p:nvSpPr>
        <p:spPr>
          <a:xfrm>
            <a:off x="7143840" y="5500800"/>
            <a:ext cx="1357200" cy="9284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ижний колонтитул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7" descr="AG00180_"/>
          <p:cNvPicPr/>
          <p:nvPr/>
        </p:nvPicPr>
        <p:blipFill>
          <a:blip r:embed="rId1"/>
          <a:stretch/>
        </p:blipFill>
        <p:spPr>
          <a:xfrm>
            <a:off x="3581280" y="2928960"/>
            <a:ext cx="2490840" cy="140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7" descr="AG00180_"/>
          <p:cNvPicPr/>
          <p:nvPr/>
        </p:nvPicPr>
        <p:blipFill>
          <a:blip r:embed="rId2"/>
          <a:stretch/>
        </p:blipFill>
        <p:spPr>
          <a:xfrm>
            <a:off x="2214720" y="2571840"/>
            <a:ext cx="2490480" cy="140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7" descr="AG00180_"/>
          <p:cNvPicPr/>
          <p:nvPr/>
        </p:nvPicPr>
        <p:blipFill>
          <a:blip r:embed="rId3"/>
          <a:stretch/>
        </p:blipFill>
        <p:spPr>
          <a:xfrm flipH="1">
            <a:off x="3929040" y="2071800"/>
            <a:ext cx="28576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моря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3m6"/>
          <p:cNvPicPr/>
          <p:nvPr/>
        </p:nvPicPr>
        <p:blipFill>
          <a:blip r:embed="rId2"/>
          <a:stretch/>
        </p:blipFill>
        <p:spPr>
          <a:xfrm>
            <a:off x="5572080" y="4286160"/>
            <a:ext cx="1224000" cy="18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г8.jpg"/>
          <p:cNvPicPr/>
          <p:nvPr/>
        </p:nvPicPr>
        <p:blipFill>
          <a:blip r:embed="rId1"/>
          <a:stretch/>
        </p:blipFill>
        <p:spPr>
          <a:xfrm>
            <a:off x="5353200" y="1852560"/>
            <a:ext cx="1296720" cy="725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928800" y="385776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смотритесь вниматель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то бы это значи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Овал 3"/>
          <p:cNvSpPr/>
          <p:nvPr/>
        </p:nvSpPr>
        <p:spPr>
          <a:xfrm>
            <a:off x="3786120" y="2571840"/>
            <a:ext cx="1928880" cy="1857240"/>
          </a:xfrm>
          <a:prstGeom prst="ellips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на корабле"/>
          <p:cNvPicPr/>
          <p:nvPr/>
        </p:nvPicPr>
        <p:blipFill>
          <a:blip r:embed="rId1"/>
          <a:stretch/>
        </p:blipFill>
        <p:spPr>
          <a:xfrm>
            <a:off x="285840" y="357192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ship2"/>
          <p:cNvPicPr/>
          <p:nvPr/>
        </p:nvPicPr>
        <p:blipFill>
          <a:blip r:embed="rId2"/>
          <a:stretch/>
        </p:blipFill>
        <p:spPr>
          <a:xfrm flipH="1">
            <a:off x="7838640" y="1428840"/>
            <a:ext cx="1305000" cy="47772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8"/>
          <p:cNvSpPr/>
          <p:nvPr/>
        </p:nvSpPr>
        <p:spPr>
          <a:xfrm>
            <a:off x="3714120" y="1000080"/>
            <a:ext cx="500040" cy="13572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9"/>
          <p:cNvSpPr/>
          <p:nvPr/>
        </p:nvSpPr>
        <p:spPr>
          <a:xfrm flipH="1">
            <a:off x="5000760" y="857160"/>
            <a:ext cx="357120" cy="150012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0"/>
          <p:cNvSpPr/>
          <p:nvPr/>
        </p:nvSpPr>
        <p:spPr>
          <a:xfrm flipV="1">
            <a:off x="1857240" y="3499920"/>
            <a:ext cx="1785960" cy="14292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1"/>
          <p:cNvSpPr/>
          <p:nvPr/>
        </p:nvSpPr>
        <p:spPr>
          <a:xfrm flipH="1">
            <a:off x="5571720" y="1713960"/>
            <a:ext cx="1428840" cy="928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2"/>
          <p:cNvSpPr/>
          <p:nvPr/>
        </p:nvSpPr>
        <p:spPr>
          <a:xfrm flipH="1">
            <a:off x="5929200" y="3071160"/>
            <a:ext cx="1857600" cy="21420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3"/>
          <p:cNvSpPr/>
          <p:nvPr/>
        </p:nvSpPr>
        <p:spPr>
          <a:xfrm flipH="1" flipV="1">
            <a:off x="5929200" y="4000320"/>
            <a:ext cx="1500480" cy="5000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5"/>
          <p:cNvSpPr/>
          <p:nvPr/>
        </p:nvSpPr>
        <p:spPr>
          <a:xfrm flipH="1">
            <a:off x="4000680" y="4572000"/>
            <a:ext cx="452160" cy="107172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6"/>
          <p:cNvSpPr/>
          <p:nvPr/>
        </p:nvSpPr>
        <p:spPr>
          <a:xfrm flipV="1">
            <a:off x="2571840" y="4071960"/>
            <a:ext cx="1143000" cy="64296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7"/>
          <p:cNvSpPr/>
          <p:nvPr/>
        </p:nvSpPr>
        <p:spPr>
          <a:xfrm>
            <a:off x="5428440" y="4429080"/>
            <a:ext cx="785880" cy="107172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32"/>
          <p:cNvSpPr/>
          <p:nvPr/>
        </p:nvSpPr>
        <p:spPr>
          <a:xfrm>
            <a:off x="2571840" y="2000160"/>
            <a:ext cx="1071360" cy="64296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6.75301E-007 C -0.1507 -0.00162 -0.30156 -0.00301 -0.45226 -0.00601 C -0.5757 -0.01179 -0.69913 -0.00809 -0.8224 -0.00809 E">
                                      <p:cBhvr>
                                        <p:cTn id="273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500"/>
                            </p:stCondLst>
                            <p:childTnLst>
                              <p:par>
                                <p:cTn id="2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1500"/>
                            </p:stCondLst>
                            <p:childTnLst>
                              <p:par>
                                <p:cTn id="3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2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571680" y="714240"/>
            <a:ext cx="1785600" cy="1428840"/>
          </a:xfrm>
          <a:prstGeom prst="rect">
            <a:avLst/>
          </a:prstGeom>
          <a:solidFill>
            <a:srgbClr val="8064a2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5"/>
          <p:cNvSpPr/>
          <p:nvPr/>
        </p:nvSpPr>
        <p:spPr>
          <a:xfrm>
            <a:off x="6715080" y="571680"/>
            <a:ext cx="1928880" cy="1571400"/>
          </a:xfrm>
          <a:prstGeom prst="triangle">
            <a:avLst>
              <a:gd name="adj" fmla="val 50000"/>
            </a:avLst>
          </a:prstGeom>
          <a:solidFill>
            <a:srgbClr val="403152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5-конечная звезда 7"/>
          <p:cNvSpPr/>
          <p:nvPr/>
        </p:nvSpPr>
        <p:spPr>
          <a:xfrm>
            <a:off x="3500280" y="2714760"/>
            <a:ext cx="2286000" cy="2000160"/>
          </a:xfrm>
          <a:prstGeom prst="pie">
            <a:avLst/>
          </a:prstGeom>
          <a:solidFill>
            <a:srgbClr val="002060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6858000" y="5000760"/>
            <a:ext cx="1785960" cy="1428480"/>
          </a:xfrm>
          <a:prstGeom prst="rect">
            <a:avLst/>
          </a:prstGeom>
          <a:solidFill>
            <a:srgbClr val="8064a2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Равнобедренный треугольник 9"/>
          <p:cNvSpPr/>
          <p:nvPr/>
        </p:nvSpPr>
        <p:spPr>
          <a:xfrm>
            <a:off x="428760" y="4857840"/>
            <a:ext cx="1928520" cy="1571400"/>
          </a:xfrm>
          <a:prstGeom prst="triangle">
            <a:avLst>
              <a:gd name="adj" fmla="val 50000"/>
            </a:avLst>
          </a:prstGeom>
          <a:solidFill>
            <a:srgbClr val="403152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-конечная звезда 16"/>
          <p:cNvSpPr/>
          <p:nvPr/>
        </p:nvSpPr>
        <p:spPr>
          <a:xfrm rot="20359200">
            <a:off x="366840" y="958680"/>
            <a:ext cx="2214360" cy="2143440"/>
          </a:xfrm>
          <a:custGeom>
            <a:avLst/>
            <a:gdLst>
              <a:gd name="textAreaLeft" fmla="*/ 912240 w 2214360"/>
              <a:gd name="textAreaRight" fmla="*/ 1302120 w 2214360"/>
              <a:gd name="textAreaTop" fmla="*/ 883080 h 2143440"/>
              <a:gd name="textAreaBottom" fmla="*/ 1260360 h 214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4-конечная звезда 17"/>
          <p:cNvSpPr/>
          <p:nvPr/>
        </p:nvSpPr>
        <p:spPr>
          <a:xfrm rot="1902600">
            <a:off x="6256080" y="1065240"/>
            <a:ext cx="2214360" cy="2143080"/>
          </a:xfrm>
          <a:custGeom>
            <a:avLst/>
            <a:gdLst>
              <a:gd name="textAreaLeft" fmla="*/ 912240 w 2214360"/>
              <a:gd name="textAreaRight" fmla="*/ 1302120 w 221436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4-конечная звезда 18"/>
          <p:cNvSpPr/>
          <p:nvPr/>
        </p:nvSpPr>
        <p:spPr>
          <a:xfrm rot="1770600">
            <a:off x="6241680" y="4308480"/>
            <a:ext cx="2214720" cy="2143080"/>
          </a:xfrm>
          <a:custGeom>
            <a:avLst/>
            <a:gdLst>
              <a:gd name="textAreaLeft" fmla="*/ 912600 w 2214720"/>
              <a:gd name="textAreaRight" fmla="*/ 1302120 w 221472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4-конечная звезда 19"/>
          <p:cNvSpPr/>
          <p:nvPr/>
        </p:nvSpPr>
        <p:spPr>
          <a:xfrm rot="19874400">
            <a:off x="236520" y="4314600"/>
            <a:ext cx="2214720" cy="2143080"/>
          </a:xfrm>
          <a:custGeom>
            <a:avLst/>
            <a:gdLst>
              <a:gd name="textAreaLeft" fmla="*/ 912600 w 2214720"/>
              <a:gd name="textAreaRight" fmla="*/ 1302120 w 221472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-конечная звезда 20"/>
          <p:cNvSpPr/>
          <p:nvPr/>
        </p:nvSpPr>
        <p:spPr>
          <a:xfrm>
            <a:off x="3214800" y="2786040"/>
            <a:ext cx="2214360" cy="2143080"/>
          </a:xfrm>
          <a:custGeom>
            <a:avLst/>
            <a:gdLst>
              <a:gd name="textAreaLeft" fmla="*/ 952200 w 2214360"/>
              <a:gd name="textAreaRight" fmla="*/ 1262160 w 2214360"/>
              <a:gd name="textAreaTop" fmla="*/ 921240 h 2143080"/>
              <a:gd name="textAreaBottom" fmla="*/ 12218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87" y="9287"/>
                </a:lnTo>
                <a:lnTo>
                  <a:pt x="10800" y="0"/>
                </a:lnTo>
                <a:lnTo>
                  <a:pt x="12313" y="9287"/>
                </a:lnTo>
                <a:lnTo>
                  <a:pt x="21600" y="10800"/>
                </a:lnTo>
                <a:lnTo>
                  <a:pt x="12313" y="12313"/>
                </a:lnTo>
                <a:lnTo>
                  <a:pt x="10800" y="21600"/>
                </a:lnTo>
                <a:lnTo>
                  <a:pt x="9287" y="12313"/>
                </a:lnTo>
                <a:lnTo>
                  <a:pt x="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39593E-006 C 0.00643 -0.00277 0.01008 -0.00925 0.01633 -0.01179 C 0.02258 -0.02451 0.03212 -0.037 0.04324 -0.04163 C 0.04914 -0.04671 0.05278 -0.05273 0.05973 -0.0555 C 0.06667 -0.06545 0.07744 -0.06753 0.08647 -0.07354 C 0.09324 -0.07794 0.08924 -0.07701 0.09549 -0.08349 C 0.10192 -0.09019 0.11025 -0.09597 0.11789 -0.09921 C 0.12431 -0.10823 0.13594 -0.1191 0.1448 -0.12326 C 0.15331 -0.1346 0.14897 -0.13182 0.1566 -0.13506 C 0.16268 -0.14269 0.16893 -0.1487 0.17605 -0.15495 C 0.18525 -0.16281 0.1849 -0.16952 0.19688 -0.17299 C 0.2014 -0.17692 0.21094 -0.18293 0.21494 -0.18871 C 0.21598 -0.1901 0.21667 -0.19195 0.21789 -0.19287 C 0.22049 -0.19496 0.22379 -0.19542 0.22674 -0.19681 C 0.23126 -0.20236 0.23438 -0.20236 0.24028 -0.20467 C 0.24844 -0.20791 0.25938 -0.21138 0.26719 -0.2167 C 0.26876 -0.21785 0.27015 -0.21924 0.27153 -0.22063 C 0.2731 -0.22248 0.27414 -0.22525 0.27605 -0.22664 C 0.27969 -0.22942 0.28681 -0.2308 0.29098 -0.23242 C 0.30001 -0.24075 0.31199 -0.24422 0.3224 -0.24838 C 0.32379 -0.24977 0.32674 -0.25231 0.32674 -0.25231 E">
                                      <p:cBhvr>
                                        <p:cTn id="38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716E-006 C -0.06632 -0.02729 -0.00295000000000001 -0.00185 -0.19861 0.00208 C -0.34392 0.00509 -0.48906 0.00208 -0.63438 0.00208 E">
                                      <p:cBhvr>
                                        <p:cTn id="38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2858E-006 C 0.00556 0.00278 0.00608 0.00763 0.01181 0.00995 C 0.01702 0.02012 0.02431 0.02937 0.03282 0.034 C 0.03959 0.04579 0.03942 0.04001 0.04775 0.04787 C 0.05504 0.05481 0.05973 0.06591 0.06858 0.06961 C 0.07119 0.07193 0.07327 0.0754 0.07605 0.07771 C 0.07744 0.07886 0.07917 0.07863 0.08056 0.07956 C 0.08473 0.08256 0.08855 0.08603 0.09254 0.0895 C 0.09914 0.09505 0.10469 0.1013 0.11181 0.10546 C 0.11702 0.10847 0.12292 0.11101 0.1283 0.11332 C 0.13126 0.11471 0.13733 0.11749 0.13733 0.11749 C 0.14306 0.12304 0.14723 0.12442 0.15365 0.12743 C 0.15903 0.13252 0.16372 0.13668 0.17015 0.13923 C 0.17987 0.14778 0.19167 0.15079 0.2014 0.15911 C 0.20903 0.16559 0.21824 0.17183 0.22535 0.179 C 0.2323 0.18571 0.23803 0.19334 0.24619 0.19681 C 0.25122 0.20398 0.25695 0.20699 0.26268 0.21277 C 0.26528 0.21531 0.26737 0.21855 0.27015 0.22086 C 0.2724 0.22271 0.27518 0.22318 0.27761 0.22479 C 0.28021 0.22641 0.28265 0.22873 0.28508 0.23081 C 0.28837 0.23358 0.29063 0.23798 0.29393 0.24075 C 0.29532 0.24191 0.29705 0.24191 0.29844 0.2426 C 0.30053 0.24376 0.30244 0.24491 0.30435 0.24653 C 0.30955 0.25116 0.31303 0.25763 0.31928 0.26064 C 0.32692 0.27012 0.31754 0.25948 0.32674 0.26642 C 0.33403 0.27197 0.33855 0.27614 0.34619 0.28053 C 0.35105 0.2833 0.36112 0.28839 0.36112 0.28839 C 0.36876 0.29811 0.37761 0.30088 0.38646 0.30828 C 0.40313 0.32239 0.39028 0.31476 0.40435 0.32216 C 0.41216 0.33187 0.42205 0.33742 0.43126 0.34413 C 0.4481 0.35639 0.46355 0.37211 0.48212 0.37974 C 0.48872 0.38899 0.48091 0.37951 0.48942 0.38576 C 0.49324 0.38876 0.50035 0.3957 0.50435 0.39963 C 0.50695 0.40218 0.51337 0.40379 0.51337 0.40379 C 0.52258 0.41258 0.52344 0.41328 0.53282 0.41767 C 0.53803 0.42461 0.54046 0.42715 0.54775 0.42947 C 0.55209 0.43571 0.55973 0.43941 0.56563 0.44334 C 0.57171 0.4519 0.5816 0.45398 0.58942 0.4593 C 0.59462 0.46277 0.59879 0.46693 0.60435 0.46924 C 0.60591 0.47063 0.60712 0.47225 0.60886 0.47318 C 0.61077 0.47433 0.61303 0.4741 0.61494 0.47526 C 0.63126 0.48636 0.61268 0.4778 0.62535 0.48312 C 0.63056 0.49029 0.62969 0.49029 0.64028 0.49515 C 0.64185 0.49584 0.6448 0.49723 0.6448 0.49723 E">
                                      <p:cBhvr>
                                        <p:cTn id="38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83071E-006 C -0.12136 -0.05597 -0.38507 -0.0081 -0.38507 -0.0081 C -0.47674 -0.01827 -0.56198 -0.01596 -0.65677 -0.01596 E">
                                      <p:cBhvr>
                                        <p:cTn id="39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2.63645E-006 C 0.00313 -0.00047 0.01424 -0.0007 0.01928 -0.00393 C 0.03351 -0.01318 0.04445 -0.02891 0.05973 -0.03585 C 0.06615 -0.04834 0.07709 -0.05389 0.08646 -0.06152 C 0.09115 -0.06522 0.09879 -0.07493 0.10435 -0.07748 C 0.11077 -0.08048 0.11633 -0.08557 0.1224 -0.0895 C 0.1382 -0.09991 0.15886 -0.11032 0.17605 -0.11726 C 0.18195 -0.12234 0.18872 -0.12697 0.19549 -0.12928 C 0.20556 -0.1383 0.21841 -0.14778 0.22987 -0.1531 C 0.24185 -0.16536 0.25764 -0.16883 0.27153 -0.17692 C 0.28264 -0.1834 0.29289 -0.19126 0.30435 -0.19681 C 0.31146 -0.2056 0.32258 -0.20282 0.33126 -0.20884 E">
                                      <p:cBhvr>
                                        <p:cTn id="39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20:54:01Z</dcterms:created>
  <dc:creator>Масько Л.Г.</dc:creator>
  <dc:description/>
  <dc:language>en-US</dc:language>
  <cp:lastModifiedBy>Масько Л.Г.</cp:lastModifiedBy>
  <dcterms:modified xsi:type="dcterms:W3CDTF">2007-12-06T19:13:45Z</dcterms:modified>
  <cp:revision>67</cp:revision>
  <dc:subject/>
  <dc:title>Слайд 1</dc:title>
</cp:coreProperties>
</file>