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EF7-3EF8-4237-B65F-E9B9083A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0CB-0C3A-4924-862A-C9D885F4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E73-2E01-4504-ABE3-0BADE588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858-9005-4B7A-A617-6408F2D7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D1EC-C175-4FDF-9141-5389F075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AB0B-C76A-4C8C-93F9-09E04DC2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1361-65E6-492D-A968-CC3EBF3B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5ACD-324A-4951-BC21-8D70071F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19AC-E54A-41FA-AB13-1797514F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DF53-26DB-43D3-AF4F-99F17320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4DB0-AC16-437E-8846-3321946E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12F-77E3-481C-A313-B34130BE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6575-3CE6-4FC5-B9FD-47C613BD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666D-667B-4FC8-91D3-83F10456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BCA4-1B69-4196-854E-9BDCDE94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38AF-ADB1-4DEB-92A4-7F25611D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6085-2FE1-44AB-A870-5873E744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6E8-A554-41E7-9FC5-842EFCD5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189-571D-4C0F-9FEF-ADAF10FE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BCD-6FB8-4E1F-8BE9-0FE72498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B22-AA7F-48E1-9018-D8AB9E31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1B5-5844-4F44-BF03-BC4D2B30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BDD-919A-45FF-835F-38A28175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145-6B47-42B5-9EA2-B1E6FA0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88FA-1CBD-425F-89E5-35712D77BF5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486F-C6BD-479D-92DE-B6C78023620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fc0c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f6fc0c"/>
                </a:solidFill>
                <a:latin typeface="Arial Black"/>
              </a:rPr>
              <a:t>Этика учите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fc0c"/>
                </a:solidFill>
                <a:latin typeface="Arial Black"/>
              </a:rPr>
              <a:t>          </a:t>
            </a:r>
            <a:r>
              <a:rPr b="0" lang="en-US" sz="3200" spc="-1" strike="noStrike">
                <a:solidFill>
                  <a:srgbClr val="f6fc0c"/>
                </a:solidFill>
                <a:latin typeface="Arial Black"/>
              </a:rPr>
              <a:t>Педагогический сове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fc0c"/>
                </a:solidFill>
                <a:latin typeface="Arial Black"/>
              </a:rPr>
              <a:t>Личностные отношения в педагогическом процессе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6fc0c"/>
                </a:solidFill>
                <a:latin typeface="Arial Black"/>
              </a:rPr>
              <a:t>Учитель – учени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6fc0c"/>
                </a:solidFill>
                <a:latin typeface="Arial Black"/>
              </a:rPr>
              <a:t>Учитель – учител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6fc0c"/>
                </a:solidFill>
                <a:latin typeface="Arial Black"/>
              </a:rPr>
              <a:t>Учитель – родител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6fc0c"/>
                </a:solidFill>
                <a:latin typeface="Arial Black"/>
              </a:rPr>
              <a:t>Учитель – администрац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6fc0c"/>
                </a:solidFill>
                <a:latin typeface="Arial Black"/>
              </a:rPr>
              <a:t>Учитель - социум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6fc0c"/>
                </a:solidFill>
                <a:latin typeface="Arial Black"/>
              </a:rPr>
              <a:t>Аристотель: «Воспитание – это дело государственной важности»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6fc0c"/>
                </a:solidFill>
                <a:latin typeface="Arial Black"/>
              </a:rPr>
              <a:t>М.Квинтилиан: «Учение должно быть для него забавно; надо поощрять его то просьбами, то похвалами, доводить его до того, чтобы он радовался, когда что-нибудь выучит, и завидовал, когда станут учить другого, если сам вздумает полениться»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c0c"/>
                </a:solidFill>
                <a:latin typeface="Arial Black"/>
              </a:rPr>
              <a:t>Я.А.Каменский: «Никто не может сделать людей мудрыми, кроме мудрого, никто красноречивым, кроме красноречивого, никто нравственным и благочестивым, исключая нравственного и благочестивого…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c0c"/>
                </a:solidFill>
                <a:latin typeface="Arial Black"/>
              </a:rPr>
              <a:t>Д.Локк (об учителе): «…в учебном процессе нужно опираться на любознательность и самостоятельность ребенка… таким способом можно сберечь в нем охоту к предстоящим занятиям… Его собственное поведение не должно расходиться с его предписаниями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6fc0c"/>
                </a:solidFill>
                <a:latin typeface="Arial Black"/>
              </a:rPr>
              <a:t>И.Г.Песталоцци: Важным условием успешной воспитательной работы считал правильные взаимоотношения учителя и родителе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6fc0c"/>
                </a:solidFill>
                <a:latin typeface="Arial Black"/>
              </a:rPr>
              <a:t>Ф.А.Дистерверг: «Учитель должен всегда работать над собой, никогда не останавливаться… Повсюду ценность школы равняется ценности учител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fc0c"/>
                </a:solidFill>
                <a:latin typeface="Arial Black"/>
              </a:rPr>
              <a:t>Н.А.Добролюбов: «…не ребенок для учителя, а учитель для ребенк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fc0c"/>
                </a:solidFill>
                <a:latin typeface="Arial Black"/>
              </a:rPr>
              <a:t>К.Д.Ушинский : «…если учитель не может внушить ни уважения к себе, ни любви к себе, то пусть лучше оставит дело воспитани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fc0c"/>
                </a:solidFill>
                <a:latin typeface="Arial Black"/>
              </a:rPr>
              <a:t>Л.Н.Толстой: «Если учитель имеет только любовь к делу, он будет хороший учитель. Если учитель имеет только любовь к ученику, как отец, как мать, он будет лучше того учителя, который прочел все книги, но не имеет ни любви к делу, ни к ученикам. Если учитель соединяет в себе и любовь к делу, и к ученикам, он совершенный учител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fc0c"/>
                </a:solidFill>
                <a:latin typeface="Arial Black"/>
              </a:rPr>
              <a:t>В.А.Сухомлинский: «Учитель должен стать другом ребенка, проникнуться его  интересами, переживать его радости и тревоги, забыв о том, что он учитель… И тогда ребенок откроется перед ним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fc0c"/>
                </a:solidFill>
                <a:latin typeface="Arial Black"/>
              </a:rPr>
              <a:t>Компоненты педагогического труд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fc0c"/>
                </a:solidFill>
                <a:latin typeface="Arial Black"/>
              </a:rPr>
              <a:t>Труд как целесообразная деятельност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fc0c"/>
                </a:solidFill>
                <a:latin typeface="Arial Black"/>
              </a:rPr>
              <a:t>Предмет труд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fc0c"/>
                </a:solidFill>
                <a:latin typeface="Arial Black"/>
              </a:rPr>
              <a:t>Средства труд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c0c"/>
                </a:solidFill>
                <a:latin typeface="Arial Black"/>
              </a:rPr>
              <a:t>Цель педагогического процесса определяет не только его организацию, но и методы обучения, и всю систему отношений в нем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c0c"/>
                </a:solidFill>
                <a:latin typeface="Arial Black"/>
              </a:rPr>
              <a:t>Особенность педагогического труда – он сначала и до конца – процесс взаимодействия людей: предмет труда - человек, орудие труда - человек, продукт труда – челове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c0c"/>
                </a:solidFill>
                <a:latin typeface="Arial Black"/>
              </a:rPr>
              <a:t>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8:37:49Z</dcterms:created>
  <dc:creator>Dire</dc:creator>
  <dc:description/>
  <dc:language>en-US</dc:language>
  <cp:lastModifiedBy>Dire</cp:lastModifiedBy>
  <dcterms:modified xsi:type="dcterms:W3CDTF">2005-11-25T13:01:20Z</dcterms:modified>
  <cp:revision>19</cp:revision>
  <dc:subject/>
  <dc:title>Этика учителя</dc:title>
</cp:coreProperties>
</file>