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83.png" ContentType="image/png"/>
  <Override PartName="/ppt/media/image58.png" ContentType="image/png"/>
  <Override PartName="/ppt/media/image56.png" ContentType="image/png"/>
  <Override PartName="/ppt/media/image40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44.png" ContentType="image/png"/>
  <Override PartName="/ppt/media/image37.png" ContentType="image/png"/>
  <Override PartName="/ppt/media/image32.png" ContentType="image/png"/>
  <Override PartName="/ppt/media/image9.png" ContentType="image/png"/>
  <Override PartName="/ppt/media/image86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16.png" ContentType="image/png"/>
  <Override PartName="/ppt/media/image81.png" ContentType="image/png"/>
  <Override PartName="/ppt/media/image39.jpeg" ContentType="image/jpeg"/>
  <Override PartName="/ppt/media/image5.png" ContentType="image/png"/>
  <Override PartName="/ppt/media/image82.png" ContentType="image/png"/>
  <Override PartName="/ppt/media/image38.png" ContentType="image/png"/>
  <Override PartName="/ppt/media/image8.png" ContentType="image/png"/>
  <Override PartName="/ppt/media/image102.jpeg" ContentType="image/jpeg"/>
  <Override PartName="/ppt/media/image6.jpeg" ContentType="image/jpeg"/>
  <Override PartName="/ppt/media/image71.png" ContentType="image/png"/>
  <Override PartName="/ppt/media/image47.png" ContentType="image/png"/>
  <Override PartName="/ppt/media/image35.jpeg" ContentType="image/jpeg"/>
  <Override PartName="/ppt/media/image97.png" ContentType="image/png"/>
  <Override PartName="/ppt/media/image60.png" ContentType="image/png"/>
  <Override PartName="/ppt/media/image66.png" ContentType="image/png"/>
  <Override PartName="/ppt/media/image67.png" ContentType="image/png"/>
  <Override PartName="/ppt/media/image28.wmf" ContentType="image/x-wmf"/>
  <Override PartName="/ppt/media/image30.png" ContentType="image/png"/>
  <Override PartName="/ppt/media/image68.png" ContentType="image/png"/>
  <Override PartName="/ppt/media/image29.wmf" ContentType="image/x-wmf"/>
  <Override PartName="/ppt/media/image70.png" ContentType="image/png"/>
  <Override PartName="/ppt/media/image72.png" ContentType="image/png"/>
  <Override PartName="/ppt/media/image74.png" ContentType="image/png"/>
  <Override PartName="/ppt/media/image63.jpeg" ContentType="image/jpeg"/>
  <Override PartName="/ppt/media/image94.png" ContentType="image/png"/>
  <Override PartName="/ppt/media/image75.png" ContentType="image/png"/>
  <Override PartName="/ppt/media/image101.jpeg" ContentType="image/jpeg"/>
  <Override PartName="/ppt/media/image93.png" ContentType="image/png"/>
  <Override PartName="/ppt/media/image14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96.png" ContentType="image/png"/>
  <Override PartName="/ppt/media/image84.png" ContentType="image/png"/>
  <Override PartName="/ppt/media/image17.jpeg" ContentType="image/jpeg"/>
  <Override PartName="/ppt/media/image95.png" ContentType="image/png"/>
  <Override PartName="/ppt/media/image92.png" ContentType="image/png"/>
  <Override PartName="/ppt/media/image91.png" ContentType="image/png"/>
  <Override PartName="/ppt/media/image89.png" ContentType="image/png"/>
  <Override PartName="/ppt/media/image85.jpeg" ContentType="image/jpeg"/>
  <Override PartName="/ppt/media/image88.png" ContentType="image/png"/>
  <Override PartName="/ppt/media/image69.png" ContentType="image/png"/>
  <Override PartName="/ppt/media/image26.wmf" ContentType="image/x-wmf"/>
  <Override PartName="/ppt/media/image22.png" ContentType="image/png"/>
  <Override PartName="/ppt/media/image80.jpeg" ContentType="image/jpeg"/>
  <Override PartName="/ppt/media/image65.png" ContentType="image/png"/>
  <Override PartName="/ppt/media/image100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90.png" ContentType="image/png"/>
  <Override PartName="/ppt/media/image73.jpeg" ContentType="image/jpeg"/>
  <Override PartName="/ppt/media/image24.png" ContentType="image/png"/>
  <Override PartName="/ppt/media/image27.wmf" ContentType="image/x-wmf"/>
  <Override PartName="/ppt/media/image11.jpeg" ContentType="image/jpeg"/>
  <Override PartName="/ppt/media/image31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36.jpeg" ContentType="image/jpeg"/>
  <Override PartName="/ppt/media/image1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BCAC-82D6-469F-9314-A194FF8435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A72E-1025-4DFE-B162-C46540195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8B2-1DA7-4A6D-8B12-1CD09C05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CBA-1D59-4816-BAC2-D8C0183B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61D-A365-4CDE-8B41-D13877F5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157-6866-4CD9-8C95-F74B7BBF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36B9-C84E-434B-BCCC-0567E188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F9B9-F758-4ABB-9A7B-0B648978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CED6-E5C9-4BC6-B68C-30886086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ACA5-02F3-4F1F-8154-34D8E65D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7527-7A98-4E0B-A19B-4BA834CB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6BB8-3BB9-4ACF-975A-7D42BB26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42E3-DA7C-4A8B-A992-778C1335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E4D-503C-4354-81A4-DA876C0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5989-A6D5-44F7-AA44-84866D9B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E242-9D7F-4B19-BF1C-6E2559D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1349-AB0C-4E70-85ED-81D199E1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FD59-17F0-42FB-B5F3-08811541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21E4-65F7-46A8-975A-D91258C1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8775-DCBC-4AC1-87CE-B706CAC3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772B-F74A-4A7A-A58C-2F2D888C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86B8-E12A-4703-8419-042AD2CD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238F-F78F-4AB7-ABE0-86184DF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43FF-7166-481F-ACA1-D16D3DC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142-B39D-4DB5-A70F-ACBC76F3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EAFB-6AB5-4E91-9725-7CB25146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496F-BBFD-4B96-83C3-B5A4F603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9935-20E1-45F1-8031-97B978F5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8FF6-FCE3-4156-A82B-2CE2A6A4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72F1-A762-4DE3-B022-7E86A5FF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A5BA3-8F22-4921-B194-3AE2CBD8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D4EA-9F09-437D-847B-5B60664C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5708D-66FB-45D2-A2EB-CDFF15FA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59494-4546-46F0-B675-BD0506F5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EDBF-273F-4C78-B359-1C2D805B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62E-26B4-4A34-BA64-3EDF15CA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E47E6-7F75-4763-94B2-4C86164E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7A454-3FAF-4743-9EA4-8B821123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F447-A075-4B72-843A-AD17BF4A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CDE1-F3C9-4337-9484-B045324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5EE7A-F39C-468F-87F9-9CB36BE3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2A33E-0204-480E-84BB-9244898D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A706-BBC4-47D4-B767-6178DA9D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6C25-9099-45DE-BB75-CCD6BAE7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6F107-28B3-4333-865D-55CD7E2B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4C56-8180-4541-B58F-AC73D024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7D6-6E0C-4A89-9435-EFAB6FE3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04F32-E5A6-41E0-84C7-CC8B908D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7DEA-977E-4728-9BDE-225CD165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4137-0EC1-4701-927B-C6152DF3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51A4-29D0-4372-B985-432470BF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0948-447E-4092-BA74-FC778A8D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8F375-5293-45BC-92E1-8EEA71F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637D-5B32-45AD-8EB6-66FBA84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FEF4C-7AD7-43D3-830E-E0EE4EE4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6BE9-0671-47C9-80CA-45DAE15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4C9DF-5180-4C9E-94AD-F00BAADC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7F0-5180-4E56-B099-3658832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44C9-B58D-47CA-8586-ED61B523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01AF-DCBC-473E-8AB5-C0FC4EE1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668B-203D-40D5-9223-005924FD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85D3-B737-42A8-999B-6F8A6ADB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E02C0-7210-40A0-A5BE-CC02543B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2243A-6A80-400F-B177-D902DA64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DA088-C812-440A-B774-32AADD4A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F51A-1BEB-4F90-BB44-36FA0E6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88D10-8C1C-468B-80DF-0DF035EC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457BA-966B-4C71-B0EC-60D42A18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905-0C63-46A2-852F-03E86AA3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A29F3-E51D-4AA2-9B97-346FE3AA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F0D12-43AF-46BF-8AE6-C8264190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8CAF6-EF98-446F-89DE-79543F1B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D35A6-C984-4704-BBC7-2E9A4104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B5F91-DD89-4552-BF0E-844BE6B0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CE54-BA15-427D-8788-8BFB8278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A3280-96DD-43A1-B37B-5B0F4AB3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C2B92-3AB9-4DC2-806E-EC1DC64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53B66-4E4F-41B3-A4F6-9A69658D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1121-F418-4790-854F-FC1A8072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6DF-114E-4816-B94F-EC76B46B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5460-7F23-4E60-8119-1A223D8A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4A66A-FA33-41CC-A2CE-B162901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12704-1429-48EF-A21F-AE38CADB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1FE7E-DBA1-4865-BFF8-2EE1D403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DFE82-C7A6-4F40-B655-67844A01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72C-E133-42A7-ACD3-D23081B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EFB0-829B-489E-AB48-85D659A400EF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000A-1EF6-4D30-AB46-E8ECC430CA8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1EEA-2271-4244-B6C1-2D985B6F1611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d2d2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d2d2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d2d2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d2d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6449-19F6-4800-BB07-DEB6E3240A49}" type="slidenum">
              <a:rPr b="0" lang="ru-RU" sz="1100" spc="-1" strike="noStrike">
                <a:solidFill>
                  <a:srgbClr val="d2d2d2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3B9E-5ECD-4E9F-BF70-14C62709347B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647-0EC1-475D-BDA5-E6FE904A4249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5B7A-ABC7-4D6A-943A-6883DAFFAB03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yro.narod.ru/bibliotheca/gen/KOVAL/polibino1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yro.narod.ru/bibliotheca/gen/KOVAL/korw-kru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5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9.png"/><Relationship Id="rId13" Type="http://schemas.openxmlformats.org/officeDocument/2006/relationships/image" Target="../media/image51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248000" y="378000"/>
            <a:ext cx="4743720" cy="3060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716000" y="5157720"/>
            <a:ext cx="396900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rebuchet MS"/>
              </a:rPr>
              <a:t>11 ЕТ класс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rebuchet MS"/>
              </a:rPr>
              <a:t>МБОУ «Гимназия» им. С.В.Ковалевской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rebuchet MS"/>
              </a:rPr>
              <a:t>2013г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7" name="Picture 2" descr="C:\Users\1234\Desktop\архив\оформление\шаблоны презентаций\Школьные фоны\Новая папка (2)\1 фон (1).jpg"/>
          <p:cNvPicPr/>
          <p:nvPr/>
        </p:nvPicPr>
        <p:blipFill>
          <a:blip r:embed="rId2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Sofja_Wassiljewna_Kowalewskaja_1"/>
          <p:cNvPicPr/>
          <p:nvPr/>
        </p:nvPicPr>
        <p:blipFill>
          <a:blip r:embed="rId3"/>
          <a:stretch/>
        </p:blipFill>
        <p:spPr>
          <a:xfrm>
            <a:off x="611280" y="981000"/>
            <a:ext cx="39020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382240" cy="8654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0036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на прожила короткую, но яркую жизнь. Много ей довелось пережить: научную славу и литературное признание, сомнение и неуверенность, недовольство собой и одиночеств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9" name="Picture 5" descr="koval"/>
          <p:cNvPicPr/>
          <p:nvPr/>
        </p:nvPicPr>
        <p:blipFill>
          <a:blip r:embed="rId2"/>
          <a:stretch/>
        </p:blipFill>
        <p:spPr>
          <a:xfrm>
            <a:off x="395280" y="1341360"/>
            <a:ext cx="3313080" cy="4535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koval"/>
          <p:cNvPicPr/>
          <p:nvPr/>
        </p:nvPicPr>
        <p:blipFill>
          <a:blip r:embed="rId3"/>
          <a:stretch/>
        </p:blipFill>
        <p:spPr>
          <a:xfrm>
            <a:off x="395280" y="1197000"/>
            <a:ext cx="34574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395280" y="2997360"/>
          <a:ext cx="7272360" cy="1584000"/>
        </p:xfrm>
        <a:graphic>
          <a:graphicData uri="http://schemas.openxmlformats.org/drawingml/2006/table">
            <a:tbl>
              <a:tblPr/>
              <a:tblGrid>
                <a:gridCol w="1198440"/>
                <a:gridCol w="1398600"/>
                <a:gridCol w="1133640"/>
                <a:gridCol w="2012760"/>
                <a:gridCol w="1528920"/>
              </a:tblGrid>
              <a:tr h="79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g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Object 9"/>
          <p:cNvGraphicFramePr/>
          <p:nvPr/>
        </p:nvGraphicFramePr>
        <p:xfrm>
          <a:off x="1763640" y="3141720"/>
          <a:ext cx="106524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141720"/>
                    <a:ext cx="10652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8"/>
          <p:cNvGraphicFramePr/>
          <p:nvPr/>
        </p:nvGraphicFramePr>
        <p:xfrm>
          <a:off x="3203640" y="3068640"/>
          <a:ext cx="676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068640"/>
                    <a:ext cx="676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7"/>
          <p:cNvGraphicFramePr/>
          <p:nvPr/>
        </p:nvGraphicFramePr>
        <p:xfrm>
          <a:off x="4211640" y="3068640"/>
          <a:ext cx="16905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3068640"/>
                    <a:ext cx="16905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6"/>
          <p:cNvGraphicFramePr/>
          <p:nvPr/>
        </p:nvGraphicFramePr>
        <p:xfrm>
          <a:off x="6227640" y="3213000"/>
          <a:ext cx="12369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7640" y="3213000"/>
                    <a:ext cx="1236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 txBox="1"/>
          <p:nvPr/>
        </p:nvSpPr>
        <p:spPr>
          <a:xfrm>
            <a:off x="611280" y="549360"/>
            <a:ext cx="72388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Ада Августа Лавлейс       1100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Софи Жермен                  1010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Екатерина Дашкова          011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Софья Ковалевская         101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395280" y="0"/>
                <a:ext cx="3189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3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"/>
          <p:cNvPicPr/>
          <p:nvPr/>
        </p:nvPicPr>
        <p:blipFill>
          <a:blip r:embed="rId3"/>
          <a:stretch/>
        </p:blipFill>
        <p:spPr>
          <a:xfrm>
            <a:off x="4140360" y="2349360"/>
            <a:ext cx="4066920" cy="412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66" name="Прямоугольник 6" descr=""/>
          <p:cNvPicPr/>
          <p:nvPr/>
        </p:nvPicPr>
        <p:blipFill>
          <a:blip r:embed="rId4"/>
          <a:stretch/>
        </p:blipFill>
        <p:spPr>
          <a:xfrm>
            <a:off x="390600" y="1371600"/>
            <a:ext cx="6607080" cy="111600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7" descr=""/>
          <p:cNvPicPr/>
          <p:nvPr/>
        </p:nvPicPr>
        <p:blipFill>
          <a:blip r:embed="rId5"/>
          <a:stretch/>
        </p:blipFill>
        <p:spPr>
          <a:xfrm>
            <a:off x="4322880" y="231840"/>
            <a:ext cx="1492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856      -    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850       -   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852       -   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числите значение выраж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5735880" cy="1152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4481640" y="4525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6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7" descr=""/>
          <p:cNvPicPr/>
          <p:nvPr/>
        </p:nvPicPr>
        <p:blipFill>
          <a:blip r:embed="rId3"/>
          <a:stretch/>
        </p:blipFill>
        <p:spPr>
          <a:xfrm>
            <a:off x="179280" y="4869000"/>
            <a:ext cx="78519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4" descr=""/>
          <p:cNvPicPr/>
          <p:nvPr/>
        </p:nvPicPr>
        <p:blipFill>
          <a:blip r:embed="rId1"/>
          <a:stretch/>
        </p:blipFill>
        <p:spPr>
          <a:xfrm>
            <a:off x="2090880" y="255600"/>
            <a:ext cx="5181480" cy="853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i_005"/>
          <p:cNvPicPr/>
          <p:nvPr/>
        </p:nvPicPr>
        <p:blipFill>
          <a:blip r:embed="rId2"/>
          <a:stretch/>
        </p:blipFill>
        <p:spPr>
          <a:xfrm>
            <a:off x="324000" y="1413000"/>
            <a:ext cx="3111480" cy="439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i_004"/>
          <p:cNvPicPr/>
          <p:nvPr/>
        </p:nvPicPr>
        <p:blipFill>
          <a:blip r:embed="rId3"/>
          <a:stretch/>
        </p:blipFill>
        <p:spPr>
          <a:xfrm>
            <a:off x="5508720" y="1341360"/>
            <a:ext cx="3281400" cy="44625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9"/>
          <p:cNvSpPr/>
          <p:nvPr/>
        </p:nvSpPr>
        <p:spPr>
          <a:xfrm>
            <a:off x="3419640" y="1628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3492360" y="1341360"/>
            <a:ext cx="208764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Василий Васильевич Корвин-Круковский-отец, генерал-лейтенант артилл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Елизавета Федоровна(в девичестве Шуберт)- мать Соф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719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125000"/>
            <a:ext cx="7283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тец С. В. генерал – лейтенант артиллерии  Василий Васильевич Корвин – Круковский вышел в отставку и уехал с семьей из Москвы в свое родовое поместье, которое находилось на границе с Литвой. Сейчас – это Псковская земля. Красота имения была необычной: вокруг его на сотни километров простирались леса, богатые ягодами, грибами, зайцами, птицами и барсуками. Большой господский дом стоял на пригорке. Два флигеля, трехъярусная башня, увенчанная шпилем, балконы, фонари, веранды украшали дом. С одной стороны к усадьбе примыкал матовый бор, с другой – дубовая роща, дом был окружен садом с беседками, утопающими в сирени и жасмине, а с северной стороны зарастал травами большой пруд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1" name="Object 2"/>
              <p:cNvSpPr txBox="1"/>
              <p:nvPr/>
            </p:nvSpPr>
            <p:spPr>
              <a:xfrm>
                <a:off x="395280" y="0"/>
                <a:ext cx="3189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2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image"/>
          <p:cNvPicPr/>
          <p:nvPr/>
        </p:nvPicPr>
        <p:blipFill>
          <a:blip r:embed="rId3"/>
          <a:stretch/>
        </p:blipFill>
        <p:spPr>
          <a:xfrm>
            <a:off x="4140360" y="2349360"/>
            <a:ext cx="4066920" cy="412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95" name="Прямоугольник 6" descr=""/>
          <p:cNvPicPr/>
          <p:nvPr/>
        </p:nvPicPr>
        <p:blipFill>
          <a:blip r:embed="rId4"/>
          <a:stretch/>
        </p:blipFill>
        <p:spPr>
          <a:xfrm>
            <a:off x="390600" y="1371600"/>
            <a:ext cx="6607080" cy="111600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7" descr=""/>
          <p:cNvPicPr/>
          <p:nvPr/>
        </p:nvPicPr>
        <p:blipFill>
          <a:blip r:embed="rId5"/>
          <a:stretch/>
        </p:blipFill>
        <p:spPr>
          <a:xfrm>
            <a:off x="4175280" y="231840"/>
            <a:ext cx="14936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Balthazar"/>
              </a:rPr>
              <a:t>Родовое имение Корвин - Круковских и гер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8" name="Picture 4" descr="polibino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81000"/>
            <a:ext cx="523404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99" name="Rectangle 6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http://yro.narod.ru/bibliotheca/gen/KOVAL/korw-kru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2852640"/>
            <a:ext cx="3816360" cy="379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7467480" cy="6588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68360" y="836280"/>
            <a:ext cx="7416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арелин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Ливонов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либино    Марьи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) Если длины сторон треугольника равны        ,      ,       , то треугольник прямоугольны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) Если длины сторон треугольника равны              ,             ,       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 то треугольник тупоугольны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) Если длины сторон треугольника равны             ,              ,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то треугольник остроугольны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) Не существует треугольника, длины сторон которого равны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                  ,                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27240" cy="360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285840" cy="314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4"/>
          <a:stretch/>
        </p:blipFill>
        <p:spPr>
          <a:xfrm>
            <a:off x="6300720" y="1844640"/>
            <a:ext cx="285840" cy="304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2" descr=""/>
          <p:cNvPicPr/>
          <p:nvPr/>
        </p:nvPicPr>
        <p:blipFill>
          <a:blip r:embed="rId5"/>
          <a:stretch/>
        </p:blipFill>
        <p:spPr>
          <a:xfrm>
            <a:off x="5364000" y="2492280"/>
            <a:ext cx="590760" cy="362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"/>
          <p:cNvPicPr/>
          <p:nvPr/>
        </p:nvPicPr>
        <p:blipFill>
          <a:blip r:embed="rId6"/>
          <a:stretch/>
        </p:blipFill>
        <p:spPr>
          <a:xfrm>
            <a:off x="539640" y="2852640"/>
            <a:ext cx="1285920" cy="209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2" descr=""/>
          <p:cNvPicPr/>
          <p:nvPr/>
        </p:nvPicPr>
        <p:blipFill>
          <a:blip r:embed="rId7"/>
          <a:stretch/>
        </p:blipFill>
        <p:spPr>
          <a:xfrm>
            <a:off x="6300720" y="2492280"/>
            <a:ext cx="590760" cy="3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8" descr=""/>
          <p:cNvPicPr/>
          <p:nvPr/>
        </p:nvPicPr>
        <p:blipFill>
          <a:blip r:embed="rId8"/>
          <a:stretch/>
        </p:blipFill>
        <p:spPr>
          <a:xfrm>
            <a:off x="5219640" y="3213000"/>
            <a:ext cx="714600" cy="676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7" descr=""/>
          <p:cNvPicPr/>
          <p:nvPr/>
        </p:nvPicPr>
        <p:blipFill>
          <a:blip r:embed="rId9"/>
          <a:stretch/>
        </p:blipFill>
        <p:spPr>
          <a:xfrm>
            <a:off x="6084720" y="3500280"/>
            <a:ext cx="743040" cy="3621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"/>
          <p:cNvPicPr/>
          <p:nvPr/>
        </p:nvPicPr>
        <p:blipFill>
          <a:blip r:embed="rId10"/>
          <a:stretch/>
        </p:blipFill>
        <p:spPr>
          <a:xfrm>
            <a:off x="684360" y="386064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0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1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5" descr=""/>
          <p:cNvPicPr/>
          <p:nvPr/>
        </p:nvPicPr>
        <p:blipFill>
          <a:blip r:embed="rId11"/>
          <a:stretch/>
        </p:blipFill>
        <p:spPr>
          <a:xfrm>
            <a:off x="611280" y="4869000"/>
            <a:ext cx="742680" cy="361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4" descr=""/>
          <p:cNvPicPr/>
          <p:nvPr/>
        </p:nvPicPr>
        <p:blipFill>
          <a:blip r:embed="rId12"/>
          <a:stretch/>
        </p:blipFill>
        <p:spPr>
          <a:xfrm>
            <a:off x="1547640" y="4797360"/>
            <a:ext cx="1181160" cy="5238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3" descr=""/>
          <p:cNvPicPr/>
          <p:nvPr/>
        </p:nvPicPr>
        <p:blipFill>
          <a:blip r:embed="rId13"/>
          <a:stretch/>
        </p:blipFill>
        <p:spPr>
          <a:xfrm>
            <a:off x="3059280" y="4941720"/>
            <a:ext cx="809280" cy="3146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7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8"/>
          <p:cNvSpPr/>
          <p:nvPr/>
        </p:nvSpPr>
        <p:spPr>
          <a:xfrm>
            <a:off x="0" y="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9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img-koval3a"/>
          <p:cNvPicPr/>
          <p:nvPr/>
        </p:nvPicPr>
        <p:blipFill>
          <a:blip r:embed="rId1"/>
          <a:stretch/>
        </p:blipFill>
        <p:spPr>
          <a:xfrm>
            <a:off x="2050920" y="2205000"/>
            <a:ext cx="6013440" cy="4503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img-koval2a"/>
          <p:cNvPicPr/>
          <p:nvPr/>
        </p:nvPicPr>
        <p:blipFill>
          <a:blip r:embed="rId2"/>
          <a:stretch/>
        </p:blipFill>
        <p:spPr>
          <a:xfrm>
            <a:off x="250920" y="0"/>
            <a:ext cx="464508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780000" y="907920"/>
            <a:ext cx="39160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4003f"/>
                </a:solidFill>
                <a:latin typeface="Trebuchet MS"/>
              </a:rPr>
              <a:t>Я чувствую, что предназначена служить истине – науке и прокладывать новый путь женщинам, потому что это значит – служить справедлив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4003f"/>
                </a:solidFill>
                <a:latin typeface="Trebuchet MS"/>
              </a:rPr>
              <a:t>       </a:t>
            </a:r>
            <a:r>
              <a:rPr b="1" lang="ru-RU" sz="2600" spc="-1" strike="noStrike">
                <a:solidFill>
                  <a:srgbClr val="34003f"/>
                </a:solidFill>
                <a:latin typeface="Trebuchet MS"/>
              </a:rPr>
              <a:t>С.В.Ковалевск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076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62080" y="255600"/>
            <a:ext cx="7480080" cy="1609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23625896"/>
          <p:cNvPicPr/>
          <p:nvPr/>
        </p:nvPicPr>
        <p:blipFill>
          <a:blip r:embed="rId2"/>
          <a:stretch/>
        </p:blipFill>
        <p:spPr>
          <a:xfrm>
            <a:off x="395280" y="2060640"/>
            <a:ext cx="3898800" cy="3384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oval"/>
          <p:cNvPicPr/>
          <p:nvPr/>
        </p:nvPicPr>
        <p:blipFill>
          <a:blip r:embed="rId3"/>
          <a:stretch/>
        </p:blipFill>
        <p:spPr>
          <a:xfrm>
            <a:off x="4140360" y="2421000"/>
            <a:ext cx="3241440" cy="40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395280" y="0"/>
                <a:ext cx="3189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image"/>
          <p:cNvPicPr/>
          <p:nvPr/>
        </p:nvPicPr>
        <p:blipFill>
          <a:blip r:embed="rId3"/>
          <a:stretch/>
        </p:blipFill>
        <p:spPr>
          <a:xfrm>
            <a:off x="4140360" y="2349360"/>
            <a:ext cx="4066920" cy="412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9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40" name="Прямоугольник 6" descr=""/>
          <p:cNvPicPr/>
          <p:nvPr/>
        </p:nvPicPr>
        <p:blipFill>
          <a:blip r:embed="rId4"/>
          <a:stretch/>
        </p:blipFill>
        <p:spPr>
          <a:xfrm>
            <a:off x="390600" y="1371600"/>
            <a:ext cx="6607080" cy="111600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7" descr=""/>
          <p:cNvPicPr/>
          <p:nvPr/>
        </p:nvPicPr>
        <p:blipFill>
          <a:blip r:embed="rId5"/>
          <a:stretch/>
        </p:blipFill>
        <p:spPr>
          <a:xfrm>
            <a:off x="4102200" y="231840"/>
            <a:ext cx="14936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4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i_002"/>
          <p:cNvPicPr/>
          <p:nvPr/>
        </p:nvPicPr>
        <p:blipFill>
          <a:blip r:embed="rId2"/>
          <a:stretch/>
        </p:blipFill>
        <p:spPr>
          <a:xfrm>
            <a:off x="2484360" y="1484280"/>
            <a:ext cx="316728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простите формулу, вычислите значение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rebuchet MS"/>
              </a:rPr>
              <a:t>1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и полученное число сопоставьте с числами 10, 12,14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алевич - 14, Булевич  -  12, Рашевский –10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7488360" cy="7189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225360" y="189000"/>
            <a:ext cx="8467920" cy="1238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i_002"/>
          <p:cNvPicPr/>
          <p:nvPr/>
        </p:nvPicPr>
        <p:blipFill>
          <a:blip r:embed="rId2"/>
          <a:stretch/>
        </p:blipFill>
        <p:spPr>
          <a:xfrm>
            <a:off x="2484360" y="1484280"/>
            <a:ext cx="316728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719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981000"/>
            <a:ext cx="7283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Это был талантливый педагог. К своему труду относился с увлечением, любил детей и к каждому из них находил особый подход. Он был убежден в том, что обязанностью домашнего учителя является воспитания трудолюбия, развитие познавательных способностей детей. Он считал, что русский язык – важнейший из предметов, ибо занятие русским языком развивает мышлении и дар речи. Соня писала под диктовку учителя, излагала самостоятельно устно и письменно свои мысли, училась декламировать, читала произведение русских авторов, статьи критиков. До десяти с половиной лет Соня изучала арифметику. Впоследствии она считала, что именно изучение арифметики дало ей основу математических знаний. На уроках истории учитель и ученицы читали открытки из трудов Карамзина, Соловьева, журнальные статьи. Играя  в  «путешествия», Соня знакомилась с окружающей природой. Ее интересовало все – маленькие ручейки и большие озера, земля в цветнике или в саду ,булыжники и драгоценные камни, домашние животные и  дикие звери. «Путешествия» с учителем,  Соня побывала в «европейских столицах, посетила и осмотрела музеи, библиотеки, ученые общества, университетские лекции» - все о чем Малевич рассказывал, он все видел и пережил сам. С первых уроков Малевич увидел в Соне очень внимательную и трудолюбивую ученицу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780000" y="907560"/>
            <a:ext cx="40320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i="1" lang="ru-RU" sz="2600" spc="-1" strike="noStrike">
                <a:solidFill>
                  <a:srgbClr val="333300"/>
                </a:solidFill>
                <a:latin typeface="Trebuchet MS"/>
              </a:rPr>
              <a:t>«Математика привлекала меня больше философскую своей стороною и всегда представлялась мне наукой, открывающий совершено новые горизонты»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Trebuchet MS"/>
              </a:rPr>
              <a:t>                                          </a:t>
            </a:r>
            <a:r>
              <a:rPr b="0" i="1" lang="ru-RU" sz="2600" spc="-1" strike="noStrike">
                <a:solidFill>
                  <a:srgbClr val="333300"/>
                </a:solidFill>
                <a:latin typeface="Trebuchet MS"/>
              </a:rPr>
              <a:t>С.В.Ковалевска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4" name="Picture 7" descr="Софья Ковалевская: математическая единица"/>
          <p:cNvPicPr/>
          <p:nvPr/>
        </p:nvPicPr>
        <p:blipFill>
          <a:blip r:embed="rId1"/>
          <a:stretch/>
        </p:blipFill>
        <p:spPr>
          <a:xfrm>
            <a:off x="324000" y="404640"/>
            <a:ext cx="3402000" cy="525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1619280" y="1628640"/>
                <a:ext cx="254160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7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0" descr="image"/>
          <p:cNvPicPr/>
          <p:nvPr/>
        </p:nvPicPr>
        <p:blipFill>
          <a:blip r:embed="rId3"/>
          <a:stretch/>
        </p:blipFill>
        <p:spPr>
          <a:xfrm>
            <a:off x="4211640" y="2276640"/>
            <a:ext cx="4067280" cy="41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60" name="Прямоугольник 6" descr=""/>
          <p:cNvPicPr/>
          <p:nvPr/>
        </p:nvPicPr>
        <p:blipFill>
          <a:blip r:embed="rId4"/>
          <a:stretch/>
        </p:blipFill>
        <p:spPr>
          <a:xfrm>
            <a:off x="963720" y="652320"/>
            <a:ext cx="6613560" cy="111600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7" descr=""/>
          <p:cNvPicPr/>
          <p:nvPr/>
        </p:nvPicPr>
        <p:blipFill>
          <a:blip r:embed="rId5"/>
          <a:stretch/>
        </p:blipFill>
        <p:spPr>
          <a:xfrm>
            <a:off x="-73080" y="665280"/>
            <a:ext cx="1494000" cy="110304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оугольник 8" descr=""/>
          <p:cNvPicPr/>
          <p:nvPr/>
        </p:nvPicPr>
        <p:blipFill>
          <a:blip r:embed="rId6"/>
          <a:stretch/>
        </p:blipFill>
        <p:spPr>
          <a:xfrm>
            <a:off x="92160" y="-171360"/>
            <a:ext cx="73198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610920" y="404280"/>
            <a:ext cx="6985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мя знаменитого русского учёного – математика,  лекциями которого были обклеены стены детской комнаты Сон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ждому имени соответствует функция.  Имени автора лекций соответствует функция, не являющаяся решением  уравнения                .  Методом подстановки определите, какая из пяти функций не является решением данного уравн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10920" y="3357720"/>
            <a:ext cx="708804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.Л.Чебышев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.Я Буняковский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.И.Сомов      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.В.Остроградский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.Н.Коркин   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981000" cy="3078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8" descr=""/>
          <p:cNvPicPr/>
          <p:nvPr/>
        </p:nvPicPr>
        <p:blipFill>
          <a:blip r:embed="rId2"/>
          <a:stretch/>
        </p:blipFill>
        <p:spPr>
          <a:xfrm>
            <a:off x="3635280" y="3500280"/>
            <a:ext cx="1008000" cy="311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936720" cy="333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4"/>
          <a:stretch/>
        </p:blipFill>
        <p:spPr>
          <a:xfrm>
            <a:off x="3524400" y="4508640"/>
            <a:ext cx="1839600" cy="331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5"/>
          <a:stretch/>
        </p:blipFill>
        <p:spPr>
          <a:xfrm>
            <a:off x="4211640" y="5013360"/>
            <a:ext cx="1081080" cy="299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6"/>
          <a:stretch/>
        </p:blipFill>
        <p:spPr>
          <a:xfrm>
            <a:off x="3995640" y="5516640"/>
            <a:ext cx="1990800" cy="3348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3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pic"/>
          <p:cNvPicPr/>
          <p:nvPr/>
        </p:nvPicPr>
        <p:blipFill>
          <a:blip r:embed="rId1"/>
          <a:stretch/>
        </p:blipFill>
        <p:spPr>
          <a:xfrm>
            <a:off x="4067280" y="333360"/>
            <a:ext cx="4762440" cy="635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0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59688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4"/>
          <p:cNvSpPr/>
          <p:nvPr/>
        </p:nvSpPr>
        <p:spPr>
          <a:xfrm>
            <a:off x="900000" y="1197000"/>
            <a:ext cx="29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Остроградский Михаил Васи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6840" y="1052640"/>
            <a:ext cx="6994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34003f"/>
                </a:solidFill>
                <a:latin typeface="Trebuchet MS"/>
              </a:rPr>
              <a:t>Какими были великие ученые? В какое время они жили? Как к ним относились современники? Когда и как увлеклись наукой? Какие открытия совершили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4003f"/>
                </a:solidFill>
                <a:latin typeface="Trebuchet MS"/>
              </a:rPr>
              <a:t>Ответы на эти и другие вопросы, связанные с их жизнью и творчеством , вы сможете получить сегодня на нашем уроке не в готовом виде, а в результате выполнения заданий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2951280" cy="13096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3" name="Object 2"/>
              <p:cNvSpPr txBox="1"/>
              <p:nvPr/>
            </p:nvSpPr>
            <p:spPr>
              <a:xfrm>
                <a:off x="395280" y="0"/>
                <a:ext cx="3189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4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image"/>
          <p:cNvPicPr/>
          <p:nvPr/>
        </p:nvPicPr>
        <p:blipFill>
          <a:blip r:embed="rId3"/>
          <a:stretch/>
        </p:blipFill>
        <p:spPr>
          <a:xfrm>
            <a:off x="4140360" y="2349360"/>
            <a:ext cx="4066920" cy="412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87" name="Прямоугольник 6" descr=""/>
          <p:cNvPicPr/>
          <p:nvPr/>
        </p:nvPicPr>
        <p:blipFill>
          <a:blip r:embed="rId4"/>
          <a:stretch/>
        </p:blipFill>
        <p:spPr>
          <a:xfrm>
            <a:off x="390600" y="1371600"/>
            <a:ext cx="6607080" cy="1116000"/>
          </a:xfrm>
          <a:prstGeom prst="rect">
            <a:avLst/>
          </a:prstGeom>
          <a:ln w="0">
            <a:noFill/>
          </a:ln>
        </p:spPr>
      </p:pic>
      <p:pic>
        <p:nvPicPr>
          <p:cNvPr id="488" name="Прямоугольник 7" descr=""/>
          <p:cNvPicPr/>
          <p:nvPr/>
        </p:nvPicPr>
        <p:blipFill>
          <a:blip r:embed="rId5"/>
          <a:stretch/>
        </p:blipFill>
        <p:spPr>
          <a:xfrm>
            <a:off x="4102200" y="304920"/>
            <a:ext cx="14936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610920" y="404280"/>
            <a:ext cx="6985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мя знаменитого русского учёного – математика,  к которому Соня вместе со старшей сестрой ездила в Петербург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ждому имени соответствует функция.  Имени учителя соответствует функция,  являющаяся решением  уравнен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0920" y="3357720"/>
            <a:ext cx="708804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.В.Остроградск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.Я.Буняковск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.Н.Страннолюбск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2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3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4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3780000" y="2421000"/>
            <a:ext cx="1674720" cy="36036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6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1224000" cy="430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3"/>
          <a:stretch/>
        </p:blipFill>
        <p:spPr>
          <a:xfrm>
            <a:off x="4427640" y="4005360"/>
            <a:ext cx="1008000" cy="3952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4"/>
          <a:stretch/>
        </p:blipFill>
        <p:spPr>
          <a:xfrm>
            <a:off x="4932360" y="4556160"/>
            <a:ext cx="1079640" cy="37944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2" descr="Stranolubskiy"/>
          <p:cNvPicPr/>
          <p:nvPr/>
        </p:nvPicPr>
        <p:blipFill>
          <a:blip r:embed="rId5"/>
          <a:stretch/>
        </p:blipFill>
        <p:spPr>
          <a:xfrm>
            <a:off x="6310440" y="2743200"/>
            <a:ext cx="22939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5731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907560"/>
            <a:ext cx="7283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лександр Николаевич Страннолюбский родился на Камчатке в семье начальника области. Окончил Петербургский Морской кадетский корпус. Он мог бы сделать блестящую карьеру но судьба распорядилась так, что он стал учителем в бесплатной школе на Васильевском острове. После закрытия школы А. Н.  поступил в Морскую академию. Всю своего жизнь Страннолюбский отдавал силы знания,  любовь и время преподаванию в различных Женских курсах в кружках. 14 лет он был бессменным секретарем комитета, доставлявшего средства высшим женским курс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имел возможности получить высшее образовании в России. С.В. выходит замуж за молодого ученого – биолога Владимира Онуфриевичем Ковалевского и выезжает в Германию. В те годы женщин не допускали в  университет, особенно на математический факультет. С.В. была настолько настойчива и целеустремленна,  что добилась того, чтобы один из крупнейших математиков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столетия проэкзаменовал ее на право быть его ученице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3" name="Object 2"/>
              <p:cNvSpPr txBox="1"/>
              <p:nvPr/>
            </p:nvSpPr>
            <p:spPr>
              <a:xfrm>
                <a:off x="395280" y="0"/>
                <a:ext cx="3189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4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image"/>
          <p:cNvPicPr/>
          <p:nvPr/>
        </p:nvPicPr>
        <p:blipFill>
          <a:blip r:embed="rId3"/>
          <a:stretch/>
        </p:blipFill>
        <p:spPr>
          <a:xfrm>
            <a:off x="4140360" y="2349360"/>
            <a:ext cx="4066920" cy="412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17" name="Прямоугольник 6" descr=""/>
          <p:cNvPicPr/>
          <p:nvPr/>
        </p:nvPicPr>
        <p:blipFill>
          <a:blip r:embed="rId4"/>
          <a:stretch/>
        </p:blipFill>
        <p:spPr>
          <a:xfrm>
            <a:off x="390600" y="1371600"/>
            <a:ext cx="6607080" cy="1116000"/>
          </a:xfrm>
          <a:prstGeom prst="rect">
            <a:avLst/>
          </a:prstGeom>
          <a:ln w="0">
            <a:noFill/>
          </a:ln>
        </p:spPr>
      </p:pic>
      <p:pic>
        <p:nvPicPr>
          <p:cNvPr id="518" name="Прямоугольник 7" descr=""/>
          <p:cNvPicPr/>
          <p:nvPr/>
        </p:nvPicPr>
        <p:blipFill>
          <a:blip r:embed="rId5"/>
          <a:stretch/>
        </p:blipFill>
        <p:spPr>
          <a:xfrm>
            <a:off x="4175280" y="304920"/>
            <a:ext cx="14936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14360" y="66600"/>
            <a:ext cx="7370640" cy="17748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68000" y="4508280"/>
            <a:ext cx="771516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йдите наименьшие значение функции У= |С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5х) |+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95280" y="1989000"/>
          <a:ext cx="7488360" cy="197172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152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авид Гильбер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л Вейерштрас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еликс Клей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6" descr=""/>
          <p:cNvPicPr/>
          <p:nvPr/>
        </p:nvPicPr>
        <p:blipFill>
          <a:blip r:embed="rId1"/>
          <a:stretch/>
        </p:blipFill>
        <p:spPr>
          <a:xfrm>
            <a:off x="79200" y="-396720"/>
            <a:ext cx="8479080" cy="11588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pic"/>
          <p:cNvPicPr/>
          <p:nvPr/>
        </p:nvPicPr>
        <p:blipFill>
          <a:blip r:embed="rId2"/>
          <a:stretch/>
        </p:blipFill>
        <p:spPr>
          <a:xfrm>
            <a:off x="826920" y="162864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3780000" y="764640"/>
            <a:ext cx="4619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 настоянию отца К. Вейерштрассе 4 года изучал в Бонии юридические науки, а затем оставил их, на 2 года перешел в Мюнстерскую академию и занялся математикой у профессора Гудермана ученика знаменитого Карла Якоби. 14 лет Вейерштрассе был учителем гимназии в Мюнстере и других городах Германии, по 30 часов в неделю отдавал урокам физики, математики, химии, естествознании и даже гимнастики и невзирая на такой многочасовой труд, продолжал  изучать математику выбирал самые трудные ее разделы. Имя К. Вейерштрасса стало известно в научных кругах Германии, и его пригласили на должность профессора в Берлинский университет, а  затем избрали членом Берлинской академии нау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5" name="Picture 4" descr="pic"/>
          <p:cNvPicPr/>
          <p:nvPr/>
        </p:nvPicPr>
        <p:blipFill>
          <a:blip r:embed="rId3"/>
          <a:stretch/>
        </p:blipFill>
        <p:spPr>
          <a:xfrm>
            <a:off x="395280" y="1052640"/>
            <a:ext cx="3548160" cy="47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692280"/>
            <a:ext cx="7354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Женщин в Берлинский университет не допускали. Сам К. Вейерштрассе считал, что в университете, особенно на математическом факультете женщинам учиться нельзя. Ковалевская была настолько настойчива, что она добилась того, чтобы К. Вейерштрасс проэкзаменовал ее на право быть его частной ученицей. К. Вейерштрасс не верил в математические способности женщин и поэтому, чтобы освободиться от назойливой посетительницы, предложил ей для проверки знаний труднейшие задачи и пригласил ее прийти через неделю. Профессор был убежден в том, что иностранка больше не появиться , так как задания его вряд ли будет выполнено. Каково же было его удивление, когда через неделю С.В. посетила кабинет ученого и сообщила, что задачи решены. К. Вейерштрасс согласился давать способной ученице частные уроки. Он был доволен ученицей, говорил о ее значительных математических успехах, называл ее замечательной женщино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 Берлине С. Ковалевская прошла школу и начала писать работы в которых исследовали важнейшие математические вопрос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395280" y="0"/>
                <a:ext cx="3189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9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0" descr="image"/>
          <p:cNvPicPr/>
          <p:nvPr/>
        </p:nvPicPr>
        <p:blipFill>
          <a:blip r:embed="rId3"/>
          <a:stretch/>
        </p:blipFill>
        <p:spPr>
          <a:xfrm>
            <a:off x="4140360" y="2349360"/>
            <a:ext cx="4066920" cy="412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32" name="Прямоугольник 6" descr=""/>
          <p:cNvPicPr/>
          <p:nvPr/>
        </p:nvPicPr>
        <p:blipFill>
          <a:blip r:embed="rId4"/>
          <a:stretch/>
        </p:blipFill>
        <p:spPr>
          <a:xfrm>
            <a:off x="390600" y="1371600"/>
            <a:ext cx="6607080" cy="1116000"/>
          </a:xfrm>
          <a:prstGeom prst="rect">
            <a:avLst/>
          </a:prstGeom>
          <a:ln w="0">
            <a:noFill/>
          </a:ln>
        </p:spPr>
      </p:pic>
      <p:pic>
        <p:nvPicPr>
          <p:cNvPr id="533" name="Прямоугольник 7" descr=""/>
          <p:cNvPicPr/>
          <p:nvPr/>
        </p:nvPicPr>
        <p:blipFill>
          <a:blip r:embed="rId5"/>
          <a:stretch/>
        </p:blipFill>
        <p:spPr>
          <a:xfrm>
            <a:off x="4248000" y="378000"/>
            <a:ext cx="14940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1"/>
          <a:stretch/>
        </p:blipFill>
        <p:spPr>
          <a:xfrm>
            <a:off x="360360" y="281160"/>
            <a:ext cx="7345440" cy="11872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04360" y="1655280"/>
            <a:ext cx="7705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таблице записаны возможные временные промежут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йдите произведение всех корней уравн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684360" y="2706840"/>
          <a:ext cx="7343640" cy="1761840"/>
        </p:xfrm>
        <a:graphic>
          <a:graphicData uri="http://schemas.openxmlformats.org/drawingml/2006/table">
            <a:tbl>
              <a:tblPr/>
              <a:tblGrid>
                <a:gridCol w="2447640"/>
                <a:gridCol w="2664000"/>
                <a:gridCol w="22320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72 – 18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73 – 18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74 - 18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7" name="Рисунок 13" descr="image2420"/>
          <p:cNvPicPr/>
          <p:nvPr/>
        </p:nvPicPr>
        <p:blipFill>
          <a:blip r:embed="rId2"/>
          <a:stretch/>
        </p:blipFill>
        <p:spPr>
          <a:xfrm>
            <a:off x="1908000" y="5805360"/>
            <a:ext cx="4608720" cy="60336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20"/>
          <p:cNvSpPr/>
          <p:nvPr/>
        </p:nvSpPr>
        <p:spPr>
          <a:xfrm>
            <a:off x="4438800" y="57096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Rectangle 2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9320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бота Ковалевской вызвала восхищение ученых в Парижской Академии наук установили, что аналогичное сочинение, но более частного характера еще ранее Ковалевской написал знаменитый ученый Огюстен Коши. Теорему, которую доказала С.В.К. стали называть « теоремой Коши Ковалевской». Они вошли во все курсы математического  анализа. В своем исследовании С.В. придала теореме более совершенную по точности, строгости форму, чем это было сделано у Кош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нчились для Софьи недолгие ученические годы. Перед ее отъездом на родину К. Вейерштрасс написал в Геттингенский университет прошение о присуждении Ковалевской докторской степени без защиты диссертации. По ходатайству К. Вейерштрасса в Геттингенском университеет С.В. Ковалевской заочно была присуждена ученая степень доктора философии с «наивысшей похвалой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95280" y="0"/>
                <a:ext cx="3189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7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image"/>
          <p:cNvPicPr/>
          <p:nvPr/>
        </p:nvPicPr>
        <p:blipFill>
          <a:blip r:embed="rId3"/>
          <a:stretch/>
        </p:blipFill>
        <p:spPr>
          <a:xfrm>
            <a:off x="4140360" y="2349360"/>
            <a:ext cx="4066920" cy="412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30" name="Прямоугольник 6" descr=""/>
          <p:cNvPicPr/>
          <p:nvPr/>
        </p:nvPicPr>
        <p:blipFill>
          <a:blip r:embed="rId4"/>
          <a:stretch/>
        </p:blipFill>
        <p:spPr>
          <a:xfrm>
            <a:off x="390600" y="1371600"/>
            <a:ext cx="6607080" cy="111600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7" descr=""/>
          <p:cNvPicPr/>
          <p:nvPr/>
        </p:nvPicPr>
        <p:blipFill>
          <a:blip r:embed="rId5"/>
          <a:stretch/>
        </p:blipFill>
        <p:spPr>
          <a:xfrm>
            <a:off x="4754520" y="85680"/>
            <a:ext cx="1494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2" name="Object 2"/>
              <p:cNvSpPr txBox="1"/>
              <p:nvPr/>
            </p:nvSpPr>
            <p:spPr>
              <a:xfrm>
                <a:off x="395280" y="0"/>
                <a:ext cx="3189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3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image"/>
          <p:cNvPicPr/>
          <p:nvPr/>
        </p:nvPicPr>
        <p:blipFill>
          <a:blip r:embed="rId3"/>
          <a:stretch/>
        </p:blipFill>
        <p:spPr>
          <a:xfrm>
            <a:off x="4140360" y="2349360"/>
            <a:ext cx="4066920" cy="412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46" name="Прямоугольник 6" descr=""/>
          <p:cNvPicPr/>
          <p:nvPr/>
        </p:nvPicPr>
        <p:blipFill>
          <a:blip r:embed="rId4"/>
          <a:stretch/>
        </p:blipFill>
        <p:spPr>
          <a:xfrm>
            <a:off x="390600" y="1371600"/>
            <a:ext cx="6607080" cy="1116000"/>
          </a:xfrm>
          <a:prstGeom prst="rect">
            <a:avLst/>
          </a:prstGeom>
          <a:ln w="0">
            <a:noFill/>
          </a:ln>
        </p:spPr>
      </p:pic>
      <p:pic>
        <p:nvPicPr>
          <p:cNvPr id="547" name="Прямоугольник 7" descr=""/>
          <p:cNvPicPr/>
          <p:nvPr/>
        </p:nvPicPr>
        <p:blipFill>
          <a:blip r:embed="rId5"/>
          <a:stretch/>
        </p:blipFill>
        <p:spPr>
          <a:xfrm>
            <a:off x="4248000" y="378000"/>
            <a:ext cx="14940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424640" cy="12002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3860280"/>
            <a:ext cx="829152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значение  функци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у =(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n </a:t>
            </a:r>
            <a:r>
              <a:rPr b="1" lang="el-GR" sz="3600" spc="-1" strike="noStrike">
                <a:solidFill>
                  <a:srgbClr val="000000"/>
                </a:solidFill>
                <a:latin typeface="Trebuchet MS"/>
                <a:ea typeface="Arial"/>
              </a:rPr>
              <a:t>π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/2х)/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on </a:t>
            </a:r>
            <a:r>
              <a:rPr b="1" lang="el-GR" sz="3600" spc="-1" strike="noStrike">
                <a:solidFill>
                  <a:srgbClr val="000000"/>
                </a:solidFill>
                <a:latin typeface="Trebuchet MS"/>
                <a:ea typeface="Arial"/>
              </a:rPr>
              <a:t>π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/2х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) при х = 2 соответствует этому году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84360" y="1600200"/>
          <a:ext cx="8002440" cy="226692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√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6462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7200" y="981000"/>
            <a:ext cx="7570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24 года «с докторским  дипломом в кармане» С.В. Ковалевской приехала в С. Петербург. По  существующим в России законам женщина имела право преподавать только арифметику в младших классах  гимназии. Личная и научная жизнь Ковалевской  в этот период сложилась так, что ей пришлось отойти от занятий математики. В это время началась ее литературная  деятельность: она начала писать стихи, романы, рассказы, статьи. Сама Софья писала, что она всю жизнь не могла решить «к чему у нее больше склонность – к математике или литературе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усские ученые оказали моральную поддержку С.В., ей было предложено выступить на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съезде русских естествоиспытателей и врачей, на котором она прочла доклад «О приведение абелевых интегралов третьего ранга к эллиптическим».  С.В. Ковалевская чтением своего доклада «произвела  впечатление» и заслужила одобрения ученых – математик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4" name="Object 2"/>
              <p:cNvSpPr txBox="1"/>
              <p:nvPr/>
            </p:nvSpPr>
            <p:spPr>
              <a:xfrm>
                <a:off x="395280" y="0"/>
                <a:ext cx="3189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5" name="Picture 9" descr="47266341_1249734668_saturn400x400"/>
          <p:cNvPicPr/>
          <p:nvPr/>
        </p:nvPicPr>
        <p:blipFill>
          <a:blip r:embed="rId2"/>
          <a:stretch/>
        </p:blipFill>
        <p:spPr>
          <a:xfrm rot="389400">
            <a:off x="187200" y="289728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image"/>
          <p:cNvPicPr/>
          <p:nvPr/>
        </p:nvPicPr>
        <p:blipFill>
          <a:blip r:embed="rId3"/>
          <a:stretch/>
        </p:blipFill>
        <p:spPr>
          <a:xfrm>
            <a:off x="4140360" y="2349360"/>
            <a:ext cx="4066920" cy="412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7236000" y="189000"/>
                <a:ext cx="2101680" cy="44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58" name="Прямоугольник 6" descr=""/>
          <p:cNvPicPr/>
          <p:nvPr/>
        </p:nvPicPr>
        <p:blipFill>
          <a:blip r:embed="rId4"/>
          <a:stretch/>
        </p:blipFill>
        <p:spPr>
          <a:xfrm>
            <a:off x="390600" y="1371600"/>
            <a:ext cx="6607080" cy="1116000"/>
          </a:xfrm>
          <a:prstGeom prst="rect">
            <a:avLst/>
          </a:prstGeom>
          <a:ln w="0">
            <a:noFill/>
          </a:ln>
        </p:spPr>
      </p:pic>
      <p:pic>
        <p:nvPicPr>
          <p:cNvPr id="559" name="Прямоугольник 7" descr=""/>
          <p:cNvPicPr/>
          <p:nvPr/>
        </p:nvPicPr>
        <p:blipFill>
          <a:blip r:embed="rId5"/>
          <a:stretch/>
        </p:blipFill>
        <p:spPr>
          <a:xfrm>
            <a:off x="4248000" y="378000"/>
            <a:ext cx="14940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3573000"/>
            <a:ext cx="8148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шите неравенства |х-4|     ≤ 0 и вы узнаете, кто пригласил  С.В. на съезд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755640" y="1600200"/>
          <a:ext cx="7931160" cy="1844640"/>
        </p:xfrm>
        <a:graphic>
          <a:graphicData uri="http://schemas.openxmlformats.org/drawingml/2006/table">
            <a:tbl>
              <a:tblPr/>
              <a:tblGrid>
                <a:gridCol w="2643120"/>
                <a:gridCol w="2644920"/>
                <a:gridCol w="264312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Лобачев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Чебыш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енделе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х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2d2015"/>
                          </a:solidFill>
                          <a:latin typeface="Calibri"/>
                          <a:ea typeface="Calibri"/>
                        </a:rPr>
                        <a:t>4 , 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2d2015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Х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-4;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Прямоугольник 4"/>
          <p:cNvSpPr/>
          <p:nvPr/>
        </p:nvSpPr>
        <p:spPr>
          <a:xfrm>
            <a:off x="4276440" y="3573360"/>
            <a:ext cx="5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аголовок 4" descr=""/>
          <p:cNvPicPr/>
          <p:nvPr/>
        </p:nvPicPr>
        <p:blipFill>
          <a:blip r:embed="rId1"/>
          <a:stretch/>
        </p:blipFill>
        <p:spPr>
          <a:xfrm>
            <a:off x="560520" y="12600"/>
            <a:ext cx="7900920" cy="26877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94920" y="2133720"/>
            <a:ext cx="8072280" cy="36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666666"/>
                </a:solidFill>
                <a:latin typeface="Trebuchet MS"/>
              </a:rPr>
              <a:t>Знаете ли вы в каком университете С.В. согласилась заведовать кафедрой и читать лекции?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числите (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√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/ |х|)+7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900000" y="3357720"/>
          <a:ext cx="6405840" cy="1571400"/>
        </p:xfrm>
        <a:graphic>
          <a:graphicData uri="http://schemas.openxmlformats.org/drawingml/2006/table">
            <a:tbl>
              <a:tblPr/>
              <a:tblGrid>
                <a:gridCol w="2230560"/>
                <a:gridCol w="2087640"/>
                <a:gridCol w="20876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ерл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токгольм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ариж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0;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7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Заголовок 1" descr=""/>
          <p:cNvPicPr/>
          <p:nvPr/>
        </p:nvPicPr>
        <p:blipFill>
          <a:blip r:embed="rId1"/>
          <a:stretch/>
        </p:blipFill>
        <p:spPr>
          <a:xfrm>
            <a:off x="450720" y="920880"/>
            <a:ext cx="8016840" cy="12985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42960" y="3071880"/>
            <a:ext cx="71294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колько букв в имени математика, автора теоремы «Параллельные прямые, пересекающие две данные прямые и отсекающие на одной прямой равные отрезки, отсекают равные отрезки и на другой прямой 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428840" y="2357280"/>
          <a:ext cx="6191280" cy="1214640"/>
        </p:xfrm>
        <a:graphic>
          <a:graphicData uri="http://schemas.openxmlformats.org/drawingml/2006/table">
            <a:tbl>
              <a:tblPr/>
              <a:tblGrid>
                <a:gridCol w="2127240"/>
                <a:gridCol w="2031840"/>
                <a:gridCol w="20322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886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8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89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Заголовок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95112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.В.К. стала знаменитостью. Она все чаще и чаще стала думать и хлопотать о возвращении в  России для научной работы в качестве члена Академии наук. Ковалевская, эта исключительная женщина, душой и сердцем принадлежала России, которою она беззаветно любила. О возвращении Ковалевской в Россию хлопотали ее друзья Петербургской академию наук,  по настоянию Чебышева приняла постановления о присуждении женщинам академических званий. Звание члена – корреспондента Академии наук не давало ей возможности вернувши в Россию. Пример С.В. Ковалевской первой русской женщины,  посвятившей себя науке  подействовал на других передовых женщин, которым С.В. очень помогла в их стремлении получить высшее образование и приносить пользу своему народу.  Назовем имена этих женщин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Ю.Л. Лермонтова, которая одновременно с Ковалевской получила степень доктора за свои работы по хими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.М. Евреинова – первая женщина – юрист Росси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.Ф. Литвинова получила степень доктора математики и лингвист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Заголовок 1" descr=""/>
          <p:cNvPicPr/>
          <p:nvPr/>
        </p:nvPicPr>
        <p:blipFill>
          <a:blip r:embed="rId1"/>
          <a:stretch/>
        </p:blipFill>
        <p:spPr>
          <a:xfrm>
            <a:off x="298440" y="165240"/>
            <a:ext cx="8278920" cy="1109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371600" y="1428480"/>
            <a:ext cx="6400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.В.К. умерла внезапно в Швеции, не испытав радость возвращения на родин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rebuchet MS"/>
              </a:rPr>
              <a:t>Правильному ответу соответствует решение неравенства х</a:t>
            </a:r>
            <a:r>
              <a:rPr b="0" lang="ru-RU" sz="2600" spc="-1" strike="noStrike" baseline="30000">
                <a:solidFill>
                  <a:srgbClr val="800000"/>
                </a:solidFill>
                <a:latin typeface="Trebuchet MS"/>
              </a:rPr>
              <a:t>2 </a:t>
            </a:r>
            <a:r>
              <a:rPr b="0" lang="ru-RU" sz="2600" spc="-1" strike="noStrike">
                <a:solidFill>
                  <a:srgbClr val="800000"/>
                </a:solidFill>
                <a:latin typeface="Trebuchet MS"/>
              </a:rPr>
              <a:t> - 9</a:t>
            </a:r>
            <a:r>
              <a:rPr b="0" lang="ru-RU" sz="2600" spc="-1" strike="noStrike">
                <a:solidFill>
                  <a:srgbClr val="800000"/>
                </a:solidFill>
                <a:latin typeface="Calibri"/>
                <a:ea typeface="Calibri"/>
              </a:rPr>
              <a:t>≥</a:t>
            </a:r>
            <a:r>
              <a:rPr b="0" lang="ru-RU" sz="2600" spc="-1" strike="noStrike" baseline="30000">
                <a:solidFill>
                  <a:srgbClr val="8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800000"/>
                </a:solidFill>
                <a:latin typeface="Trebuchet M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428840" y="2428920"/>
          <a:ext cx="6095880" cy="1571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3 &lt; х &lt;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Х &lt;-3, х = -3 ,          Х≥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[-3 ; 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7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Заголовок 1" descr=""/>
          <p:cNvPicPr/>
          <p:nvPr/>
        </p:nvPicPr>
        <p:blipFill>
          <a:blip r:embed="rId1"/>
          <a:stretch/>
        </p:blipFill>
        <p:spPr>
          <a:xfrm>
            <a:off x="682560" y="12600"/>
            <a:ext cx="8023320" cy="15670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3492360" y="1700280"/>
            <a:ext cx="4362480" cy="457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Душа из пламени и дум!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Пристал ли твой корабль воздуш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К стране, куда парил твой ум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Призыву истины послушный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Прощай ! Тебя мы свято чтим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Твой прах  в могиле оставля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Пусть шведская земля над ним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Лежит легко ,не подавляя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Прощай !Со славою твое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Ты. Навсегда расставшись нам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Жить будешь в памяти люде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С другими славными умам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Покуда чудный звездный свет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С небес на землю  будет литься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rebuchet MS"/>
              </a:rPr>
              <a:t>Кольцо Сатурна не затмитс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2427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80960" y="469800"/>
            <a:ext cx="7351920" cy="2670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378936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Ада Августа Лавлейс       1100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Софи Жермен                  1010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Екатерина Дашкова          011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Софья Ковалевская         101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rebuchet MS"/>
              </a:rPr>
              <a:t>Памятник С.В.Ковалевской на ее могиле. 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Trebuchet MS"/>
              </a:rPr>
              <a:t>Памятник установлен в 1896 г. на средства, собранные комитетом Высших женских курсов и другими женскими организациями Росс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9" name="Picture 11" descr="могила С.В. Ковалевской, фото WALKERU 2009 г."/>
          <p:cNvPicPr/>
          <p:nvPr/>
        </p:nvPicPr>
        <p:blipFill>
          <a:blip r:embed="rId1"/>
          <a:stretch/>
        </p:blipFill>
        <p:spPr>
          <a:xfrm>
            <a:off x="4643280" y="907920"/>
            <a:ext cx="4104000" cy="5472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могила С.В. Ковалевской, фото WALKERU 2009 г."/>
          <p:cNvPicPr/>
          <p:nvPr/>
        </p:nvPicPr>
        <p:blipFill>
          <a:blip r:embed="rId2"/>
          <a:stretch/>
        </p:blipFill>
        <p:spPr>
          <a:xfrm>
            <a:off x="684360" y="3573360"/>
            <a:ext cx="3730320" cy="28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396720" y="73080"/>
            <a:ext cx="7461360" cy="16952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356000" y="1844640"/>
            <a:ext cx="34228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«Мой мозг - нечто большее, чем просто смертная субстанция, я надеюсь, время покажет это ...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да Лавлейс – первая программистка, сотрудничала с изобретателем вычислительных машин Ч.Бэббиджем, в её честь назван один из языков программирования «Ада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2" descr="http://progday.narod.ru/images/ada.jpg"/>
          <p:cNvPicPr/>
          <p:nvPr/>
        </p:nvPicPr>
        <p:blipFill>
          <a:blip r:embed="rId2"/>
          <a:stretch/>
        </p:blipFill>
        <p:spPr>
          <a:xfrm>
            <a:off x="826920" y="2181240"/>
            <a:ext cx="33134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реодолевая предрассудки французского общества XIX века, она стала выдающимся математиком и добилась важных результатов в теории чисел и теории упруг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9" name="Picture 2" descr="http://im8-tub-ru.yandex.net/i?id=113971925-19-72&amp;n=21"/>
          <p:cNvPicPr/>
          <p:nvPr/>
        </p:nvPicPr>
        <p:blipFill>
          <a:blip r:embed="rId2"/>
          <a:stretch/>
        </p:blipFill>
        <p:spPr>
          <a:xfrm>
            <a:off x="2484360" y="3213000"/>
            <a:ext cx="3672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643280" y="1557360"/>
            <a:ext cx="3052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Русская княгиня, директор Санкт-Петербургской академии нау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0043"/>
                </a:solidFill>
                <a:latin typeface="Cassandra"/>
              </a:rPr>
              <a:t>«Какая женщина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0043"/>
                </a:solidFill>
                <a:latin typeface="Cassandra"/>
              </a:rPr>
              <a:t>Какое сильное и богато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0043"/>
                </a:solidFill>
                <a:latin typeface="Cassandra"/>
              </a:rPr>
              <a:t>существование!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0043"/>
                </a:solidFill>
                <a:latin typeface="Cassandra"/>
              </a:rPr>
              <a:t>А.И.Герцен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2" name="Picture 6" descr="http://rosistoriy.ru/Ros4-1-4-6.jpg"/>
          <p:cNvPicPr/>
          <p:nvPr/>
        </p:nvPicPr>
        <p:blipFill>
          <a:blip r:embed="rId2"/>
          <a:stretch/>
        </p:blipFill>
        <p:spPr>
          <a:xfrm>
            <a:off x="395280" y="1459080"/>
            <a:ext cx="3672000" cy="50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114800" y="1265040"/>
            <a:ext cx="36972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В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XVIII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 столетии – несмотря на его репутацию «женского века» - лишь очень немногие из женщин могли проявить свое «я» - пойти наперекор воле отц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или мужа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а тем более заняться общественной деятельностью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Екатерина Романовна Дашкова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относится к числу немногих исключени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2"/>
          <a:srcRect l="839" t="0" r="0" b="0"/>
          <a:stretch/>
        </p:blipFill>
        <p:spPr>
          <a:xfrm>
            <a:off x="665280" y="1268280"/>
            <a:ext cx="3259080" cy="40658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1103760" y="5608440"/>
            <a:ext cx="247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Г.И. Скородум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Портрет Екатер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Воронцовой-Дашков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1777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15:54Z</dcterms:created>
  <dc:creator>1234</dc:creator>
  <dc:description/>
  <dc:language>en-US</dc:language>
  <cp:lastModifiedBy>1234</cp:lastModifiedBy>
  <dcterms:modified xsi:type="dcterms:W3CDTF">2013-01-28T14:57:34Z</dcterms:modified>
  <cp:revision>49</cp:revision>
  <dc:subject/>
  <dc:title>Слайд 1</dc:title>
</cp:coreProperties>
</file>