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BAD-8F8A-4292-95CC-802358E8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D09-AED1-4954-A597-A3FF134A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D2F-8639-4013-B90D-30E47841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31C-CA01-4857-AD92-62903099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A178-7F68-40F6-8542-994A0D97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AFEF-5F56-40F1-A405-B8EA6202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7A35-917E-4F27-82BD-6AB0E49A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A52F-3D6B-4284-B5F8-3578FEAE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C4BC-02F1-4A87-B300-1B8D16BD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78FD-0B3F-4946-9730-7E551C13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3EB0-A026-412A-AE56-54611412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6C5-7E1C-4EEC-B3CF-70BA69DC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5F54-0D57-465C-8507-FCBAB673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F66E-2B7E-49EB-A4BF-E1C733BC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9C0B-FD29-4BBB-9E31-D15D5249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416B-64C1-4B9D-8DD6-F34001A7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EC50-334E-4159-B86A-C0A63246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76C37-CC97-498C-AEA4-C23D47CF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968D-1A55-41EB-8087-3D2F1CC6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B3B1-70DE-45D0-BF2E-BD495627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EDA4-30BD-4D65-8B95-1EA7EDCD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1553-E1DD-40F3-99BC-BDD64176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22A-6BA1-4A3B-B037-A50B36E1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6572-E427-411F-AD96-D9694750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8C94-301A-475E-8C67-7C6E9761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7ED74-0726-4B61-B85C-00191852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A6F70-F96C-4A1A-AB73-21C3998E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99F7-3E27-4974-9789-2163B971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0D43-9C68-4BBB-A9A6-375ABC67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D6AA-E6FE-4669-8DF6-DA53D485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A2D6D-EB88-4521-B02D-5A43B0A5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6EB41-C6C7-4D75-BD61-45363A06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3C8D8-82F6-4C70-931E-6169B389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7E7-B7EE-4D70-B0B4-D90A32B9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9C20F-FCB8-498A-86DD-76BA33C3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D9CF7-9F21-4BFE-B1D8-53BD6D4F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95398-C431-467F-B436-61C80072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97D3-4672-4DA4-AC90-E0D82F1E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E449B-69E6-4118-A05A-8DB11E86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06A32-CD76-4400-90DE-C9686683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0830-4D15-4E4E-8B4C-5E2B647E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52BE1-AC36-4B56-9BE9-01DBCBFB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A6239-7FEA-49DC-BBDB-A166CFB5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846-494D-4DC8-970E-0134F11D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453-285A-4456-A0F7-096FA7B0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3B1-342F-4D33-8798-617C1996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8C7-6B52-4263-BF11-03F3CB35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8E2-2151-4B56-BDA9-83922D1A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8B71-DC08-44F5-BC89-77E7A31C56B3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7E96-80FC-4EB8-8962-8A5AC8748666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82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0DAD-3620-4152-89F3-5B8BBF08B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5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8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4" name="PlaceHolder 3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451A-6557-4E05-9CF4-EFC75E9A8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нутренняя политика Никола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рок по истории России 8 класс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читель: Присяжная Елена Алексеевн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новные направления внутренней политики Никола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Укрепление самодержавия и государственного аппарат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Крестьянский вопрос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Борьба с революционным движением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3" name="" descr="&amp;Icy;&amp;zcy;&amp;ocy;&amp;bcy;&amp;rcy;&amp;acy;&amp;zhcy;&amp;iecy;&amp;ncy;&amp;icy;&amp;iecy; “http://upload.wikimedia.org/wikipedia/commons/thumb/1/1a/Tsar_Nicholas_I_-3.jpg/280px-Tsar_Nicholas_I_-3.jpg” &amp;ncy;&amp;iecy; &amp;mcy;&amp;ocy;&amp;zhcy;&amp;iecy;&amp;tcy; &amp;bcy;&amp;ycy;&amp;tcy;&amp;softcy; &amp;pcy;&amp;ocy;&amp;kcy;&amp;acy;&amp;zcy;&amp;acy;&amp;ncy;&amp;ocy;, &amp;tcy;&amp;acy;&amp;kcy; &amp;kcy;&amp;acy;&amp;kcy; &amp;scy;&amp;ocy;&amp;dcy;&amp;iecy;&amp;rcy;&amp;zhcy;&amp;icy;&amp;tcy; &amp;ocy;&amp;shcy;&amp;icy;&amp;bcy;&amp;kcy;&amp;icy;."/>
          <p:cNvPicPr/>
          <p:nvPr/>
        </p:nvPicPr>
        <p:blipFill>
          <a:blip r:embed="rId1"/>
          <a:stretch/>
        </p:blipFill>
        <p:spPr>
          <a:xfrm>
            <a:off x="1476360" y="1557360"/>
            <a:ext cx="3630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ременники о Никола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00120" y="1267920"/>
            <a:ext cx="74916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«Глубоко искренний в своих убеждениях, часто героический и великий в своей преданности тому делу, в котором он видел миссию, возложенную на него провидением, можно сказать, что Николай I был донкихотом самодержавия, донкихотом страшным и зловредным, потому что обладал всемогуществом, позволившим ему подчинять всё своей фанатической и устарелой теории и попирать ногами самые законные стремления и права своего века. Вот почему этот человек, соединявший с душою великодушной и рыцарской характер редкого благородства и честности, сердце горячее и нежное и ум возвышенный и просвещённый, хотя и лишённый широты, вот почему этот человек мог быть для России в течение своего 30-летнего царствования тираном и деспотом, систематически душившим в управляемой им стране всякое проявление инициативы и жизни.» — А. Ф. Тютчев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ременники о Никола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«В нём много прапорщика и немного Петра Великого», — так писал Пушкин о Николае в своём дневнике 21 мая 1834 г.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«Ум его не обработан, воспитание его было небрежно», — писала об императоре Николае Павловиче королева Виктория в 1844 году.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аткая характеристика Никола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47280" y="134100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7640" y="1125000"/>
            <a:ext cx="456408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Родился в 1796 году, так как имел двух старших братьев Александра и Константина, никогда не готовился занять престол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иколай Павлович получил домашнее образование — к нему и брату Михаилу назначались преподаватели. Но особого усердия к учёбе Николай не проявлял. Он не признавал гуманитарных наук, зато прекрасно разбирался в военном искусстве, увлекался фортификацией, был знаком с инженерным дело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 словам В. А. Муханова, Николай Павлович, окончив курс своего образования, сам ужаснулся своему неведению и после свадьбы старался пополнить этот пробел, но условия жизни рассеянной, преобладание военных занятий и светлые радости семейной жизни отвлекали его от постоянных кабинетных работ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2905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настический кризис 1825 год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В 1820 году император Александр I сообщил своему брату Николаю Павловичу и его жене, что наследник престола их брат Великий князь Константин Павлович намерен отречься от своего права, поэтому наследником предстоит стать Николаю как следующему по старшинству брату. В 1823 году Константин формально отрёкся от своих прав на престол, так как не имел детей, был разведён и женат вторым браком на польской графине Грудзинской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16 августа 1823 года Александр I подписал втайне составленный манифест, утверждавший отречение Константина Павловича и утверждавший Наследником Престола Николая Павлович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12 декабря 1825 года, не имея возможности убедить Константина занять престол и получив его окончательный отказ (хотя и без формального акта отречения), великий князь Николай Павлович решился принять трон согласно воле Александра I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ледствие и суд над декабристам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К следствию и суду было привлечено 579 человек. Процесс проходил в строжайшей тайне, работу следственной комиссии возглавил сам император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13.07.1826 года пятеро участников восстания: Пестель, Муравьев-Апостол, Бестужев-Рюмин, Каховский и Рылеев были казнены в Петропавловской крепости, более ста человек были сосланы на каторгу и вечное поселение в Сибирь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Борьба с революционным движением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99760" y="152352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88000" y="1557000"/>
            <a:ext cx="41767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 1826 году было создано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III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отделение  императорской канцелярии, в подчинении которого находился корпус жандармов, возглавлял его А.Х. Бенкендорф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 1826 году был принят новый цензурный устав, названный современниками «чугунным»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6" name="" descr="Alexander von Benckendorff.jpg"/>
          <p:cNvPicPr/>
          <p:nvPr/>
        </p:nvPicPr>
        <p:blipFill>
          <a:blip r:embed="rId1"/>
          <a:stretch/>
        </p:blipFill>
        <p:spPr>
          <a:xfrm>
            <a:off x="1332000" y="1773360"/>
            <a:ext cx="32734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ры по укреплению государственного управл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432108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В 1826 году М.М. Сперанскому было поручено провести кодификацию российского законодательства. Ему удалось это сделать в течение 5 лет: в 1832 году было опубликовано «Полное собрание законов Российской Империи» в 45-ти томах, а в 1833 – Свод действующих законов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Правительство предприняло ряд мер по поддержке дворянства, что привело к повышению авторитета и роли дворян в Росси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9" name="" descr="&amp;Mcy;&amp;icy;&amp;khcy;&amp;acy;&amp;icy;&amp;lcy; &amp;Mcy;&amp;icy;&amp;khcy;&amp;acy;&amp;jcy;&amp;lcy;&amp;ocy;&amp;vcy;&amp;icy;&amp;chcy; &amp;Scy;&amp;pcy;&amp;iecy;&amp;rcy;&amp;acy;&amp;ncy;&amp;scy;&amp;kcy;&amp;icy;&amp;jcy;"/>
          <p:cNvPicPr/>
          <p:nvPr/>
        </p:nvPicPr>
        <p:blipFill>
          <a:blip r:embed="rId1"/>
          <a:stretch/>
        </p:blipFill>
        <p:spPr>
          <a:xfrm>
            <a:off x="5378400" y="1863720"/>
            <a:ext cx="355608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рестьянский вопрос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468144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В 1837-1841 годах П.Д. Киселевым была проведена реформа государственных крестьян, вводившая крестьянское самоуправление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В 1842 году был издан указ «Об обязанных крестьянах» по которому помещик мог освобождать своих крестьян с предоставлением им наделов в наследственное пользование, но с выполнением определенных повинностей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В 1847-1848 годах крестьяне получили права выкупаться на свободу и приобретать незаселенные земли и строен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Помещикам было запрещено ссылать крестьян в Сибирь и продавать их без земл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14680" y="152352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63" name="" descr="&amp;Pcy;&amp;ocy;&amp;rcy;&amp;tcy;&amp;rcy;&amp;iecy;&amp;tcy;"/>
          <p:cNvPicPr/>
          <p:nvPr/>
        </p:nvPicPr>
        <p:blipFill>
          <a:blip r:embed="rId1"/>
          <a:stretch/>
        </p:blipFill>
        <p:spPr>
          <a:xfrm>
            <a:off x="5796000" y="1197000"/>
            <a:ext cx="3165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инансовая Реформ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46800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Практическая деятельность Е.Ф. Канкрина, чрезвычайно разносторонняя. С его именем связаны упорядочение русской денежной системы, усиление протекционизма и улучшение государственной отчетности и счетоводств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Денежная реформа 1839 - 1843 годов, заключалась в том, что ассигнации, впервые выпущенные в России при Екатерине II, были фиксированы в существовавшей с 1810 г. серебряной единице (3 рубля 50 копеек ассигнациями = 1 рубль серебром). С 1 июня 1843 г. ассигнации и иные бумажные знаки стали обмениваться на "государственные кредитные билеты", в свою очередь разменные на звонкую монету. Вся реформа была проведена с большой осторожностью и постепенностью.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67" name="" descr="&amp;Pcy;&amp;ocy;&amp;rcy;&amp;tcy;&amp;rcy;&amp;iecy;&amp;tcy;"/>
          <p:cNvPicPr/>
          <p:nvPr/>
        </p:nvPicPr>
        <p:blipFill>
          <a:blip r:embed="rId1"/>
          <a:stretch/>
        </p:blipFill>
        <p:spPr>
          <a:xfrm>
            <a:off x="5940360" y="1197000"/>
            <a:ext cx="3017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литика в области образования и культур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8020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Было запрещено принимать крепостных крестьян в средние и высшие учебные заведения, однако именно при Николае 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в 1828 г. в Петербурге был вновь открыт главный педагогический институт. Основан был ряд высших технических и специальных училищ: в 1828 г. Технологический институт в Петербурге, в 1832 г. Училище гражданских инженеров, в 1835 г. Училище правоведения, в 1840 г. Горы-Горецкое земледельческое училище, в 1844 г. Константиновский межевой институт в Москве, в 1830 г. ветеринарная школа в Харькове, в 1848 г. - в Дерпте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мели место факты, показывающие личное участие Николая 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в развитии искусств: В сентябре 1826 года Николай принял освобождённого им из михайловской ссылки Пушкина, и избавил поэта от общей цензуры (решил сам цензуровать его сочинения), поддержка Александринского театра.  У Николая I хватило и литературного вкуса, и гражданского мужества, чтобы отстоять „Ревизора“ и после первого представления сказать: „Досталось всем — а больше всего МНЕ“»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Однако именно Николай распорядился сослать на Кавказ Лермонтова, По распоряжению царя  были закрыты журналы «Европеец», «Московский телеграф», «Телескоп», преследовался П.Чаадаев, был запрещён к постановке в России Ф. Шиллер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1:57:13Z</dcterms:created>
  <dc:creator>Olya</dc:creator>
  <dc:description/>
  <dc:language>en-US</dc:language>
  <cp:lastModifiedBy>Игорь</cp:lastModifiedBy>
  <dcterms:modified xsi:type="dcterms:W3CDTF">2013-02-03T17:00:41Z</dcterms:modified>
  <cp:revision>5</cp:revision>
  <dc:subject/>
  <dc:title>Внутренняя политика Николая I.</dc:title>
</cp:coreProperties>
</file>