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ACC-8059-4B76-A065-1C30489A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CD7-8274-475A-8F8C-DFEE464C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CE4-87EE-4D96-97F2-A1EE6D2D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0BB-A044-4E8F-9808-FFDFA7B5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AA0B-91A8-4719-8BF2-1B9BBC5D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95BC-E0C0-49F3-9B4A-59AEFE49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5172-3DCD-4860-83C5-766440F7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737D-D43E-4D95-A85A-FFECC3B6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99C1-23E3-4053-9A84-38722482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64CA-00AD-485E-BC5E-B20DBB7D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011C-CF28-48E1-831F-5CBDCF7F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EAF-45AD-443E-A20D-3F7D299A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A4CA-BEBC-404F-A6CC-2F7FF349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91FE-4419-4821-8A40-55126EA8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EB0C-47D5-4F02-8A71-DBE576D6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B701-416D-48D8-A0A0-289A2AE8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D2A5-AFA2-45C7-BAC5-0A1153F6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72C-AB50-4477-A541-0A4598BE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260-6B42-463B-A5E8-B07FC80A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B99-6C72-42C8-9730-C7F825F8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732-D844-45AC-BE33-D5107C4F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D20-B530-4B9F-B85E-F35A680F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16B-DE25-43B8-8AF5-FA7EF563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706-CFEA-4E27-A12D-DB9FC5BD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F0CB-1BEF-4145-95F5-AF5EA14864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516E-A941-4481-911E-A9881519518E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2050920" y="549360"/>
            <a:ext cx="454500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ОУ "Средня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бразовательна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школа №13"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11"/>
          <p:cNvPicPr/>
          <p:nvPr/>
        </p:nvPicPr>
        <p:blipFill>
          <a:blip r:embed="rId1"/>
          <a:stretch/>
        </p:blipFill>
        <p:spPr>
          <a:xfrm>
            <a:off x="0" y="-34920"/>
            <a:ext cx="10404360" cy="7209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324000" y="692280"/>
            <a:ext cx="763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У "Среднеобразовательная школа №13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539640" y="260280"/>
            <a:ext cx="7993080" cy="458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ЦИ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*Милосерд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*Весенняя неделя доб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*Колокола для звонн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* «Подари книгу библиотеке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* Чистый город, школьный дв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*Подарок солдат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WordArt 5"/>
          <p:cNvSpPr txBox="1"/>
          <p:nvPr/>
        </p:nvSpPr>
        <p:spPr>
          <a:xfrm>
            <a:off x="684360" y="5013360"/>
            <a:ext cx="80308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* «Все дети наши»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* «Верю в тебя, Россия!»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6"/>
          <p:cNvSpPr txBox="1"/>
          <p:nvPr/>
        </p:nvSpPr>
        <p:spPr>
          <a:xfrm>
            <a:off x="324000" y="5516640"/>
            <a:ext cx="83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ВЕРЮ В ТЕБЯ, РОССИЯ!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1" name="Picture 7" descr="S4010023"/>
          <p:cNvPicPr/>
          <p:nvPr/>
        </p:nvPicPr>
        <p:blipFill>
          <a:blip r:embed="rId1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192" name="WordArt 8"/>
          <p:cNvSpPr txBox="1"/>
          <p:nvPr/>
        </p:nvSpPr>
        <p:spPr>
          <a:xfrm>
            <a:off x="539640" y="5732640"/>
            <a:ext cx="835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ВЕРЮ В ТЕБЯ, РОССИЯ!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S40101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S40102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5" name="WordArt 7"/>
          <p:cNvSpPr txBox="1"/>
          <p:nvPr/>
        </p:nvSpPr>
        <p:spPr>
          <a:xfrm>
            <a:off x="3059280" y="5373720"/>
            <a:ext cx="568944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лонтеры в п.Кли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Picture 4" descr="S4010248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S401023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S4010247"/>
          <p:cNvPicPr/>
          <p:nvPr/>
        </p:nvPicPr>
        <p:blipFill>
          <a:blip r:embed="rId3"/>
          <a:stretch/>
        </p:blipFill>
        <p:spPr>
          <a:xfrm>
            <a:off x="0" y="0"/>
            <a:ext cx="9163080" cy="687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S4010113"/>
          <p:cNvPicPr/>
          <p:nvPr/>
        </p:nvPicPr>
        <p:blipFill>
          <a:blip r:embed="rId4"/>
          <a:stretch/>
        </p:blipFill>
        <p:spPr>
          <a:xfrm>
            <a:off x="0" y="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9" descr="S4010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>
            <a:off x="1042920" y="907920"/>
            <a:ext cx="7416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Rounded MT Bold"/>
              </a:rPr>
              <a:t>спасибо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Rounded MT Bold"/>
              </a:rPr>
              <a:t> </a:t>
            </a: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Rounded MT Bold"/>
              </a:rPr>
              <a:t>за внимание 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Rounded MT Bold"/>
              <a:ea typeface="Arial Rounded MT Bold"/>
            </a:endParaRPr>
          </a:p>
        </p:txBody>
      </p:sp>
      <p:pic>
        <p:nvPicPr>
          <p:cNvPr id="203" name="Picture 6" descr="134[1]"/>
          <p:cNvPicPr/>
          <p:nvPr/>
        </p:nvPicPr>
        <p:blipFill>
          <a:blip r:embed="rId1"/>
          <a:stretch/>
        </p:blipFill>
        <p:spPr>
          <a:xfrm>
            <a:off x="3059280" y="3500280"/>
            <a:ext cx="2815920" cy="31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0" name="AutoShape 17"/>
          <p:cNvCxnSpPr/>
          <p:nvPr/>
        </p:nvCxnSpPr>
        <p:spPr>
          <a:xfrm flipH="1">
            <a:off x="1814400" y="-431640"/>
            <a:ext cx="1038600" cy="4323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171" name="WordArt 35"/>
          <p:cNvSpPr txBox="1"/>
          <p:nvPr/>
        </p:nvSpPr>
        <p:spPr>
          <a:xfrm>
            <a:off x="1692360" y="620640"/>
            <a:ext cx="5894280" cy="19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енический сове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36"/>
          <p:cNvSpPr txBox="1"/>
          <p:nvPr/>
        </p:nvSpPr>
        <p:spPr>
          <a:xfrm>
            <a:off x="1116000" y="3573360"/>
            <a:ext cx="29512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ве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ьчишек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девчон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5-7 классы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37"/>
          <p:cNvSpPr txBox="1"/>
          <p:nvPr/>
        </p:nvSpPr>
        <p:spPr>
          <a:xfrm>
            <a:off x="5364000" y="3500280"/>
            <a:ext cx="32353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вет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ршеклассни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8-11 классы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Line 38"/>
          <p:cNvSpPr/>
          <p:nvPr/>
        </p:nvSpPr>
        <p:spPr>
          <a:xfrm flipH="1">
            <a:off x="3059280" y="2565360"/>
            <a:ext cx="792000" cy="792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Line 39"/>
          <p:cNvSpPr/>
          <p:nvPr/>
        </p:nvSpPr>
        <p:spPr>
          <a:xfrm>
            <a:off x="5580000" y="2565360"/>
            <a:ext cx="792360" cy="792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468360" y="333360"/>
            <a:ext cx="8424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правлен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500040" y="2714760"/>
            <a:ext cx="82152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РАЖДАНСКО - ПАТРИОТИЧЕСКО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КОЛОГИЧЕСКО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ДОРОВЬЕСБЕРЕГАЮЩЕ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СУГОВО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1" descr="P90130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P9013110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S4010165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S4010170"/>
          <p:cNvPicPr/>
          <p:nvPr/>
        </p:nvPicPr>
        <p:blipFill>
          <a:blip r:embed="rId4"/>
          <a:stretch/>
        </p:blipFill>
        <p:spPr>
          <a:xfrm>
            <a:off x="0" y="-42840"/>
            <a:ext cx="9199440" cy="6900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S4010092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S401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P1020125"/>
          <p:cNvPicPr/>
          <p:nvPr/>
        </p:nvPicPr>
        <p:blipFill>
          <a:blip r:embed="rId1"/>
          <a:stretch/>
        </p:blipFill>
        <p:spPr>
          <a:xfrm>
            <a:off x="-612720" y="0"/>
            <a:ext cx="975672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S4010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6"/>
          <p:cNvSpPr txBox="1"/>
          <p:nvPr/>
        </p:nvSpPr>
        <p:spPr>
          <a:xfrm>
            <a:off x="468360" y="5589720"/>
            <a:ext cx="828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ШКОЛЬНАЯ ЛИГА КВ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S4010008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8:54:56Z</dcterms:created>
  <dc:creator>*</dc:creator>
  <dc:description/>
  <dc:language>en-US</dc:language>
  <cp:lastModifiedBy>FuckYouBill</cp:lastModifiedBy>
  <dcterms:modified xsi:type="dcterms:W3CDTF">2009-11-05T17:16:10Z</dcterms:modified>
  <cp:revision>11</cp:revision>
  <dc:subject/>
  <dc:title>Слайд 1</dc:title>
</cp:coreProperties>
</file>