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7.png" ContentType="image/png"/>
  <Override PartName="/ppt/media/image25.jpeg" ContentType="image/jpeg"/>
  <Override PartName="/ppt/media/image22.gif" ContentType="image/gif"/>
  <Override PartName="/ppt/media/image15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40.png" ContentType="image/png"/>
  <Override PartName="/ppt/media/image30.jpeg" ContentType="image/jpeg"/>
  <Override PartName="/ppt/media/image33.png" ContentType="image/png"/>
  <Override PartName="/ppt/media/image34.png" ContentType="image/png"/>
  <Override PartName="/ppt/media/image13.png" ContentType="image/png"/>
  <Override PartName="/ppt/media/image37.png" ContentType="image/png"/>
  <Override PartName="/ppt/media/image31.jpeg" ContentType="image/jpeg"/>
  <Override PartName="/ppt/media/image41.png" ContentType="image/png"/>
  <Override PartName="/ppt/media/image39.png" ContentType="image/png"/>
  <Override PartName="/ppt/media/image42.jpeg" ContentType="image/jpeg"/>
  <Override PartName="/ppt/media/image5.jpeg" ContentType="image/jpeg"/>
  <Override PartName="/ppt/media/image43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8.png" ContentType="image/png"/>
  <Override PartName="/ppt/media/image8.jpeg" ContentType="image/jpeg"/>
  <Override PartName="/ppt/media/image14.png" ContentType="image/png"/>
  <Override PartName="/ppt/media/image10.jpeg" ContentType="image/jpeg"/>
  <Override PartName="/ppt/media/image7.gif" ContentType="image/gif"/>
  <Override PartName="/ppt/media/image29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12.png" ContentType="image/png"/>
  <Override PartName="/ppt/media/image4.wmf" ContentType="image/x-wmf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636-E810-4187-8F09-36495E05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54E-FF06-4FC0-BD85-3AD6ECA6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BF9-191E-4FE4-8C62-3F28A0E8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CBB-B4D1-4403-A67B-8A2AC1D2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B34-5024-4214-873E-47D61EBB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F3B-7730-4DDB-A80F-EE9E3C2A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E5F-4181-472A-9E27-66F9CBEA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EF9-2AA4-4C02-B500-B962170A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7C7-3B1E-451D-8CC2-6DD94A9C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9E5-46B8-4194-BC3D-9F634597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A3D-9F17-4FF7-AB49-A1FF3A79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04E-96B6-460E-9FA9-A7A10ECC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5022-CCE3-47EF-AD6E-7A556EF84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:/search.xml%3Fjob_industry=65&amp;text=%25D1%2588%25D0%25BB%25D0%25B8%25D1%2584%25D0%25BE%25D0%25B2%25D1%2589%25D0%25B8%25D0%25BA&amp;rid=10928" TargetMode="External"/><Relationship Id="rId2" Type="http://schemas.openxmlformats.org/officeDocument/2006/relationships/hyperlink" Target="file:///C:/search.xml%3Fjob_industry=65&amp;text=%25D1%2581%25D0%25B2%25D0%25B0%25D1%2580%25D1%2589%25D0%25B8%25D0%25BA&amp;rid=10928" TargetMode="External"/><Relationship Id="rId3" Type="http://schemas.openxmlformats.org/officeDocument/2006/relationships/hyperlink" Target="file:///C:/search.xml%3Fjob_industry=65&amp;text=%25D0%25BC%25D0%25B5%25D0%25BD%25D0%25B5%25D0%25B4%25D0%25B6%25D0%25B5%25D1%2580&amp;rid=10928" TargetMode="External"/><Relationship Id="rId4" Type="http://schemas.openxmlformats.org/officeDocument/2006/relationships/hyperlink" Target="file:///C:/search.xml%3Fjob_industry=65&amp;text=%25D0%25B0%25D0%25B3%25D1%2580%25D0%25BE%25D0%25BD%25D0%25BE%25D0%25BC&amp;rid=10928" TargetMode="External"/><Relationship Id="rId5" Type="http://schemas.openxmlformats.org/officeDocument/2006/relationships/hyperlink" Target="file:///C:/search.xml%3Fjob_industry=65&amp;text=%25D1%2581%25D0%25B1%25D0%25BE%25D1%2580%25D1%2589%25D0%25B8%25D0%25BA&amp;rid=10928" TargetMode="External"/><Relationship Id="rId6" Type="http://schemas.openxmlformats.org/officeDocument/2006/relationships/hyperlink" Target="file:///C:/search.xml%3Fjob_industry=65&amp;text=%25D0%25BD%25D0%25B0%25D0%25BB%25D0%25B0%25D0%25B4%25D1%2587%25D0%25B8%25D0%25BA&amp;rid=10928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inderlibrary.files.wordpress.com/2011/11/d0b2d0bed0bbd18cd182d0b5d18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J0233029"/>
          <p:cNvPicPr/>
          <p:nvPr/>
        </p:nvPicPr>
        <p:blipFill>
          <a:blip r:embed="rId1"/>
          <a:stretch/>
        </p:blipFill>
        <p:spPr>
          <a:xfrm>
            <a:off x="6143760" y="3786120"/>
            <a:ext cx="2760480" cy="2808360"/>
          </a:xfrm>
          <a:prstGeom prst="rect">
            <a:avLst/>
          </a:prstGeom>
          <a:ln w="38160">
            <a:solidFill>
              <a:srgbClr val="cc3399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Прекрасных профессий на свете не счесть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И каждой профессии слава и честь!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J0233033"/>
          <p:cNvPicPr/>
          <p:nvPr/>
        </p:nvPicPr>
        <p:blipFill>
          <a:blip r:embed="rId2"/>
          <a:stretch/>
        </p:blipFill>
        <p:spPr>
          <a:xfrm>
            <a:off x="285840" y="2714760"/>
            <a:ext cx="2717640" cy="2736720"/>
          </a:xfrm>
          <a:prstGeom prst="rect">
            <a:avLst/>
          </a:prstGeom>
          <a:ln w="38160">
            <a:solidFill>
              <a:srgbClr val="cc3399"/>
            </a:solidFill>
            <a:miter/>
          </a:ln>
        </p:spPr>
      </p:pic>
      <p:pic>
        <p:nvPicPr>
          <p:cNvPr id="44" name="Picture 8" descr="J0233021"/>
          <p:cNvPicPr/>
          <p:nvPr/>
        </p:nvPicPr>
        <p:blipFill>
          <a:blip r:embed="rId3"/>
          <a:stretch/>
        </p:blipFill>
        <p:spPr>
          <a:xfrm>
            <a:off x="3214800" y="3286080"/>
            <a:ext cx="2755800" cy="2766960"/>
          </a:xfrm>
          <a:prstGeom prst="rect">
            <a:avLst/>
          </a:prstGeom>
          <a:ln w="38160">
            <a:solidFill>
              <a:srgbClr val="cc3399"/>
            </a:solidFill>
            <a:miter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2956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. Человек-знаковая систем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ди, выбравшие этот тип профессиональной деятельности, должны уметь оперировать абстрактными понятиями, иметь широкий кругозор. Это бухгалтеры, учёные, операторы ЭВМ, люди, работающие в лабораториях, научных центра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4" descr="719044"/>
          <p:cNvPicPr/>
          <p:nvPr/>
        </p:nvPicPr>
        <p:blipFill>
          <a:blip r:embed="rId1"/>
          <a:stretch/>
        </p:blipFill>
        <p:spPr>
          <a:xfrm>
            <a:off x="285840" y="378612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719033"/>
          <p:cNvPicPr/>
          <p:nvPr/>
        </p:nvPicPr>
        <p:blipFill>
          <a:blip r:embed="rId2"/>
          <a:stretch/>
        </p:blipFill>
        <p:spPr>
          <a:xfrm>
            <a:off x="3571920" y="4643280"/>
            <a:ext cx="2997000" cy="199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719079"/>
          <p:cNvPicPr/>
          <p:nvPr/>
        </p:nvPicPr>
        <p:blipFill>
          <a:blip r:embed="rId3"/>
          <a:stretch/>
        </p:blipFill>
        <p:spPr>
          <a:xfrm>
            <a:off x="7429680" y="357120"/>
            <a:ext cx="1485720" cy="2230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39"/>
          <p:cNvPicPr/>
          <p:nvPr/>
        </p:nvPicPr>
        <p:blipFill>
          <a:blip r:embed="rId4"/>
          <a:stretch/>
        </p:blipFill>
        <p:spPr>
          <a:xfrm>
            <a:off x="6643800" y="3214800"/>
            <a:ext cx="2087280" cy="19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8656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. Человек-художественный образ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дей этого типы отличает наличие живого образного мышления, художественная фантазия, талан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8" descr=""/>
          <p:cNvPicPr/>
          <p:nvPr/>
        </p:nvPicPr>
        <p:blipFill>
          <a:blip r:embed="rId1"/>
          <a:stretch/>
        </p:blipFill>
        <p:spPr>
          <a:xfrm>
            <a:off x="4286160" y="4714920"/>
            <a:ext cx="2847960" cy="1895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Копия 25"/>
          <p:cNvPicPr/>
          <p:nvPr/>
        </p:nvPicPr>
        <p:blipFill>
          <a:blip r:embed="rId2"/>
          <a:stretch/>
        </p:blipFill>
        <p:spPr>
          <a:xfrm>
            <a:off x="2340000" y="3284640"/>
            <a:ext cx="2087640" cy="1993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3"/>
          <p:cNvPicPr/>
          <p:nvPr/>
        </p:nvPicPr>
        <p:blipFill>
          <a:blip r:embed="rId3"/>
          <a:stretch/>
        </p:blipFill>
        <p:spPr>
          <a:xfrm>
            <a:off x="6357960" y="3000240"/>
            <a:ext cx="2303280" cy="1619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is"/>
          <p:cNvPicPr/>
          <p:nvPr/>
        </p:nvPicPr>
        <p:blipFill>
          <a:blip r:embed="rId4"/>
          <a:stretch/>
        </p:blipFill>
        <p:spPr>
          <a:xfrm>
            <a:off x="6429240" y="428760"/>
            <a:ext cx="2105280" cy="1579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is2"/>
          <p:cNvPicPr/>
          <p:nvPr/>
        </p:nvPicPr>
        <p:blipFill>
          <a:blip r:embed="rId5"/>
          <a:stretch/>
        </p:blipFill>
        <p:spPr>
          <a:xfrm>
            <a:off x="357120" y="4786200"/>
            <a:ext cx="2305080" cy="15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Формула выбора професси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делать правильный выбор - значит, найти профессию, котора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Овал 6"/>
          <p:cNvSpPr/>
          <p:nvPr/>
        </p:nvSpPr>
        <p:spPr>
          <a:xfrm>
            <a:off x="285840" y="2071800"/>
            <a:ext cx="4357440" cy="442908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714240" y="3000240"/>
            <a:ext cx="357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на и привлекательна "ХОЧУ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C:\Documents and Settings\Химия2\Рабочий стол\Новая папка (2)\432384076.jpg"/>
          <p:cNvPicPr/>
          <p:nvPr/>
        </p:nvPicPr>
        <p:blipFill>
          <a:blip r:embed="rId1"/>
          <a:stretch/>
        </p:blipFill>
        <p:spPr>
          <a:xfrm>
            <a:off x="5072040" y="2381400"/>
            <a:ext cx="3643200" cy="34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868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рись за то, к чему ты сгоден, коль хочешь, чтоб в делах успешный был конец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-main-pic" descr="Картинка 2 из 139072"/>
          <p:cNvPicPr/>
          <p:nvPr/>
        </p:nvPicPr>
        <p:blipFill>
          <a:blip r:embed="rId1"/>
          <a:stretch/>
        </p:blipFill>
        <p:spPr>
          <a:xfrm>
            <a:off x="142920" y="1000080"/>
            <a:ext cx="4560840" cy="36082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0"/>
          <p:cNvSpPr/>
          <p:nvPr/>
        </p:nvSpPr>
        <p:spPr>
          <a:xfrm>
            <a:off x="5143680" y="2214720"/>
            <a:ext cx="3714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занятия и действия, которые ты выполняешь с интересом, с желанием, по собственной инициати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делать правильный выбор - значит, найти профессию, котора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500040" y="1785960"/>
            <a:ext cx="4000680" cy="414324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1071720" y="278604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тупна и посильна "МОГУ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Documents and Settings\Химия2\Рабочий стол\Новая папка (2)\elephant.png"/>
          <p:cNvPicPr/>
          <p:nvPr/>
        </p:nvPicPr>
        <p:blipFill>
          <a:blip r:embed="rId1"/>
          <a:stretch/>
        </p:blipFill>
        <p:spPr>
          <a:xfrm>
            <a:off x="5072040" y="328608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5357880" y="207180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? ?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важно в жизни, помня о желаниях, возможностей своих не забывать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. Асад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4429080" y="2690640"/>
            <a:ext cx="3786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возможности человека, его способности, состояние здоровья, уровень знаний и ум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-main-pic" descr="Картинка 4 из 1623"/>
          <p:cNvPicPr/>
          <p:nvPr/>
        </p:nvPicPr>
        <p:blipFill>
          <a:blip r:embed="rId1"/>
          <a:stretch/>
        </p:blipFill>
        <p:spPr>
          <a:xfrm>
            <a:off x="571680" y="1928880"/>
            <a:ext cx="2533320" cy="380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345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alibri"/>
              </a:rPr>
              <a:t>Игра «Оптимист-скепти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птимис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0" y="2071800"/>
            <a:ext cx="4103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епт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1835280" y="907920"/>
            <a:ext cx="56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фессия "Журналист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642960" y="25002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имеет огромное общественное знач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642960" y="31431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ая зарпл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642960" y="3500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а с интересными люд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642960" y="414324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ировки, дающие возможность многое увиде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642960" y="5000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современной тех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4500720" y="2500200"/>
            <a:ext cx="3929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, связанные с устройством на рабо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4500720" y="3071880"/>
            <a:ext cx="38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ые командировки, осложняющие личную жиз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4500720" y="3571920"/>
            <a:ext cx="3714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получения образования (например, наличие печатных рабо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4500720" y="4357800"/>
            <a:ext cx="34290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ответст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вные перегруз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4500720" y="5072040"/>
            <a:ext cx="3643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нормированный рабочий ден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4500720" y="564372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ое общение с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делать правильный выбор - значит, найти профессию, котора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"/>
          <p:cNvSpPr/>
          <p:nvPr/>
        </p:nvSpPr>
        <p:spPr>
          <a:xfrm>
            <a:off x="214200" y="2286000"/>
            <a:ext cx="3929040" cy="392904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785880" y="2928960"/>
            <a:ext cx="285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ется спрос на рынке труда "НАДО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4857840" y="1857240"/>
            <a:ext cx="328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шлифовщик</a:t>
            </a: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сварщик</a:t>
            </a: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менеджер</a:t>
            </a: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агроном</a:t>
            </a: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сборщик</a:t>
            </a: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 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наладчик</a:t>
            </a: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главный механик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оператор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рабочий  техник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монтаж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слес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фрезеровщик инжен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e6d"/>
                </a:solidFill>
                <a:latin typeface="Arial"/>
              </a:rPr>
              <a:t>маркет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ор можно считать правильным, если соблюдается следующи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428760" y="2643120"/>
            <a:ext cx="814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 должны обладать набором профессионально важных для этой работы качеств- интеллектуальных, физических, личнос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28760" y="4429080"/>
            <a:ext cx="714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 профессия должна пользоваться спросом на рынк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57120" y="5500800"/>
            <a:ext cx="84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дущая работа должна быть в радость, а не в тя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Овал 1"/>
          <p:cNvSpPr/>
          <p:nvPr/>
        </p:nvSpPr>
        <p:spPr>
          <a:xfrm>
            <a:off x="3857760" y="1071720"/>
            <a:ext cx="2557440" cy="264312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А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2"/>
          <p:cNvSpPr/>
          <p:nvPr/>
        </p:nvSpPr>
        <p:spPr>
          <a:xfrm>
            <a:off x="3500280" y="3857760"/>
            <a:ext cx="2571840" cy="265752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ХО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3"/>
          <p:cNvSpPr/>
          <p:nvPr/>
        </p:nvSpPr>
        <p:spPr>
          <a:xfrm>
            <a:off x="6215040" y="2500200"/>
            <a:ext cx="2489400" cy="257184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М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857160" y="785880"/>
            <a:ext cx="2928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ан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рынка тру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ости и  желания самого человека даже не пересек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пиграф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Труд избавляет нас от трех великих зол: скуки, порока и нужды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                                                  Вольтер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-main-pic" descr="Картинка 3 из 604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2714760"/>
            <a:ext cx="3031920" cy="380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Овал 1"/>
          <p:cNvSpPr/>
          <p:nvPr/>
        </p:nvSpPr>
        <p:spPr>
          <a:xfrm>
            <a:off x="3857760" y="1071720"/>
            <a:ext cx="2557440" cy="264312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А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2"/>
          <p:cNvSpPr/>
          <p:nvPr/>
        </p:nvSpPr>
        <p:spPr>
          <a:xfrm>
            <a:off x="5643720" y="2143080"/>
            <a:ext cx="2489040" cy="257184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М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3"/>
          <p:cNvSpPr/>
          <p:nvPr/>
        </p:nvSpPr>
        <p:spPr>
          <a:xfrm>
            <a:off x="3786120" y="3000240"/>
            <a:ext cx="2571840" cy="265752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ХО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71680" y="1071720"/>
            <a:ext cx="3143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ариан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я рынка, возможности и желания человека пересекаются, хотя не совпад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Овал 1"/>
          <p:cNvSpPr/>
          <p:nvPr/>
        </p:nvSpPr>
        <p:spPr>
          <a:xfrm>
            <a:off x="4286160" y="2000160"/>
            <a:ext cx="3357720" cy="3571920"/>
          </a:xfrm>
          <a:prstGeom prst="ellipse">
            <a:avLst/>
          </a:prstGeom>
          <a:solidFill>
            <a:srgbClr val="a5b592">
              <a:alpha val="80000"/>
            </a:srgbClr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57120" y="714240"/>
            <a:ext cx="36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ариан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частливое совпадение требований рынка, возможностей и желания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3"/>
          <p:cNvSpPr/>
          <p:nvPr/>
        </p:nvSpPr>
        <p:spPr>
          <a:xfrm>
            <a:off x="4286160" y="428760"/>
            <a:ext cx="3357720" cy="3429000"/>
          </a:xfrm>
          <a:prstGeom prst="ellipse">
            <a:avLst/>
          </a:prstGeom>
          <a:solidFill>
            <a:srgbClr val="a5b592">
              <a:alpha val="60000"/>
            </a:srgbClr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2"/>
          <p:cNvSpPr/>
          <p:nvPr/>
        </p:nvSpPr>
        <p:spPr>
          <a:xfrm>
            <a:off x="4286160" y="1285920"/>
            <a:ext cx="3357720" cy="3429000"/>
          </a:xfrm>
          <a:prstGeom prst="ellipse">
            <a:avLst/>
          </a:prstGeom>
          <a:solidFill>
            <a:srgbClr val="a5b592">
              <a:alpha val="60000"/>
            </a:srgbClr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а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М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Хоч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57120" y="142920"/>
            <a:ext cx="8429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обери пословиц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Без дела жить, только небо копти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Кто рано встает, тому Бог подае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Без труда не выловишь и рыбку из пруд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Была бы охота, а работа найдет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Взялся за гуж, не говори, что не дюж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Глаза страшатся, а руки делаю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Есть терпенье – будет и умень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Кто не работает, тот и не ес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.Семь раз отмерь, а один раз отреж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Что можешь сделать сегодня, не откладывай на завтр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.Не боги горшки обжигаю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ловой стиль одеж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85680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овой стиль одеж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7440" y="785880"/>
            <a:ext cx="4329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ловой стиль исключа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ртивную одежд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стовк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йк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еды и другу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ртивную обу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0" y="1571760"/>
            <a:ext cx="2571840" cy="275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1714680" y="3643200"/>
            <a:ext cx="2592360" cy="3071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7143840" y="1214280"/>
            <a:ext cx="1785960" cy="2125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4"/>
          <a:stretch/>
        </p:blipFill>
        <p:spPr>
          <a:xfrm>
            <a:off x="5500800" y="3071880"/>
            <a:ext cx="1957320" cy="2395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5"/>
          <a:stretch/>
        </p:blipFill>
        <p:spPr>
          <a:xfrm>
            <a:off x="6929280" y="4000680"/>
            <a:ext cx="2214720" cy="2101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6"/>
          <a:stretch/>
        </p:blipFill>
        <p:spPr>
          <a:xfrm>
            <a:off x="4500720" y="4429080"/>
            <a:ext cx="1722240" cy="212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500040" y="428760"/>
            <a:ext cx="807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Если вы удачно выберите труд и вложите в него всю свою душу, то счастье само вас отыщ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.Д.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Картинка 4 из 52676"/>
          <p:cNvPicPr/>
          <p:nvPr/>
        </p:nvPicPr>
        <p:blipFill>
          <a:blip r:embed="rId1"/>
          <a:stretch/>
        </p:blipFill>
        <p:spPr>
          <a:xfrm>
            <a:off x="214200" y="2000160"/>
            <a:ext cx="4357800" cy="3254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Картинка 46 из 52676"/>
          <p:cNvPicPr/>
          <p:nvPr/>
        </p:nvPicPr>
        <p:blipFill>
          <a:blip r:embed="rId2"/>
          <a:stretch/>
        </p:blipFill>
        <p:spPr>
          <a:xfrm>
            <a:off x="4929120" y="2786040"/>
            <a:ext cx="389592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"/>
          <p:cNvPicPr/>
          <p:nvPr/>
        </p:nvPicPr>
        <p:blipFill>
          <a:blip r:embed="rId1"/>
          <a:stretch/>
        </p:blipFill>
        <p:spPr>
          <a:xfrm>
            <a:off x="6858000" y="2714760"/>
            <a:ext cx="1890720" cy="252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Дом\Мои документы\Мои рисунки\Анимашки\Люди\human135.gif"/>
          <p:cNvPicPr/>
          <p:nvPr/>
        </p:nvPicPr>
        <p:blipFill>
          <a:blip r:embed="rId2"/>
          <a:stretch/>
        </p:blipFill>
        <p:spPr>
          <a:xfrm>
            <a:off x="214200" y="3643200"/>
            <a:ext cx="2479680" cy="242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im2-tub-ru.yandex.net/i?id=132677938-06-72"/>
          <p:cNvPicPr/>
          <p:nvPr/>
        </p:nvPicPr>
        <p:blipFill>
          <a:blip r:embed="rId3"/>
          <a:stretch/>
        </p:blipFill>
        <p:spPr>
          <a:xfrm>
            <a:off x="3143160" y="3571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http://im0-tub-ru.yandex.net/i?id=292500502-56-72"/>
          <p:cNvPicPr/>
          <p:nvPr/>
        </p:nvPicPr>
        <p:blipFill>
          <a:blip r:embed="rId4"/>
          <a:stretch/>
        </p:blipFill>
        <p:spPr>
          <a:xfrm>
            <a:off x="285840" y="785880"/>
            <a:ext cx="2235240" cy="200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im4-tub-ru.yandex.net/i?id=324735483-68-72"/>
          <p:cNvPicPr/>
          <p:nvPr/>
        </p:nvPicPr>
        <p:blipFill>
          <a:blip r:embed="rId5"/>
          <a:stretch/>
        </p:blipFill>
        <p:spPr>
          <a:xfrm>
            <a:off x="3357720" y="4071960"/>
            <a:ext cx="257148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6643800" y="1285920"/>
            <a:ext cx="221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? ? ?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во профессия произошло от латинского «profiteer , что переводится как «объявлять своим делом», «говорить публично», «заявлять»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214200" y="571680"/>
            <a:ext cx="892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то это за профессии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следнее время появилось много новых и модных профессий. Знаете ли вы их? Вот сейчас мы это и проверим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Лог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ст – специалист по организации транспортировки продукции. Профессия приобретает все больший спрос, для ее получения необходимы экономическое образование и курсы специализаци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еб – мастер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б – мастер - работает с сетями, разрабатывает проекты сайтов. В настоящее время наблюдается пик востребованности профессии. Спрос со временем упадет, но веб-мастер может легко переквалифицироваться в менеджера информационных сетей, специалиста по информационным технологиям. Для этого важно иметь образование в области экономики или управления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28760" y="571680"/>
            <a:ext cx="8429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Маркетолог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етолог – тот, кто изучает рынок. Спрос на профессию постоянно высокий. Приоритет имеют те, кто обладает способностью к анализу и письменному изложению его результатов. Наиболее желательно иметь одновременно экономическое и инженерно-техническое образовани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андрейз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дрейзер – ищет деньги и возможности для организаций. Спрос на профессию постоянно высок. Необходим целый комплекс способностей: умение общаться, уверенность в себе, аналитические склонности, интуиция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PR - аген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R - агент - специалист по рекламе и связям с общественностью. Необходимо гуманитарное образование, например «политолог» или «журналист». В России эта профессия часто называется «пресс – секретарь» и пользуется неизменным спросом как на предприятиях, так и в различных общественно-политических объедин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. Человек-природ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. 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т тип объединяет профессии, представители которых имеют дело с объектами, явлениями и процессами живой и неживой природы (ветеринар, агроном, гидролог, овцевод, механизатор, тракторист). Для них характерен общий предмет труда - животные и растения, почва и воздушная среда - природ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1933560" cy="262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18"/>
          <p:cNvPicPr/>
          <p:nvPr/>
        </p:nvPicPr>
        <p:blipFill>
          <a:blip r:embed="rId2"/>
          <a:stretch/>
        </p:blipFill>
        <p:spPr>
          <a:xfrm>
            <a:off x="5867280" y="4292640"/>
            <a:ext cx="3095640" cy="2063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3000240" y="3643200"/>
            <a:ext cx="2254320" cy="300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6520" cy="33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. Человек-техник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могут быть пилоты, водители, матросы, электромонтёры, слесари и т.д., использующие технические устройств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17"/>
          <p:cNvPicPr/>
          <p:nvPr/>
        </p:nvPicPr>
        <p:blipFill>
          <a:blip r:embed="rId1"/>
          <a:stretch/>
        </p:blipFill>
        <p:spPr>
          <a:xfrm>
            <a:off x="3143160" y="3143160"/>
            <a:ext cx="2519280" cy="166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4"/>
          <p:cNvPicPr/>
          <p:nvPr/>
        </p:nvPicPr>
        <p:blipFill>
          <a:blip r:embed="rId2"/>
          <a:stretch/>
        </p:blipFill>
        <p:spPr>
          <a:xfrm>
            <a:off x="3643200" y="4929120"/>
            <a:ext cx="2665440" cy="175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07"/>
          <p:cNvPicPr/>
          <p:nvPr/>
        </p:nvPicPr>
        <p:blipFill>
          <a:blip r:embed="rId3"/>
          <a:stretch/>
        </p:blipFill>
        <p:spPr>
          <a:xfrm>
            <a:off x="6072120" y="642960"/>
            <a:ext cx="2556000" cy="20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4"/>
          <a:stretch/>
        </p:blipFill>
        <p:spPr>
          <a:xfrm>
            <a:off x="285840" y="4000680"/>
            <a:ext cx="2425680" cy="179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5"/>
          <a:stretch/>
        </p:blipFill>
        <p:spPr>
          <a:xfrm>
            <a:off x="6500880" y="3000240"/>
            <a:ext cx="222084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2904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. Человек-человек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т для специалиста предметом труда является другой человек, а характерной чертой деятельности - необходимость воздействия на других людей. К такому типу профессий относятся учитель, врач, журналист и продавец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09"/>
          <p:cNvPicPr/>
          <p:nvPr/>
        </p:nvPicPr>
        <p:blipFill>
          <a:blip r:embed="rId1"/>
          <a:stretch/>
        </p:blipFill>
        <p:spPr>
          <a:xfrm>
            <a:off x="6429240" y="357120"/>
            <a:ext cx="2089440" cy="14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03"/>
          <p:cNvPicPr/>
          <p:nvPr/>
        </p:nvPicPr>
        <p:blipFill>
          <a:blip r:embed="rId2"/>
          <a:stretch/>
        </p:blipFill>
        <p:spPr>
          <a:xfrm>
            <a:off x="5143680" y="1857240"/>
            <a:ext cx="2663640" cy="177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"/>
          <p:cNvPicPr/>
          <p:nvPr/>
        </p:nvPicPr>
        <p:blipFill>
          <a:blip r:embed="rId3"/>
          <a:stretch/>
        </p:blipFill>
        <p:spPr>
          <a:xfrm>
            <a:off x="5143680" y="4071960"/>
            <a:ext cx="2009520" cy="247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Копия 21"/>
          <p:cNvPicPr/>
          <p:nvPr/>
        </p:nvPicPr>
        <p:blipFill>
          <a:blip r:embed="rId4"/>
          <a:stretch/>
        </p:blipFill>
        <p:spPr>
          <a:xfrm>
            <a:off x="6622920" y="3857760"/>
            <a:ext cx="2521080" cy="240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7:20:53Z</dcterms:created>
  <dc:creator>Химия2</dc:creator>
  <dc:description/>
  <dc:language>en-US</dc:language>
  <cp:lastModifiedBy>Химия2</cp:lastModifiedBy>
  <dcterms:modified xsi:type="dcterms:W3CDTF">2012-04-03T09:33:01Z</dcterms:modified>
  <cp:revision>49</cp:revision>
  <dc:subject/>
  <dc:title>«Прекрасных профессий на свете не счесть, И каждой профессии слава и честь!» </dc:title>
</cp:coreProperties>
</file>