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50E8-A9CB-41CA-9F31-E4223154F7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 на главную страниц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&gt;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 на страницу выбора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94A-0425-473D-A29C-5E1EAAEA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1FE-442E-41AF-82DE-8246105D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204-0163-42DE-AE57-59ED0DAF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28B-06BF-4546-BC5B-808C0057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9CD2-37EC-4A37-9DE1-E3878D32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ED93-6954-468A-ACED-08A4EE3E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D8E6-E7A1-4721-921C-F2526E98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7ED4-2D39-453D-A472-7529CB2B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527F-1C81-4822-B8A1-877F49D5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7CFB-C4ED-4523-A294-1F8DA317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B46A-D793-459A-9D40-A9DEE8DA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919-5468-4BE1-9793-3D0CDE93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ED3D-3D8A-4D72-907A-7F08D809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E2D8-8102-4E62-BD12-BFA63E88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C98F-0EAA-4F73-B8CC-B55CD099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6D5E-5A24-45F5-B81A-2F0C4367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231D-9987-4F0F-8F59-05308B38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E2A-5595-4DC4-87EE-42DACECB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37B-3ECD-4016-8856-5AD389F8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620-F4FC-44A6-A64C-BE1B4E94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689-17C0-4D8B-BF09-13FE6208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E62-F0DB-4D04-83A9-1555C1D9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5C28-5B1C-4F31-81FD-1C628899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85E-51F1-4F86-A0D3-B947E3C9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F411-74DE-4692-AE12-BC1BDE0AEDD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68E8-AC4F-4B6B-AC3D-A9B3975371F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ГР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то умнее пятиклассни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класс (математика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ъёмная фигура, плоским изображением которой является кру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*3+3/3=10 Используя + - * / все знаки действия составьте вер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lt;&lt;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&gt;&g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класс (математика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енту разрезали на 3 части, затем одну из этих частей ещё на 4. На сколько частей разрезали ленту? Сколько сделали разрез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lt;&lt;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&gt;&g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 класс (математика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украшения двух коробок взяли 19 ракушек и наклеили их так, что на одной коробке оказалось на 3 ракушки больше, чем на другой. Сколько ракушек на каждой коробке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чём измеряется площад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 класс (Природоведе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 теряет лось каждую зиму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 такое природ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класс (природоведе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де у кузнечика ух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ый ядовитый гри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 чего состоит термометр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lt;&lt;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&gt;&g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класс (природоведе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е дерево, как и берёза, даёт сладкий  сок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й цветок первым произрастает на месте лесных пожаров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lt;&lt;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&gt;&g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 класс (природоведе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такое линия горизонт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ет ли слюна переваривать пищ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де находятся кровеносные сосуд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lt;&lt;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&gt;&g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класс (русский язык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пределите части речи в предложен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Тихо в ночном лес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 такое тема текст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гадайте зашифрованное слов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ЛБУНИК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ЖИНЫНО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lt;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 класс (русский язык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зуйте от данного слова имя существительное приставочно-суффиксальным способо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Окн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берите к словам слово-синони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алфави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чисты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прыгат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зовите, что такое склонение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зовите, какие приставки бывают у местоимений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колько времен у глагола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класс (история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чего шел отсчет времени у древних египтян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куда появилось понятие «христианская эра»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означает в переводе с греческого генеалогия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анализировав пары слов, назовите недостающее слов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Декабрь           Октябрь                  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студень          листопад           травень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 у древних славян назывался главный бог грома и молний, которому приносили в жертву животных и дани людей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lt;&lt;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&gt;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Рисование. Искусств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Природовед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Чт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 класс (история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зовите символы государств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какими именами связано появление славянской азбуки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сстанови последовательность царей династии Романов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3. Петр Алексеевич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1. Михаил Федорович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4. Елизавета Петро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2. Алексей Михайлович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lt;&lt;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&gt;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 класс (чте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то автор сказки Айболит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зовите слово, в котором  звуков больше, чем бук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ЮНОСТЬ, ОДЕЯЛО, ДВЕРЬ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берите слово, в котором есть только мягкие зву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ОДИТЕЛЬ, ПЕНЬКИ, ЖИТЕ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lt;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класс (чте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какой книге С. Маршак рассказал про обитателей зоопар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то из героев русской народной сказки был хлебобулочным изделием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е домашнее животное однажды принесло хозяевам изделие из драгоценного металл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&gt;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класс (чте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го маленькая разбойница дала в помощь Герд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го превратились 11 братьев-принцев из сказки Андерсен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&lt;-&gt;&g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 класс (чте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кому обратился царь Дадон с просьбой о помощ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&lt;-&gt;&g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лассы (математика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3 класс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4 класс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&l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исование. Искус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то такое палитра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то такое пейзаж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зовите три кита в музык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зовите величайшего итальянского художника эпохи возрожде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 смешивание каких красок можно получить зелёный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зовите художника картины «Богатыри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коё цвет средний в радуге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ся поёт слова КЕНГУРУ. Каждый гласный звук он тянет 5 секунд, а на каждыё согласный он тратит 1 секунду. Сколько времени он поёт это слово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lt;&l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лассы (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Природоведе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1 класс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3 класс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&l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лассы (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Русский язык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4 класс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&lt;&l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лассы (история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3 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&lt;&l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лассы (чте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лас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&l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 класс(математика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какой фигуры четыре стороны равн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а фигура получается путём прикосновения ме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этой фигуры пять угл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&lt;&lt;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&gt;&g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06:15:04Z</dcterms:created>
  <dc:creator>Computer</dc:creator>
  <dc:description/>
  <dc:language>en-US</dc:language>
  <cp:lastModifiedBy>Computer</cp:lastModifiedBy>
  <dcterms:modified xsi:type="dcterms:W3CDTF">2008-02-01T16:25:43Z</dcterms:modified>
  <cp:revision>5</cp:revision>
  <dc:subject/>
  <dc:title>Кто умнее </dc:title>
</cp:coreProperties>
</file>