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763-D834-420C-9770-084CD9D7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770-F63B-4E0B-925F-A2FB681A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2CA-CC15-4A0B-ACFD-A772D0FF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711-A260-4830-B9D6-905EE916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33FC-2D58-4A71-9A56-89CFEA79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9C46-23F2-4877-92BE-21FDE7E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46E2-A091-4DD8-990E-51AD6F1A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19A-7F96-4FBD-B81B-F756D36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A9B2-A5A0-4A07-8857-5EC41434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D7FB-F8D1-4E16-B3EF-3215D96F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344-8B09-4569-883A-3C08D007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8B8-9F28-4E70-8C5B-BC1B2B4D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C80D-8C84-4553-B2BA-994900C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0272-A30E-47B0-8680-72E0E94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808D-0FFD-48F2-B4AB-9675D3A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3057-04DB-42CD-9F09-4EBFF029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6E6A-180C-42B9-82DD-064AE608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B82-507D-4B3A-BC09-D6EB51BB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0FC-EE4F-42E5-BE5C-F0722CFF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1CA-DF93-4078-A544-10680B78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56A-3249-4615-966A-8A76E81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7B1-B6F5-4DB4-BD41-9DFF3951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E12-3F55-4683-BE53-D818A6B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D2F-22E4-4F4B-A5AD-1037536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833-769C-4D40-BED5-58A7C415E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D280-C482-40DC-8485-1C90B5BA51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7928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«Как помочь ребёнку стать внимательным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1332000" y="765000"/>
            <a:ext cx="6748200" cy="16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тельское собр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10" descr="j0216708"/>
          <p:cNvPicPr/>
          <p:nvPr/>
        </p:nvPicPr>
        <p:blipFill>
          <a:blip r:embed="rId3"/>
          <a:stretch/>
        </p:blipFill>
        <p:spPr>
          <a:xfrm>
            <a:off x="6372360" y="2637000"/>
            <a:ext cx="237636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4000" spc="-1" strike="noStrike" u="sng">
                <a:solidFill>
                  <a:srgbClr val="336699"/>
                </a:solidFill>
                <a:uFillTx/>
                <a:latin typeface="Verdana"/>
              </a:rPr>
              <a:t>Объём внимания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у взрослых  колеблется в пределах от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4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до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6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объектов, у школьников (в зависимости от возраста) – от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2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до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5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объект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10450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-это ум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выполнять д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или боле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разли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деятельности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удерживая 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них своё внимание.</a:t>
            </a:r>
            <a:r>
              <a:rPr b="1" lang="ru-RU" sz="40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468360" y="189000"/>
            <a:ext cx="784872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пределение внимания</a:t>
            </a:r>
            <a:endParaRPr b="1" i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5" descr="j0295476"/>
          <p:cNvPicPr/>
          <p:nvPr/>
        </p:nvPicPr>
        <p:blipFill>
          <a:blip r:embed="rId3"/>
          <a:stretch/>
        </p:blipFill>
        <p:spPr>
          <a:xfrm>
            <a:off x="5435640" y="1557360"/>
            <a:ext cx="33242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- это</a:t>
            </a:r>
            <a:r>
              <a:rPr b="1" i="1" lang="ru-RU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Verdana"/>
              </a:rPr>
              <a:t>сознательное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Verdana"/>
              </a:rPr>
              <a:t>осмысленное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перемещение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внимания с одного предмета или действия на другие,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перестройка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 внимания, его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переход </a:t>
            </a:r>
            <a:r>
              <a:rPr b="1" lang="ru-RU" sz="3200" spc="-1" strike="noStrike">
                <a:solidFill>
                  <a:srgbClr val="003366"/>
                </a:solidFill>
                <a:latin typeface="Verdana"/>
              </a:rPr>
              <a:t>с одного объекта на другой в связи с изменением задачи деятельност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755640" y="18900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еключение внима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могите вашим детям стать внимательны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обретайте, читайте и используйте книги, в которых можно найти упражнения и игры, способствующие развитию внима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айте вместе с детьми в различные игры, развивающие внима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539640" y="189000"/>
            <a:ext cx="79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омендации родителям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66280" y="404640"/>
            <a:ext cx="80010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учите играть детей в шахматы и шашки, ведь эти игры называют «Школой внимания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 детей быть наблюдательными – умеющими замечать изменения, происходящие в окружающем мире, видеть необычное в обычно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 rot="214800">
            <a:off x="-252360" y="0"/>
            <a:ext cx="835344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Спасибо за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внимание !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</p:txBody>
      </p:sp>
      <p:pic>
        <p:nvPicPr>
          <p:cNvPr id="117" name="Picture 38" descr="j0233960"/>
          <p:cNvPicPr/>
          <p:nvPr/>
        </p:nvPicPr>
        <p:blipFill>
          <a:blip r:embed="rId1"/>
          <a:stretch/>
        </p:blipFill>
        <p:spPr>
          <a:xfrm>
            <a:off x="6156360" y="3933720"/>
            <a:ext cx="25383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66cc"/>
                </a:solidFill>
                <a:latin typeface="Verdana"/>
              </a:rPr>
              <a:t>     </a:t>
            </a:r>
            <a:r>
              <a:rPr b="1" i="1" lang="ru-RU" sz="3800" spc="-1" strike="noStrike">
                <a:solidFill>
                  <a:srgbClr val="3366cc"/>
                </a:solidFill>
                <a:latin typeface="Verdana"/>
              </a:rPr>
              <a:t>Цел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8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6699"/>
                </a:solidFill>
                <a:latin typeface="Verdana"/>
              </a:rPr>
              <a:t>Познакомить родителей с понятием внимания и его основными свойствам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8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6699"/>
                </a:solidFill>
                <a:latin typeface="Verdana"/>
              </a:rPr>
              <a:t>Изучить в ходе собрания упражнения и игры по развитию внимания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Что такое внимание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" descr="j0232133"/>
          <p:cNvPicPr/>
          <p:nvPr/>
        </p:nvPicPr>
        <p:blipFill>
          <a:blip r:embed="rId1"/>
          <a:stretch/>
        </p:blipFill>
        <p:spPr>
          <a:xfrm>
            <a:off x="0" y="1916280"/>
            <a:ext cx="4700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i="1" lang="ru-RU" sz="6000" spc="-1" strike="noStrike">
                <a:solidFill>
                  <a:srgbClr val="3366cc"/>
                </a:solidFill>
                <a:latin typeface="Verdana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336699"/>
                </a:solidFill>
                <a:latin typeface="Verdana"/>
              </a:rPr>
              <a:t>– </a:t>
            </a:r>
            <a:r>
              <a:rPr b="1" lang="ru-RU" sz="4800" spc="-1" strike="noStrike">
                <a:solidFill>
                  <a:srgbClr val="336699"/>
                </a:solidFill>
                <a:latin typeface="Verdana"/>
              </a:rPr>
              <a:t>это </a:t>
            </a:r>
            <a:r>
              <a:rPr b="1" lang="ru-RU" sz="4800" spc="-1" strike="noStrike">
                <a:solidFill>
                  <a:srgbClr val="cc3300"/>
                </a:solidFill>
                <a:latin typeface="Verdana"/>
              </a:rPr>
              <a:t>направленность</a:t>
            </a:r>
            <a:r>
              <a:rPr b="1" lang="ru-RU" sz="4800" spc="-1" strike="noStrike">
                <a:solidFill>
                  <a:srgbClr val="336699"/>
                </a:solidFill>
                <a:latin typeface="Verdana"/>
              </a:rPr>
              <a:t> и </a:t>
            </a:r>
            <a:r>
              <a:rPr b="1" lang="ru-RU" sz="4800" spc="-1" strike="noStrike">
                <a:solidFill>
                  <a:srgbClr val="cc3300"/>
                </a:solidFill>
                <a:latin typeface="Verdana"/>
              </a:rPr>
              <a:t>сосредоточенность</a:t>
            </a:r>
            <a:r>
              <a:rPr b="1" lang="ru-RU" sz="4800" spc="-1" strike="noStrike">
                <a:solidFill>
                  <a:srgbClr val="336699"/>
                </a:solidFill>
                <a:latin typeface="Verdana"/>
              </a:rPr>
              <a:t> нашего сознания на определенном объекте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32000" y="404640"/>
            <a:ext cx="5467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внимания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728640" y="2637000"/>
            <a:ext cx="768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оизвольное (непреднамеренное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извольное (преднамеренное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Сосредоточен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          </a:t>
            </a: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Устойчив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Объё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Распределение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Переключение</a:t>
            </a:r>
            <a:r>
              <a:rPr b="0" lang="ru-RU" sz="4000" spc="-1" strike="noStrike">
                <a:solidFill>
                  <a:srgbClr val="3366cc"/>
                </a:solidFill>
                <a:latin typeface="Verdan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539640" y="47628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йства внима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11" descr="j0343363"/>
          <p:cNvPicPr/>
          <p:nvPr/>
        </p:nvPicPr>
        <p:blipFill>
          <a:blip r:embed="rId1"/>
          <a:stretch/>
        </p:blipFill>
        <p:spPr>
          <a:xfrm>
            <a:off x="324000" y="2421000"/>
            <a:ext cx="395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это </a:t>
            </a:r>
            <a:r>
              <a:rPr b="1" lang="ru-RU" sz="3200" spc="-1" strike="noStrike">
                <a:solidFill>
                  <a:srgbClr val="3366cc"/>
                </a:solidFill>
                <a:latin typeface="Verdana"/>
              </a:rPr>
              <a:t>удержа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на одном объект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или одном вид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при отвлечен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от всего остального.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WordArt 15"/>
          <p:cNvSpPr txBox="1"/>
          <p:nvPr/>
        </p:nvSpPr>
        <p:spPr>
          <a:xfrm>
            <a:off x="539640" y="333360"/>
            <a:ext cx="777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редоточенность внимания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16" descr="j0343353"/>
          <p:cNvPicPr/>
          <p:nvPr/>
        </p:nvPicPr>
        <p:blipFill>
          <a:blip r:embed="rId1"/>
          <a:stretch/>
        </p:blipFill>
        <p:spPr>
          <a:xfrm>
            <a:off x="5292720" y="1484280"/>
            <a:ext cx="36021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154980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-это </a:t>
            </a:r>
            <a:r>
              <a:rPr b="1" lang="ru-RU" sz="3000" spc="-1" strike="noStrike">
                <a:solidFill>
                  <a:srgbClr val="3366cc"/>
                </a:solidFill>
                <a:latin typeface="Verdana"/>
              </a:rPr>
              <a:t>длительно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cc"/>
                </a:solidFill>
                <a:latin typeface="Verdana"/>
              </a:rPr>
              <a:t>удерж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вним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на предме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и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какой-нибуд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cc3300"/>
                </a:solidFill>
                <a:latin typeface="Verdana"/>
              </a:rPr>
              <a:t>деятельности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68360" y="26028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ойчивость внима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8" descr="j0346645"/>
          <p:cNvPicPr/>
          <p:nvPr/>
        </p:nvPicPr>
        <p:blipFill>
          <a:blip r:embed="rId1"/>
          <a:stretch/>
        </p:blipFill>
        <p:spPr>
          <a:xfrm>
            <a:off x="5219640" y="1628640"/>
            <a:ext cx="3384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5564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00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это количество объектов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котор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охватываются вниманием одновременно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971640" y="0"/>
            <a:ext cx="73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ъём  внимани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18" descr="j0233990"/>
          <p:cNvPicPr/>
          <p:nvPr/>
        </p:nvPicPr>
        <p:blipFill>
          <a:blip r:embed="rId1"/>
          <a:stretch/>
        </p:blipFill>
        <p:spPr>
          <a:xfrm>
            <a:off x="395280" y="2421000"/>
            <a:ext cx="39956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6:30:40Z</dcterms:created>
  <dc:creator>Хозяин</dc:creator>
  <dc:description/>
  <dc:language>en-US</dc:language>
  <cp:lastModifiedBy>Zver</cp:lastModifiedBy>
  <dcterms:modified xsi:type="dcterms:W3CDTF">2008-10-28T14:07:18Z</dcterms:modified>
  <cp:revision>8</cp:revision>
  <dc:subject/>
  <dc:title>Слайд 1</dc:title>
</cp:coreProperties>
</file>