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71A7-4B46-4410-9CE3-2B3341CE4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звания, фронт, боевой пу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FA7-88FC-4876-9711-CDA5455E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6DB-87D1-480E-A2AE-37CD838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467-35FD-4569-9A73-7C4ED3D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5FB-934A-46D6-A6DE-701D59DB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99F-9BF8-401A-A0F1-D73CF05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CA2-EAF4-4690-B481-82601CA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025-6D97-407B-9627-DB5D0E3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311-FAB2-461B-86B1-20147B6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450-6F74-4C51-BED8-A604910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196-33CB-4959-BA28-6A060FA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C19-D5B6-44CB-AA58-699BEAA6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F7D-92D5-4E47-B7BD-265D1DD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D560-9691-4C7A-B206-982B33CE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341360"/>
            <a:ext cx="5735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раблёв Николай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5.08.1922 - 07.11.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4127400"/>
            <a:ext cx="7561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912000" cy="445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5445000"/>
            <a:ext cx="70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/ч Опухлики. Выступление на митинге у воинского захор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550800"/>
            <a:ext cx="8496360" cy="489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771640" y="333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640" y="58975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йну начал в июле 1941 г. под Брянском. Был комсор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8680" y="1159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е годы 1944-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377856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85320" y="44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янский фронт 21 декабря 194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7280" y="611352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октября 1942 было присвоено звание 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690" t="0" r="0" b="0"/>
          <a:stretch/>
        </p:blipFill>
        <p:spPr>
          <a:xfrm>
            <a:off x="468360" y="620640"/>
            <a:ext cx="8396280" cy="469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197000"/>
            <a:ext cx="79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7040" y="4046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е годы 1943-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23840" y="5537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кабре 1943 присвоено звание капитана. В 1941-1944 гг. прошел боевой путь от Орла до Восточной Пру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523800"/>
            <a:ext cx="8507520" cy="585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34720" y="4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80000" y="189000"/>
            <a:ext cx="57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360" y="6491160"/>
            <a:ext cx="553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44 г. Был переведен в политотдел 3-й Ар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11940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95640" y="18900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демобилизацией, апрель 19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120" y="496080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жден медалями: За отвагу (1943), За взятие Кенигсберга, За взятие Берлина, За победу над Германией.  Двумя орденами Красной Звезды, двумя орденами Отечественной вой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и, юбилейными медалями и еще одним орденом Отечественной в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402000" cy="496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60320" y="1159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. Работа в Совете ветер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57340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л в составе президиума городского Совета ветеранов и возглавлял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769080" cy="432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2200" y="5248440"/>
            <a:ext cx="71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тупление на торжественном сборе пионерской дружины «Орлята» школы-интерната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04.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345440" cy="482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6920" y="5661000"/>
            <a:ext cx="41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гневой позиции. В/ч в Опухл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05.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6:37:17Z</dcterms:created>
  <dc:creator>Admin</dc:creator>
  <dc:description/>
  <dc:language>en-US</dc:language>
  <cp:lastModifiedBy>Николай</cp:lastModifiedBy>
  <dcterms:modified xsi:type="dcterms:W3CDTF">2013-05-06T18:28:22Z</dcterms:modified>
  <cp:revision>6</cp:revision>
  <dc:subject/>
  <dc:title>Слайд 1</dc:title>
</cp:coreProperties>
</file>