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77D3-1375-4EA5-9CF9-21789CC85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8FCF-E246-4285-AAE4-6EC5C95E1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C6F9-DB23-4CC5-8C2C-79EC11668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3C99-8A99-4D5E-8252-B2D446103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02DC-B6DC-4B32-9524-325FED2FB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6CD5-8955-4A29-8830-F8B71CB17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0C18-CDB7-4B79-A58F-96F88B75B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9C6E-EEA8-48A8-8573-89BEB80EE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44BD-233D-4965-AB15-96BE29A11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3F0E-2F61-4B23-8DD8-89C454D6C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24D0-11E2-4E3C-9879-F333286C4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68FE-6B30-4886-907E-B8002979C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AD96B-1AB3-4EF8-943E-BD16734D1BC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0040" y="1571400"/>
            <a:ext cx="8229600" cy="301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03152"/>
                </a:solidFill>
                <a:latin typeface="Calibri"/>
              </a:rPr>
              <a:t>Регламент введения журналов успеваемости учащихся в электронном виде в общеобразовательных учреждениях города Великие Лук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28760" y="14292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Завершение подготовительного этап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2876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сле    завершения    предварительного этапа    директор    ОУ,    по согласованию с Учредителем, издает приказ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едписывающий ОУ использование выбранной модели ЭЖ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казывающий сроки введения ЭЖ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пределяющий план выполнения работ по подготовке к внедрению ЭЖ, включающий план выделения необходимых ресурс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Этап проектирования нормативного и регламентационного обеспече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142560" y="1357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здание директором ОУ приказа о порядке подготовки к использованию ЭЖ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нализ имеющейся нормативной базы и подготовка проектов, включая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лан работ по реализации модели функционирования ОУ с использованием ЭЖ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оекты изменений в действующих документах и проекты новых документ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рганизация и проведение общественного обсуждения документов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рганизация работы с соблюдением                             ФЗ  «О персональных данных»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рганизация правовой экспертизы локальных акт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Этап согласования и принятия нормативной баз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213840" y="1285920"/>
            <a:ext cx="875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ссмотрение и согласование документов педагогическим советом, управляющим советом ОУ или согласование с Учредителям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здание директором ОУ приказа, в котором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1. Утверждается план работ по реализации модели функционирования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ОУ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2. Утверждается Регламент деятельности участников образовательного процесса: определяется ответственность лиц за сохранность данных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3. Формируются группы выполняющие задачи по внедрению и использованию ЭЖ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4. Утверждается план обучения сотрудников школы и их аттестации в  использовании ЭЖ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5. Утверждаются регламенты деятельности отдельных участников образовательного процесса, связанные с использованием ЭЖ, в том числе - положения о подразделениях, измененные (расширенные) должностные инструкции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6. Распределяются функции служб школы, включенных в Регламенты деятельности 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7. Определяется ответственность за имеющиеся и планируемые к получению средства ИКТ-инфраструктуры, распределение этих средств по помещениям школы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пределяются настройки ЭЖ, порядок заполнения исходных массивов данных и т. д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Локальные акты, регламентирующие деятельность ОУ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214200" y="1285920"/>
            <a:ext cx="8786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став ОУ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оговор ОУ с учредителем (учредителями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оговор ОУ с родителям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олжностные инструкции работников, в том числе административного персонала, преподавателей, классных руководителе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ложение об установлении надбавок и доплат к должностным окладам сотрудников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ложение о внутришкольном контрол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ложение об учебном кабинет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нструкции по безопасности и правила работы на травмоопасных участках, рабочих местах, в учебных кабинетах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ложение об аттестации педагогических кадр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14200" y="213840"/>
            <a:ext cx="8786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Локальные акты, регламентирующие права участников образовательного процесс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8543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авила приема в школу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авила поведения учащихс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авила внутреннего распорядка образовательного учреждени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удовой договор (контракт) с работникам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ложение о системе оценок, форм, порядке и периодичности промежуточной и итоговой аттестации обучающихся, положение о Портфолио учащегос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ложение о формах получения образования в данном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разовательном учрежден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2920" y="274320"/>
            <a:ext cx="8858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Локальные акты, регламентирующие деятельность профессиональных объединений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28760" y="1857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ложение о педагогическом совет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ложение о творческих группах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ложение о методическом совет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ложение о кафедр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ллективный договор между учреждением и работникам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Критерии применимости ЭЖ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42920" y="1213920"/>
            <a:ext cx="87580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язательный минимум организационно-технических условий внедрения ЭЖ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инимальные условия для пилотного ведения учета (в ограниченном варианте без отмены бумажного журнала)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1. Компьютерный класс или сопоставимое число иных устройств доступа к ЭЖ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2. Открытый доступ учителей к ЭЖ (например, в учительской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3. График работы устройств доступа к ЭЖ, достаточный для ввода данных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4. Регламент   оказания   технической   и   методической   помощи педагогическим работникам ОУ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словия для внедрения ЭЖ в полном объеме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Наличие доступа к ЭЖ в каждом классе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Наличие мобильного доступа к ЭЖ у каждого педагогического работника ОУ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Рекомендации по модели пилотного внедрения ЭЖ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нижение трудозатрат учителя на внедрение ЭЖ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нижение  трудозатрат Администрации ОУ на внедрение ЭЖ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ведение простого пилотного учет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ведение исследовательского пилотного уче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28760" y="14292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Источники разработк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285840" y="1071720"/>
            <a:ext cx="8501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Распоряжение Правительства Российской Федерации от 27 февраля 2010 г. № 246-р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Распоряжение Правительства Российской Федерации от 20 февраля 2010 года №185-р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135-ФЗ "О защите конкуренции"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Закон от 27.07.2010 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 210-ФЗ «Об организации предоставления государственных и муниципальных услуг»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Закон от 10 июля 1992 года 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 3266-1 «Об образовании»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Закон от 27 июля 2006 г. 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 149-ФЗ «Об информации, информационных технологиях и о защите информации»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Закон от 27 июля 2006 г. 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 152-ФЗ «О персональных данных»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Закон от 6 апреля 2011 г. 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 63-ФЗ «Об электронной подписи»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Приказ от 6 мая 2005 №137 Минобрнауки России «Об использовании дистанционных образовательных технологий»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Приказ от 22 августа 2008 г. Минобрнауки России 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243, включающего «Административный регламент Рособрнадзора»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Письма от 20.12.2000 Минобразования РФ 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 03-51/64, включающего «Методические рекомендации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по работе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с документами в  ОУ»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Приказ от 27.07.2009 Росстата 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 150 «Об утверждении статистического инструментария для организации Рособразованием статистического наблюдения за деятельностью ОУ»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Приказ от 27 декабря 1974 г. 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 167 Минпрос СССР «О ведении школьной документации»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ГОСТ 34.602-89. Техническое задание на создание автоматизированной системы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ГОСТ 34.201-89. Виды, комплектность и обозначение документов при создании автоматизированных систем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ГОСТ Р ИСО 15489-1— 2007. Система стандартов по информации, библиотечному и издательскому делу. Управление документами.  Общие требования (экв. 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SO 15489-1—2001)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Прямоугольник 4"/>
          <p:cNvSpPr/>
          <p:nvPr/>
        </p:nvSpPr>
        <p:spPr>
          <a:xfrm>
            <a:off x="857160" y="1643040"/>
            <a:ext cx="7786800" cy="48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Arial"/>
              </a:rPr>
              <a:t>Мы изменили свое окружение так радикально, что теперь должны изменять себя, чтобы жить в этом новом окружени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Норберт Вин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0040" y="1213920"/>
            <a:ext cx="8229600" cy="307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3200" spc="-1" strike="noStrike">
                <a:solidFill>
                  <a:srgbClr val="403152"/>
                </a:solidFill>
                <a:latin typeface="Calibri"/>
              </a:rPr>
              <a:t>1. Повысить качество образования.</a:t>
            </a:r>
            <a:br>
              <a:rPr sz="3200"/>
            </a:br>
            <a:r>
              <a:rPr b="1" lang="ru-RU" sz="3200" spc="-1" strike="noStrike">
                <a:solidFill>
                  <a:srgbClr val="403152"/>
                </a:solidFill>
                <a:latin typeface="Calibri"/>
              </a:rPr>
              <a:t>2. Обеспечить предоставление государственной услуги «Предоставление информации о текущей успеваемости учащегося, ведения электронного дневника и электронного журнала успеваемости».</a:t>
            </a:r>
            <a:br>
              <a:rPr sz="4000"/>
            </a:br>
            <a:br>
              <a:rPr sz="4000"/>
            </a:b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3"/>
          <p:cNvSpPr/>
          <p:nvPr/>
        </p:nvSpPr>
        <p:spPr>
          <a:xfrm>
            <a:off x="428760" y="0"/>
            <a:ext cx="84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Цели созд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28760" y="14292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азнач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2876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чет выполнения учебных программ, в том числе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чет проведенных занятий с отражением тематики, занятости педагогических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трудников,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тклонений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т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нее запланированного график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чет домашних и иных учебных заданий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чет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зультатов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ыполнения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чебной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граммы обучающимися (успеваемость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чет посещаемости занятий обучающимис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0040" y="1571400"/>
            <a:ext cx="8229600" cy="38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3152"/>
                </a:solidFill>
                <a:latin typeface="Calibri"/>
              </a:rPr>
              <a:t>Министерство образования и науки Российской Федерации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4400" spc="-1" strike="noStrike">
                <a:solidFill>
                  <a:srgbClr val="403152"/>
                </a:solidFill>
                <a:latin typeface="Calibri"/>
              </a:rPr>
              <a:t>Единые требования</a:t>
            </a:r>
            <a:br>
              <a:rPr sz="4400"/>
            </a:br>
            <a:br>
              <a:rPr sz="4400"/>
            </a:br>
            <a:r>
              <a:rPr b="1" lang="ru-RU" sz="2400" spc="-1" strike="noStrike">
                <a:solidFill>
                  <a:srgbClr val="403152"/>
                </a:solidFill>
                <a:latin typeface="Calibri"/>
              </a:rPr>
              <a:t>Действует  документ с 01 июля 2011г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Направления локального правового обеспечения деятельности О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14200" y="1600200"/>
            <a:ext cx="8786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авовое        обеспечение        образовательного        процесса        и его методического сопровождени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авовое обеспечение финансово-экономической деятельност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авовое обеспечение материально-технического снабжени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авовое обеспечение безопасных условий учебы и труд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авовое обеспечение трудовых отношений (работа с кадрами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авово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еспечени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елопроизводств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сех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орон деятельности школ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Этапы формирования нормативно-правового обеспечения внедрения ЭЖ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2876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дготовительный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ектирование нормативного и регламентационного обеспечения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гласование и принятие нормативного и регламентационного обеспечения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чало использования ЭЖ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Комплект документов для внедрения и использования ЭЖ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85480" y="1357200"/>
            <a:ext cx="8643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лан работ по внедрению ЭЖ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мплект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окументов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 обеспечению законодательных требований о защите персональных данных (ПДн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мплект документации по регламентации использования ЭЖ как ИСПДн (если нужно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мплект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ополнений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функциональны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язанности работников образовательных учреждений, связанный с использованием ЭЖ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егламент использования ЭЖ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каз руководителя образовательного учреждения о внедрении в деятельность образовательного учреждения ЭЖ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одготовительный этап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214200" y="1143000"/>
            <a:ext cx="8715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знакомление педагогического коллектива с ЭЖ и предстоящими изменениями в деятельности преподавателе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ормирование группы разработки нормативного и регламентационного обеспечени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ведение анализа готовности учреждения к внедрению ЭЖ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пределение основных подходов к внедрению ЭЖ и разработка плана работы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деление этапов, сроков и определение содержания работы по следующим направлениям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рганизация обучения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одготовка технических средств ИКТ и программного обеспечения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рганизация деятельности педагогического коллектива по внедрению ЭЖ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одготовка информации и заполнение базы данных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контроль правильности заполнения информаци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2T08:13:17Z</dcterms:created>
  <dc:creator>Татьяна</dc:creator>
  <dc:description/>
  <dc:language>en-US</dc:language>
  <cp:lastModifiedBy>Анна</cp:lastModifiedBy>
  <dcterms:modified xsi:type="dcterms:W3CDTF">2011-10-16T22:00:06Z</dcterms:modified>
  <cp:revision>16</cp:revision>
  <dc:subject/>
  <dc:title>Регламент введения журналов успеваемости учащихся в электронном виде в общеобразовательных учреждениях города Великие Луки</dc:title>
</cp:coreProperties>
</file>