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F411-DE12-4BBF-A66D-D8DAC1BA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B49E-F798-41DF-8476-DA720B93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6E6C-60CD-4483-9EFE-96EDA456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3FB-6631-402F-862F-B825DC71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E4D4-7AC8-4D22-A2D3-A62A3108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D2F4-DE8B-423B-82AE-6F3CF4AD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1C36-F813-413F-A486-B1981990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7023-2237-4A6A-B361-0516CB42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71FD-F3BA-4CB6-A64F-4E83361C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B27B-4C28-4058-849C-0AACA80E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4010-9048-4025-8B0B-B2166B12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8EE-E59F-42DD-A0AA-BE0B3575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3392-8E54-4C9E-B052-85801739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D183-CE26-4C5B-AA41-A92172DD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2F10-24C6-40C4-9A05-1BFA185D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E9F6-A016-4A66-885A-B463A14D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9D75-D322-4BFB-9FDB-1CC27236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2A4E-AB45-45D9-B513-3347C4AE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FEA9-C907-4B1D-85A4-279684B3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9ECE-F1BE-4437-A65B-13B90C35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06A-B0BA-47D6-AB2A-30DF81A4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7C82-FFF8-4D8F-9CCF-773BB58C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2BB-AB6E-4C7B-8F1E-25D43326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1A8-AB7A-46CB-AF18-26B546F8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3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8DEE-964C-464E-8A2C-925F17F4FB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Oval 5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Oval 6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Oval 7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8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9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11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Oval 13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Group 14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5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6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7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8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21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Oval 22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Oval 23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Group 24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5"/>
              <p:cNvSpPr/>
              <p:nvPr/>
            </p:nvSpPr>
            <p:spPr>
              <a:xfrm>
                <a:off x="0" y="3800520"/>
                <a:ext cx="703440" cy="163980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26"/>
              <p:cNvSpPr/>
              <p:nvPr/>
            </p:nvSpPr>
            <p:spPr>
              <a:xfrm>
                <a:off x="601560" y="3693960"/>
                <a:ext cx="1308240" cy="190980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7"/>
              <p:cNvSpPr/>
              <p:nvPr/>
            </p:nvSpPr>
            <p:spPr>
              <a:xfrm>
                <a:off x="841320" y="4498920"/>
                <a:ext cx="100080" cy="11592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8F8D-A8AC-49CB-BFD3-3AC3BCC1B10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808200"/>
            <a:ext cx="7939080" cy="67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  <a:ea typeface="Arial"/>
              </a:rPr>
              <a:t>Программно-технологический  комплекс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  <a:ea typeface="Arial"/>
              </a:rPr>
              <a:t>«Электронная Учительская»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484360" y="3573360"/>
            <a:ext cx="5688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5" descr="E:\Documents and Settings\Boss\Рабочий стол\ЭЖ\схема.jpg"/>
          <p:cNvPicPr/>
          <p:nvPr/>
        </p:nvPicPr>
        <p:blipFill>
          <a:blip r:embed="rId1"/>
          <a:stretch/>
        </p:blipFill>
        <p:spPr>
          <a:xfrm>
            <a:off x="1252440" y="1662120"/>
            <a:ext cx="7358040" cy="482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7604280" y="4786200"/>
            <a:ext cx="125388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69372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асибо!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857160" y="2166840"/>
            <a:ext cx="7929720" cy="7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айт компании в сети Интер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ww.ooo3t.ru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356000" y="3860640"/>
            <a:ext cx="83844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60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  <a:ea typeface="Arial"/>
              </a:rPr>
              <a:t>Состав и архитектура комплекса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785880" y="1760400"/>
            <a:ext cx="821520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мплекс  «Электронная Учительская» состоит из следующих основных компонент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Школьный сервер, осуществляющий обмен данными, их обработку и накопление.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бочие места сотрудников общеобразовательного учреждения, обеспечивающие ведение электронного журнала успеваемости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-сервер, обеспечивающий ведение дневника успеваемости учащихся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истема не требует наличия непрерывной информационной связи между компонентами, чем обеспечивается высокая устойчивость к различным неполадкам – от временного отсутствия доступа в сеть Интернет, до физической поломки любой компоненты системы.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граммная составляющая, «3Т: ХроноГраф Журнал», функ-ционирует как на проприетарном ПО (операционных системах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indows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), так и на СПО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inu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  <a:ea typeface="Arial"/>
              </a:rPr>
              <a:t>«3Т: ХроноГраф Журнал» позволяет: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571680" y="4143240"/>
            <a:ext cx="8358120" cy="27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едоставить преподавателям простой и удобный электронный аналог школьного журнала, практически не требующий обучения, и упрощающий работу на уроке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еспечить сбор и анализ информации об успеваемости и посещаемости учащихся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едоставить учащимся и их родителям широкие возможности оперативного получения информации о наиболее значимых событиях образовательной 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5" descr="E:\Documents and Settings\Boss\Рабочий стол\ЭЖ\нетбук.png"/>
          <p:cNvPicPr/>
          <p:nvPr/>
        </p:nvPicPr>
        <p:blipFill>
          <a:blip r:embed="rId1"/>
          <a:stretch/>
        </p:blipFill>
        <p:spPr>
          <a:xfrm>
            <a:off x="1071720" y="1643040"/>
            <a:ext cx="3000240" cy="2495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E:\Documents and Settings\Boss\Рабочий стол\ЭЖ\05.png"/>
          <p:cNvPicPr/>
          <p:nvPr/>
        </p:nvPicPr>
        <p:blipFill>
          <a:blip r:embed="rId2"/>
          <a:stretch/>
        </p:blipFill>
        <p:spPr>
          <a:xfrm>
            <a:off x="6062760" y="1703520"/>
            <a:ext cx="2795400" cy="2368440"/>
          </a:xfrm>
          <a:prstGeom prst="rect">
            <a:avLst/>
          </a:prstGeom>
          <a:ln w="0">
            <a:noFill/>
          </a:ln>
        </p:spPr>
      </p:pic>
      <p:sp>
        <p:nvSpPr>
          <p:cNvPr id="133" name="Стрелка вправо 12"/>
          <p:cNvSpPr/>
          <p:nvPr/>
        </p:nvSpPr>
        <p:spPr>
          <a:xfrm>
            <a:off x="4357800" y="2428920"/>
            <a:ext cx="1000080" cy="77004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00b050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60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  <a:ea typeface="Arial"/>
              </a:rPr>
              <a:t>Дружественный и интуитивно понятный интерфейс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5" name="Picture 2" descr="http://www.ooo3t.ru/pic/ej/small/mark.gif"/>
          <p:cNvPicPr/>
          <p:nvPr/>
        </p:nvPicPr>
        <p:blipFill>
          <a:blip r:embed="rId1"/>
          <a:stretch/>
        </p:blipFill>
        <p:spPr>
          <a:xfrm>
            <a:off x="1357200" y="1714680"/>
            <a:ext cx="7239240" cy="46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подаватели получают возможность: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785880" y="1857240"/>
            <a:ext cx="792936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ести электронный аналог классного журнала, с возможностями занесения дат и тем проводимых уроков, домашних заданий, фиксировать отсутствие учащихся на уроке.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ыставлять текущие и итоговые оценки учащимся в принятой для общеобразовательного учреждения шкале, с возможностью указания основания постановки оценки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ести Записную книжку (блокнот) преподавателя, содержащую временно выставленные оценки, комментарии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нализировать текущую успеваемость, посещаемость учащихся и принимать обоснованные решения. 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рганизовать учет выполнения тематического и поурочного планирования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  <a:ea typeface="Arial"/>
              </a:rPr>
              <a:t>Учащиеся и их родители получают возможно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  <a:ea typeface="Arial"/>
              </a:rPr>
              <a:t>во-первых: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785880" y="162864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нтролировать успеваемость и посещаемость детей в электронном аналоге ученического дневника.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714680" y="2428920"/>
            <a:ext cx="643392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  <a:ea typeface="Arial"/>
              </a:rPr>
              <a:t>Учащиеся и их родители получают возможность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  <a:ea typeface="Arial"/>
              </a:rPr>
              <a:t>во-вторых: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Прямоугольник 5"/>
          <p:cNvSpPr/>
          <p:nvPr/>
        </p:nvSpPr>
        <p:spPr>
          <a:xfrm>
            <a:off x="785880" y="164304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ценить не только текущую и итоговую успеваемость своего ребенка, но и успеваемость по различным предметам относительно других учащихся того же класса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E:\Documents and Settings\Boss\Local Settings\Temporary Internet Files\Content.Outlook\RZ190F37\rating (2).gif"/>
          <p:cNvPicPr/>
          <p:nvPr/>
        </p:nvPicPr>
        <p:blipFill>
          <a:blip r:embed="rId1"/>
          <a:stretch/>
        </p:blipFill>
        <p:spPr>
          <a:xfrm>
            <a:off x="1185840" y="2679840"/>
            <a:ext cx="7386840" cy="37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60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дминистрация школы получает возможность: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Прямоугольник 5"/>
          <p:cNvSpPr/>
          <p:nvPr/>
        </p:nvSpPr>
        <p:spPr>
          <a:xfrm>
            <a:off x="928800" y="1714680"/>
            <a:ext cx="792936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перативно анализировать текущие и итоговые результаты учебной деятельности учащихся, преподавателей и принимать соответствующие решения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беспечить конфиденциальность представления данных родителям конкретных учеников относительно данных остальных учащихся класса, а также защиту обрабатываемых персональных данных учащихся в соответствии с требованиями федерального законодательств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2" descr="E:\Documents and Settings\Boss\Local Settings\Temporary Internet Files\Content.Outlook\RZ190F37\zavuch2 (2).gif"/>
          <p:cNvPicPr/>
          <p:nvPr/>
        </p:nvPicPr>
        <p:blipFill>
          <a:blip r:embed="rId1"/>
          <a:stretch/>
        </p:blipFill>
        <p:spPr>
          <a:xfrm>
            <a:off x="1357200" y="4429080"/>
            <a:ext cx="7358040" cy="19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69372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зультат внедрения:</a:t>
            </a:r>
            <a:endParaRPr b="0" lang="en-US" sz="1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857160" y="2166840"/>
            <a:ext cx="7929720" cy="22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еальная автоматизация повседневной практической деятельности руководителей и сотрудников образовательных учреждений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онная открытость школ, основанная на автоматизации сбора и обработки первичной информации в целях формирования необходимой базы для оказания электронных образовательных услуг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0:37:04Z</dcterms:created>
  <dc:creator>Major</dc:creator>
  <dc:description/>
  <dc:language>en-US</dc:language>
  <cp:lastModifiedBy>Sergey</cp:lastModifiedBy>
  <dcterms:modified xsi:type="dcterms:W3CDTF">2011-05-18T20:30:33Z</dcterms:modified>
  <cp:revision>144</cp:revision>
  <dc:subject/>
  <dc:title>Компания «Хронобус» и ОВЦ «ХроноГраф»</dc:title>
</cp:coreProperties>
</file>