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6AED-687B-4456-9AF0-800E3887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0B4-5327-4D0B-9CF8-32C29079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10C-0687-4C76-BB49-7154BD7E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3FA-E15D-4C07-A18B-1626C4CB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089A-C62A-428D-B342-773BE9B89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8231-B524-4B4E-BB5F-6D977D4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1D23-F10E-4F30-9186-0575A31D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294D-C6CD-462C-B2ED-690819B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2CF8-36C5-4CFE-9A80-0A55F3BC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2092-0E42-42DE-8D6E-B0A87442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755B-2F36-4CBC-808F-64F86402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1EC-4C41-48DC-95B8-A6B38572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527C-9916-46F2-BAE2-C9C9C66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4C17-958D-4E2C-A50B-3FC4D8F0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3479-972E-402E-B767-02B9ADA0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DA7E-56CE-4836-A992-05782954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44C5-4E8A-4242-A89B-0CD973B2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C2C-F563-443A-8C2D-12F5D850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417A-8CE7-4362-B74C-8B812CF7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549-EA16-433C-A0BC-1826EF30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D6A-DF85-42C0-A0A5-9A6CE6E3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DFF-2142-4FDD-83BE-CA43135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157-0366-4340-93A6-810EBBB4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A26-5B2A-46CB-9478-F4C11B2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AEA5-F378-4A97-B18D-53FD83CEAFC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0E06-E6F7-41A0-B43E-F518394C5D4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Организация внеурочной деятельности учащихся в условиях введения ФГОС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284360" y="4005360"/>
            <a:ext cx="439092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00"/>
                </a:solidFill>
                <a:latin typeface="Verdana"/>
              </a:rPr>
              <a:t>Е.Н. Степанов, профессор Псковского областного ИПКР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Направления преобразования внеурочной деятельности дет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От социоцентрированной к человекоцентрированной (гуманистической) мод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От аспектно разрозненной к системной практи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От массовых к индивидуально ориентированным формам и способам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От обязательного к свободному участ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От «валовых» статистических показателей к параметрам индивидуального развития де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Основные проблемы организации внеурочной деятельност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00"/>
                </a:solidFill>
                <a:latin typeface="Verdana"/>
              </a:rPr>
              <a:t>Личностная значимость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00"/>
                </a:solidFill>
                <a:latin typeface="Verdana"/>
              </a:rPr>
              <a:t>Создание системы внеурочной деятельности школь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00"/>
                </a:solidFill>
                <a:latin typeface="Verdana"/>
              </a:rPr>
              <a:t>Учет активности детей во внеурочное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00"/>
                </a:solidFill>
                <a:latin typeface="Verdana"/>
              </a:rPr>
              <a:t>Определение критериев оценки эффективности системы внеуроч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Личностная значимость внеурочной деятельност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3132000" y="1844640"/>
            <a:ext cx="2735280" cy="720720"/>
          </a:xfrm>
          <a:prstGeom prst="rect">
            <a:avLst/>
          </a:prstGeom>
          <a:noFill/>
          <a:ln w="381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Развитие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3141720"/>
            <a:ext cx="2735280" cy="720720"/>
          </a:xfrm>
          <a:prstGeom prst="rect">
            <a:avLst/>
          </a:prstGeom>
          <a:noFill/>
          <a:ln w="381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Уника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068640"/>
            <a:ext cx="2735280" cy="720720"/>
          </a:xfrm>
          <a:prstGeom prst="rect">
            <a:avLst/>
          </a:prstGeom>
          <a:noFill/>
          <a:ln w="381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Тип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4508640"/>
            <a:ext cx="5113440" cy="1441440"/>
          </a:xfrm>
          <a:prstGeom prst="rect">
            <a:avLst/>
          </a:prstGeom>
          <a:noFill/>
          <a:ln w="381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9999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Изучение интересов и потребностей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9999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Проектирование индивид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маршрутов участия во внеур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999900"/>
                </a:solidFill>
                <a:latin typeface="Garamond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268000" y="2565360"/>
            <a:ext cx="1582920" cy="503280"/>
          </a:xfrm>
          <a:prstGeom prst="line">
            <a:avLst/>
          </a:prstGeom>
          <a:ln w="3816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2565360"/>
            <a:ext cx="1729080" cy="576360"/>
          </a:xfrm>
          <a:prstGeom prst="line">
            <a:avLst/>
          </a:prstGeom>
          <a:ln w="3816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340000" y="3789360"/>
            <a:ext cx="1224000" cy="719280"/>
          </a:xfrm>
          <a:prstGeom prst="line">
            <a:avLst/>
          </a:prstGeom>
          <a:ln w="3816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08720" y="3860640"/>
            <a:ext cx="1150920" cy="648000"/>
          </a:xfrm>
          <a:prstGeom prst="line">
            <a:avLst/>
          </a:prstGeom>
          <a:ln w="38160">
            <a:solidFill>
              <a:srgbClr val="99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Система </a:t>
            </a: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внеурочной деятельност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97000" y="1803240"/>
            <a:ext cx="8106120" cy="4701600"/>
            <a:chOff x="297000" y="1803240"/>
            <a:chExt cx="8106120" cy="4701600"/>
          </a:xfrm>
        </p:grpSpPr>
        <p:sp>
          <p:nvSpPr>
            <p:cNvPr id="107" name="_s26631"/>
            <p:cNvSpPr/>
            <p:nvPr/>
          </p:nvSpPr>
          <p:spPr>
            <a:xfrm flipH="1" flipV="1">
              <a:off x="2345760" y="3945600"/>
              <a:ext cx="1006200" cy="19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26632"/>
            <p:cNvSpPr/>
            <p:nvPr/>
          </p:nvSpPr>
          <p:spPr>
            <a:xfrm>
              <a:off x="297000" y="3113640"/>
              <a:ext cx="2105280" cy="126612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Досугов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общ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учащих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6633"/>
            <p:cNvSpPr/>
            <p:nvPr/>
          </p:nvSpPr>
          <p:spPr>
            <a:xfrm flipH="1">
              <a:off x="3114000" y="4846320"/>
              <a:ext cx="619200" cy="513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6634"/>
            <p:cNvSpPr/>
            <p:nvPr/>
          </p:nvSpPr>
          <p:spPr>
            <a:xfrm>
              <a:off x="1439280" y="5236560"/>
              <a:ext cx="2104560" cy="126684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Дополнитель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образ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де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6635"/>
            <p:cNvSpPr/>
            <p:nvPr/>
          </p:nvSpPr>
          <p:spPr>
            <a:xfrm>
              <a:off x="4968000" y="4846320"/>
              <a:ext cx="618120" cy="51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6636"/>
            <p:cNvSpPr/>
            <p:nvPr/>
          </p:nvSpPr>
          <p:spPr>
            <a:xfrm>
              <a:off x="5149440" y="5238720"/>
              <a:ext cx="2105280" cy="126612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Посещ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ГП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6637"/>
            <p:cNvSpPr/>
            <p:nvPr/>
          </p:nvSpPr>
          <p:spPr>
            <a:xfrm flipV="1">
              <a:off x="5348520" y="3943440"/>
              <a:ext cx="999000" cy="19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6638"/>
            <p:cNvSpPr/>
            <p:nvPr/>
          </p:nvSpPr>
          <p:spPr>
            <a:xfrm>
              <a:off x="6297840" y="3115440"/>
              <a:ext cx="2105280" cy="126684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Участ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в школь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и внешкольн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дел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6639"/>
            <p:cNvSpPr/>
            <p:nvPr/>
          </p:nvSpPr>
          <p:spPr>
            <a:xfrm flipV="1">
              <a:off x="4348440" y="3070080"/>
              <a:ext cx="0" cy="6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6640"/>
            <p:cNvSpPr/>
            <p:nvPr/>
          </p:nvSpPr>
          <p:spPr>
            <a:xfrm>
              <a:off x="3031200" y="1803240"/>
              <a:ext cx="2584800" cy="126684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Участ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в жизнедеятель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класс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коллекти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6641"/>
            <p:cNvSpPr/>
            <p:nvPr/>
          </p:nvSpPr>
          <p:spPr>
            <a:xfrm>
              <a:off x="3031200" y="3702960"/>
              <a:ext cx="2660400" cy="1266120"/>
            </a:xfrm>
            <a:prstGeom prst="flowChartAlternateProcess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едаг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поддерж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Бланк классного руководителя</a:t>
            </a:r>
            <a:br>
              <a:rPr sz="3200"/>
            </a:br>
            <a:r>
              <a:rPr b="0" lang="en-US" sz="2000" spc="-1" strike="noStrike">
                <a:solidFill>
                  <a:srgbClr val="999900"/>
                </a:solidFill>
                <a:latin typeface="Garamond"/>
              </a:rPr>
              <a:t>Участие учащихся </a:t>
            </a:r>
            <a:r>
              <a:rPr b="0" lang="en-US" sz="2000" spc="-1" strike="noStrike">
                <a:solidFill>
                  <a:srgbClr val="99cc00"/>
                </a:solidFill>
                <a:latin typeface="Garamond"/>
              </a:rPr>
              <a:t>____ </a:t>
            </a:r>
            <a:r>
              <a:rPr b="0" lang="en-US" sz="2000" spc="-1" strike="noStrike">
                <a:solidFill>
                  <a:srgbClr val="999900"/>
                </a:solidFill>
                <a:latin typeface="Garamond"/>
              </a:rPr>
              <a:t>класса во внеурочной деятельности</a:t>
            </a:r>
            <a:br>
              <a:rPr sz="2000"/>
            </a:br>
            <a:r>
              <a:rPr b="0" lang="en-US" sz="2000" spc="-1" strike="noStrike">
                <a:solidFill>
                  <a:srgbClr val="999900"/>
                </a:solidFill>
                <a:latin typeface="Garamond"/>
              </a:rPr>
              <a:t>в </a:t>
            </a:r>
            <a:r>
              <a:rPr b="0" lang="en-US" sz="2000" spc="-1" strike="noStrike">
                <a:solidFill>
                  <a:srgbClr val="99cc00"/>
                </a:solidFill>
                <a:latin typeface="Garamond"/>
              </a:rPr>
              <a:t>_______</a:t>
            </a:r>
            <a:r>
              <a:rPr b="0" lang="en-US" sz="2000" spc="-1" strike="noStrike">
                <a:solidFill>
                  <a:srgbClr val="999900"/>
                </a:solidFill>
                <a:latin typeface="Garamond"/>
              </a:rPr>
              <a:t> 2011 года</a:t>
            </a:r>
            <a:br>
              <a:rPr sz="20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600200"/>
          <a:ext cx="8569080" cy="4530600"/>
        </p:xfrm>
        <a:graphic>
          <a:graphicData uri="http://schemas.openxmlformats.org/drawingml/2006/table">
            <a:tbl>
              <a:tblPr/>
              <a:tblGrid>
                <a:gridCol w="1533960"/>
                <a:gridCol w="1368360"/>
                <a:gridCol w="1240560"/>
                <a:gridCol w="578880"/>
                <a:gridCol w="1059840"/>
                <a:gridCol w="1355040"/>
                <a:gridCol w="1432440"/>
              </a:tblGrid>
              <a:tr h="1067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детских объединений (по направлениям программ дополнительного образован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класс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коль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урно-спор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Критерии оценки состояния </a:t>
            </a:r>
            <a:br>
              <a:rPr sz="3200"/>
            </a:br>
            <a:r>
              <a:rPr b="1" lang="en-US" sz="3200" spc="-1" strike="noStrike">
                <a:solidFill>
                  <a:srgbClr val="999900"/>
                </a:solidFill>
                <a:latin typeface="Garamond"/>
              </a:rPr>
              <a:t>и эффективности системы внеурочной деятельност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Включенность учащихся в систему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Соответствие содержания и организации внеурочной деятельности принципам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Ресурсная обеспеченность системы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9999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Удовлетворенность учащихся, родителей и педагогов организацией внеурочной деятельности и ее результа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07:01:44Z</dcterms:created>
  <dc:creator>m60</dc:creator>
  <dc:description/>
  <dc:language>en-US</dc:language>
  <cp:lastModifiedBy>m31</cp:lastModifiedBy>
  <dcterms:modified xsi:type="dcterms:W3CDTF">2011-10-26T09:02:44Z</dcterms:modified>
  <cp:revision>59</cp:revision>
  <dc:subject/>
  <dc:title>Организация внеурочной деятельности учителя начальных классов</dc:title>
</cp:coreProperties>
</file>