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52B-5E42-4A61-9098-C14C9919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CED-1742-4AC0-86AA-4F9AD473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FEC-0D8F-4338-9B51-6F55C71C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F5D-1747-455A-999D-0B8294A1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F78F-F3DE-4C2C-BB1F-6FB4D7AE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9ACE-C1F1-4BCF-851C-BA837D58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9794-BF5F-4658-9285-0761CA83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887E-36E3-4CD4-9C89-19A79281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62C6-0FA9-4CFF-B989-E3D18CAD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2E36-F89E-4CF1-8D34-7A8A3C3E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126C-F563-4E83-8E27-4949FC6A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CB1-C9D8-41C7-B0BD-99EEB08A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3AD2-B152-48E5-968D-1A07AC17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4CE7-E3D2-40E5-A319-8B2C3586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B3D4-7E6F-498D-829D-CBE03D1B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FAAD-AAF3-44E1-B0F8-6F7587B8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E7C8-65E1-4C85-9E34-10B6A039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3BA-0A11-44AE-9381-640750C5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480-C245-4D23-BF86-D34951BB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908-1295-4903-8657-308B1DC6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EC4-6904-4802-88F6-E209E1DB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F6C-7F4A-47BF-B454-2C0E66AF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2F5-C6E3-4140-B9F5-ED0647FF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4DE-14BD-4B25-BD10-F6D4EB18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1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2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3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2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31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40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49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50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59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68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77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5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86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87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96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105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114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2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123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124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133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142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151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9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160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161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170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179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188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6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197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8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00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01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06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209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0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1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2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3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215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216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219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222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225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228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231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234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237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9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4933-5C43-45BD-8FE2-2DFC23D4EBE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282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83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284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290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96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302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08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4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5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8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9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1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4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7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30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3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4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6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B969-10DB-4CD3-B9CE-3949BEF2589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42;&#1053;&#1048;&#1050;%20&#1042;%20&#1087;&#1083;&#1072;&#1085;%20&#1055;&#1054;&#1048;&#1055;&#1050;&#1056;&#1054;%20&#1085;&#1072;%202011%20&#1075;&#1086;&#1076;.doc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file:///&#1052;&#1077;&#1090;&#1086;&#1076;&#1080;&#1095;&#1077;&#1089;&#1082;&#1080;&#1077;%20&#1089;&#1086;&#1074;&#1077;&#1090;&#1099;%20&#1087;&#1086;%20&#1086;&#1088;&#1075;&#1072;&#1085;&#1080;&#1079;&#1072;&#1094;&#1080;&#1080;%20&#1074;&#1085;&#1077;&#1091;&#1088;&#1086;&#1095;&#1085;&#1086;&#1081;%20&#1076;&#1077;&#1103;&#1090;&#1077;&#1083;&#1100;&#1085;&#1086;&#1089;&#1090;&#1080;%20&#1091;&#1095;&#1072;&#1097;&#1080;&#1093;&#1089;&#1103;%20&#1085;&#1072;&#1095;&#1072;&#1083;&#1100;&#1085;&#1099;&#1093;%20&#1082;&#1083;&#1072;&#1089;&#1089;&#1086;&#1074;.doc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04176"/>
                </a:solidFill>
                <a:latin typeface="Arial"/>
              </a:rPr>
              <a:t>Организация работы ВНИКа по проблемам введения ФГОС в практику деятельности ОУ</a:t>
            </a:r>
            <a:endParaRPr b="0" lang="en-US" sz="3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635280" y="4941360"/>
            <a:ext cx="4929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e2e01"/>
                </a:solidFill>
                <a:latin typeface="Arial"/>
              </a:rPr>
              <a:t>Пуденкова Елена Анатольевна, методист по физике ПОИПКРО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2e01"/>
                </a:solidFill>
                <a:latin typeface="Arial"/>
              </a:rPr>
              <a:t>Ele-pudenkova@yandex.ru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572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Демонстрационная площадка «Реализация идей ФГОС второго поколения в новых УМК по физике Генденштейна Л.Э.» 12.04.2011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05" name="Picture 11" descr="IMG_5659"/>
          <p:cNvPicPr/>
          <p:nvPr/>
        </p:nvPicPr>
        <p:blipFill>
          <a:blip r:embed="rId1"/>
          <a:stretch/>
        </p:blipFill>
        <p:spPr>
          <a:xfrm>
            <a:off x="4286160" y="178596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6" descr="IMG_5667"/>
          <p:cNvPicPr/>
          <p:nvPr/>
        </p:nvPicPr>
        <p:blipFill>
          <a:blip r:embed="rId2"/>
          <a:stretch/>
        </p:blipFill>
        <p:spPr>
          <a:xfrm>
            <a:off x="6300720" y="306864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IMG_5678"/>
          <p:cNvPicPr/>
          <p:nvPr/>
        </p:nvPicPr>
        <p:blipFill>
          <a:blip r:embed="rId3"/>
          <a:stretch/>
        </p:blipFill>
        <p:spPr>
          <a:xfrm>
            <a:off x="5000760" y="464328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7" descr="IMG_5587"/>
          <p:cNvPicPr/>
          <p:nvPr/>
        </p:nvPicPr>
        <p:blipFill>
          <a:blip r:embed="rId4"/>
          <a:stretch/>
        </p:blipFill>
        <p:spPr>
          <a:xfrm>
            <a:off x="214200" y="3857760"/>
            <a:ext cx="2571840" cy="1930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IMG_5620"/>
          <p:cNvPicPr/>
          <p:nvPr/>
        </p:nvPicPr>
        <p:blipFill>
          <a:blip r:embed="rId5"/>
          <a:stretch/>
        </p:blipFill>
        <p:spPr>
          <a:xfrm>
            <a:off x="2500200" y="285768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8"/>
          <p:cNvSpPr/>
          <p:nvPr/>
        </p:nvSpPr>
        <p:spPr>
          <a:xfrm>
            <a:off x="7643880" y="571500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й №8  г. Псков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7143840" y="1773360"/>
            <a:ext cx="200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-исследование         по теме «Закон Архимеда» 7 кл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2" name="Рисунок 11" descr="IMG_5639.JPG"/>
          <p:cNvPicPr/>
          <p:nvPr/>
        </p:nvPicPr>
        <p:blipFill>
          <a:blip r:embed="rId6"/>
          <a:stretch/>
        </p:blipFill>
        <p:spPr>
          <a:xfrm>
            <a:off x="190440" y="1785960"/>
            <a:ext cx="2452680" cy="18399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IMG_5588"/>
          <p:cNvPicPr/>
          <p:nvPr/>
        </p:nvPicPr>
        <p:blipFill>
          <a:blip r:embed="rId7"/>
          <a:stretch/>
        </p:blipFill>
        <p:spPr>
          <a:xfrm>
            <a:off x="1643040" y="46432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Авторский семинар «Реализация идей ФГОС второго поколения в новых УМК по физике Генденштейна Л.Э.» 17.05.2011  (43 чел.)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15" name="Содержимое 8" descr="IMG_5938.JPG"/>
          <p:cNvPicPr/>
          <p:nvPr/>
        </p:nvPicPr>
        <p:blipFill>
          <a:blip r:embed="rId1"/>
          <a:stretch/>
        </p:blipFill>
        <p:spPr>
          <a:xfrm>
            <a:off x="6286680" y="185724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7" descr="IMG_5928.JPG"/>
          <p:cNvPicPr/>
          <p:nvPr/>
        </p:nvPicPr>
        <p:blipFill>
          <a:blip r:embed="rId2"/>
          <a:stretch/>
        </p:blipFill>
        <p:spPr>
          <a:xfrm>
            <a:off x="214200" y="178596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10" descr="IMG_5958.JPG"/>
          <p:cNvPicPr/>
          <p:nvPr/>
        </p:nvPicPr>
        <p:blipFill>
          <a:blip r:embed="rId3"/>
          <a:stretch/>
        </p:blipFill>
        <p:spPr>
          <a:xfrm>
            <a:off x="3286080" y="192888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11" descr="IMG_5977.JPG"/>
          <p:cNvPicPr/>
          <p:nvPr/>
        </p:nvPicPr>
        <p:blipFill>
          <a:blip r:embed="rId4"/>
          <a:stretch/>
        </p:blipFill>
        <p:spPr>
          <a:xfrm>
            <a:off x="6286680" y="400068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5" descr="IMG_5979.JPG"/>
          <p:cNvPicPr/>
          <p:nvPr/>
        </p:nvPicPr>
        <p:blipFill>
          <a:blip r:embed="rId5"/>
          <a:stretch/>
        </p:blipFill>
        <p:spPr>
          <a:xfrm>
            <a:off x="2000160" y="342900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4" descr="IMG_5954.JPG"/>
          <p:cNvPicPr/>
          <p:nvPr/>
        </p:nvPicPr>
        <p:blipFill>
          <a:blip r:embed="rId6"/>
          <a:stretch/>
        </p:blipFill>
        <p:spPr>
          <a:xfrm>
            <a:off x="285840" y="4500720"/>
            <a:ext cx="2643120" cy="19825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2" descr="IMG_5951.JPG"/>
          <p:cNvPicPr/>
          <p:nvPr/>
        </p:nvPicPr>
        <p:blipFill>
          <a:blip r:embed="rId7"/>
          <a:stretch/>
        </p:blipFill>
        <p:spPr>
          <a:xfrm>
            <a:off x="4214880" y="45720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0560" y="428400"/>
            <a:ext cx="8893080" cy="13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Семинар для педагогов МОУ «СОШ №23» г.Пскова  по теме «Организация проектной и исследовательской деятельности учащихся» 30.03.2011 (Пуденкова Е.А.)</a:t>
            </a: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3" name="Picture 17" descr="IMG_5557"/>
          <p:cNvPicPr/>
          <p:nvPr/>
        </p:nvPicPr>
        <p:blipFill>
          <a:blip r:embed="rId1"/>
          <a:stretch/>
        </p:blipFill>
        <p:spPr>
          <a:xfrm>
            <a:off x="571680" y="18572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8" descr="IMG_5562"/>
          <p:cNvPicPr/>
          <p:nvPr/>
        </p:nvPicPr>
        <p:blipFill>
          <a:blip r:embed="rId2"/>
          <a:stretch/>
        </p:blipFill>
        <p:spPr>
          <a:xfrm>
            <a:off x="4429080" y="18572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9" descr="IMG_5563"/>
          <p:cNvPicPr/>
          <p:nvPr/>
        </p:nvPicPr>
        <p:blipFill>
          <a:blip r:embed="rId3"/>
          <a:stretch/>
        </p:blipFill>
        <p:spPr>
          <a:xfrm>
            <a:off x="1357200" y="4286160"/>
            <a:ext cx="2938680" cy="2203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3" descr="IMG_5575"/>
          <p:cNvPicPr/>
          <p:nvPr/>
        </p:nvPicPr>
        <p:blipFill>
          <a:blip r:embed="rId4"/>
          <a:stretch/>
        </p:blipFill>
        <p:spPr>
          <a:xfrm>
            <a:off x="5357880" y="4214880"/>
            <a:ext cx="29988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374508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176"/>
                </a:solidFill>
                <a:latin typeface="Arial"/>
              </a:rPr>
              <a:t>Пуденкова Е.А.</a:t>
            </a: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Цикл семинаров «ФГОС второго поколения: от идей к практике»                        для педагогов</a:t>
            </a:r>
            <a:br>
              <a:rPr sz="2400"/>
            </a:b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МОУ «Себежская СОШ» 18.03.11,</a:t>
            </a:r>
            <a:br>
              <a:rPr sz="2400"/>
            </a:b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МОУ «Сосновоборская СОШ» 1.04.11., </a:t>
            </a:r>
            <a:br>
              <a:rPr sz="2400"/>
            </a:b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МОУ «Середкинская СОШ»  5-6.04.11</a:t>
            </a:r>
            <a:br>
              <a:rPr sz="2400"/>
            </a:br>
            <a:endParaRPr b="0" lang="en-US" sz="2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28" name="Picture 4" descr="IMG_2022"/>
          <p:cNvPicPr/>
          <p:nvPr/>
        </p:nvPicPr>
        <p:blipFill>
          <a:blip r:embed="rId1"/>
          <a:stretch/>
        </p:blipFill>
        <p:spPr>
          <a:xfrm>
            <a:off x="3924360" y="2565360"/>
            <a:ext cx="2522520" cy="18939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IMG_2032"/>
          <p:cNvPicPr/>
          <p:nvPr/>
        </p:nvPicPr>
        <p:blipFill>
          <a:blip r:embed="rId2"/>
          <a:stretch/>
        </p:blipFill>
        <p:spPr>
          <a:xfrm>
            <a:off x="6372360" y="3860640"/>
            <a:ext cx="2496960" cy="1873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IMG_2021"/>
          <p:cNvPicPr/>
          <p:nvPr/>
        </p:nvPicPr>
        <p:blipFill>
          <a:blip r:embed="rId3"/>
          <a:stretch/>
        </p:blipFill>
        <p:spPr>
          <a:xfrm>
            <a:off x="4500720" y="549360"/>
            <a:ext cx="2496960" cy="1873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IMG_2033"/>
          <p:cNvPicPr/>
          <p:nvPr/>
        </p:nvPicPr>
        <p:blipFill>
          <a:blip r:embed="rId4"/>
          <a:stretch/>
        </p:blipFill>
        <p:spPr>
          <a:xfrm>
            <a:off x="6516720" y="1773360"/>
            <a:ext cx="2496960" cy="1873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3" descr="STH71913"/>
          <p:cNvPicPr/>
          <p:nvPr/>
        </p:nvPicPr>
        <p:blipFill>
          <a:blip r:embed="rId5"/>
          <a:stretch/>
        </p:blipFill>
        <p:spPr>
          <a:xfrm>
            <a:off x="3851280" y="4653000"/>
            <a:ext cx="24480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денкова Е.А.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тодист по физике ЦИОТ (руководитель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анов Е.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зав. кафедрой теории и методики воспитания, д.п.н., профессор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ыдов Г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зав. кафедрой управления развитием образовательных систем, к.п.н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айлова Н.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оцент кафедры управления развитием образовательных систе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делина Р.П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зав. кафедрой дошкольного и начального образования, к.п.н., доцен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ер О.Ф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ист по начальному образованию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льберберг Н.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зав. лабораторией развития математического образования, к.п.н., доцен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авлева Л.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ист по математике ЦИО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иленкова В.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зав. центром инновационных образовательных технологий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ещенко Т.И.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тодист по географии ЦИО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гилевич В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ист по английскому языку ЦИО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сильева М.В.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тодист по русскому языку и литературе ЦИО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сман Т.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ист по истории, обществоведению и правукафедры методологии постдипломного образования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Состав ВНИКа</a:t>
            </a: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(Приказ №117 от 21.10.2010)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Проблемы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идей ФГОС в обучении учащихся (по предмету): новое содержание, УМК, методика обучения, проектирование учебного процесса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емственность между начальной и основной школой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аботка образовательных программ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аботка программы УУД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иторинг качества образован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ая  система оцениван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Проблемы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урочная деятельность учащихс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я проектной и исследовательской деятельнос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ка и учет индивидуальных особенностей учащихс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невая дифференциац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деятельностного подход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тивация учебной деятельнос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предметный подход в обучени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Arial"/>
              </a:rPr>
              <a:t>План работы ВНИКа на 2011 г.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работать методические рекомендации по преподаванию предмета и использованию в учебном процессе УМК, включенных в федеральный перечень и ориентированных на реализацию задач ФГОС второго поколения   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прель-май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работка научно-методических тем (по проблемам) и представление материалов на заседании ВНИКа                                                      - в теч. года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работать лекции, практические занятия, мастер-классы, семинарские занятия  по проблемам введения ФГОС, включить тематику в планы курсовой подготовки и выездных семинаров на 2012 год                                                      -  май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работать содержание модулей по проблемам введения ФГОС второго поколения для проведения очно-дистанционных курсов ПК в 2012 г. (для учителей-предметников и зам. директоров школ)                          - ноябрь-декабрь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здать банк материалов по ФГОС второго поколения на сервере ПОИПКРО (информация для всех/ ФГОС ВНИК)                                               – в теч. года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овать работу по изучению вопросов введения ФГОС и представлению материалов на демонстрационных площадках в образовательных учреждениях 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апрель – ноябрь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планировать экспериментальную работу (на базе областных экспериментальных площадок, СЦПК) по реализации проблем введения ФГОС в основной школе                                                                                 – сентябрь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ставить результаты деятельности ВНИКа за 2011 год  на семинаре                                                                                               (демонстрационной площадке) «Реализация задач ФГОС в школьном образовании»                                                                                      -  декабрь</a:t>
            </a:r>
            <a:endParaRPr b="0" lang="en-US" sz="17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Деятельность ВНИКа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9280" y="1214280"/>
            <a:ext cx="8964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ка проблем (</a:t>
            </a:r>
            <a:r>
              <a:rPr b="0" lang="ru-RU" sz="28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по выбранной те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21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дение семинаров и курсов для педагогов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дение тематических консультаций вебинаров, демонстрационных площадок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пробация новых УМК (экспериментальные площадки по договору с издательствами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ка методических рекомендаций к РБУП (предметники).  </a:t>
            </a:r>
            <a:r>
              <a:rPr b="0" lang="ru-RU" sz="28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Методические сове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рганизации внеурочной деятельности учащихся начальных классов (Степанов Е.Н.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ка спецкурса «ФГОС второго поколения основной школы: от идей к практике» (модули, лекции, практические занятия, мастер-классы и др.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Деятельность ВНИКа</a:t>
            </a:r>
            <a:r>
              <a:rPr b="0" lang="ru-RU" sz="44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440" y="1773000"/>
            <a:ext cx="84582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 опыта 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но-экспериментальная работ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-методическая работа (исследование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Arial"/>
              </a:rPr>
              <a:t>Заседания ВНИКа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95" name="Picture 8" descr="IMG_5987"/>
          <p:cNvPicPr/>
          <p:nvPr/>
        </p:nvPicPr>
        <p:blipFill>
          <a:blip r:embed="rId1"/>
          <a:stretch/>
        </p:blipFill>
        <p:spPr>
          <a:xfrm>
            <a:off x="539640" y="1341360"/>
            <a:ext cx="3084480" cy="2313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IMG_5997"/>
          <p:cNvPicPr/>
          <p:nvPr/>
        </p:nvPicPr>
        <p:blipFill>
          <a:blip r:embed="rId2"/>
          <a:stretch/>
        </p:blipFill>
        <p:spPr>
          <a:xfrm>
            <a:off x="1258920" y="3933720"/>
            <a:ext cx="3157560" cy="2368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5" descr="IMG_5995"/>
          <p:cNvPicPr/>
          <p:nvPr/>
        </p:nvPicPr>
        <p:blipFill>
          <a:blip r:embed="rId3"/>
          <a:stretch/>
        </p:blipFill>
        <p:spPr>
          <a:xfrm>
            <a:off x="5651640" y="3933720"/>
            <a:ext cx="3097080" cy="2322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7" descr="IMG_5992"/>
          <p:cNvPicPr/>
          <p:nvPr/>
        </p:nvPicPr>
        <p:blipFill>
          <a:blip r:embed="rId4"/>
          <a:stretch/>
        </p:blipFill>
        <p:spPr>
          <a:xfrm>
            <a:off x="4572000" y="135900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608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176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404176"/>
                </a:solidFill>
                <a:latin typeface="Arial"/>
              </a:rPr>
              <a:t>Васильева М.В.</a:t>
            </a: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Демонстрационная площадка «Проблемы преподавания русского языка в современной школе в контексте введения ФГОС второго поколения» (5.04.11) – 30 чел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Участие в вебинаре  «УМК по русскому языку под редакцией С.И. Львовой как средство реализации основных идей ФГОС второго поколения</a:t>
            </a:r>
            <a:r>
              <a:rPr b="1" i="1" lang="ru-RU" sz="2000" spc="-1" strike="noStrike">
                <a:solidFill>
                  <a:srgbClr val="404176"/>
                </a:solidFill>
                <a:latin typeface="Arial"/>
              </a:rPr>
              <a:t>»</a:t>
            </a: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. (совместно с издательством «Мнемозина» (29.03.1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Областная тематическая консультация «Проблемы преподавания   литературы в современной школе в контексте введения ФГОС второго поколения» (виртуально, в «Открытом классе» (12-20.05.11) – 15 чел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0" name="Picture 4" descr="Рисунок1"/>
          <p:cNvPicPr/>
          <p:nvPr/>
        </p:nvPicPr>
        <p:blipFill>
          <a:blip r:embed="rId4"/>
          <a:stretch/>
        </p:blipFill>
        <p:spPr>
          <a:xfrm>
            <a:off x="6227640" y="549360"/>
            <a:ext cx="2737080" cy="1834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Рисунок5"/>
          <p:cNvPicPr/>
          <p:nvPr/>
        </p:nvPicPr>
        <p:blipFill>
          <a:blip r:embed="rId5"/>
          <a:stretch/>
        </p:blipFill>
        <p:spPr>
          <a:xfrm>
            <a:off x="4716360" y="2492280"/>
            <a:ext cx="2735280" cy="1990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Рисунок8"/>
          <p:cNvPicPr/>
          <p:nvPr/>
        </p:nvPicPr>
        <p:blipFill>
          <a:blip r:embed="rId6"/>
          <a:stretch/>
        </p:blipFill>
        <p:spPr>
          <a:xfrm>
            <a:off x="7236000" y="3716280"/>
            <a:ext cx="1692000" cy="2160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Рисунок3"/>
          <p:cNvPicPr/>
          <p:nvPr/>
        </p:nvPicPr>
        <p:blipFill>
          <a:blip r:embed="rId7"/>
          <a:stretch/>
        </p:blipFill>
        <p:spPr>
          <a:xfrm>
            <a:off x="4716360" y="4797360"/>
            <a:ext cx="287172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8:30:55Z</dcterms:created>
  <dc:creator>Пуденкова</dc:creator>
  <dc:description/>
  <dc:language>en-US</dc:language>
  <cp:lastModifiedBy>Admin</cp:lastModifiedBy>
  <dcterms:modified xsi:type="dcterms:W3CDTF">2011-06-21T16:29:46Z</dcterms:modified>
  <cp:revision>19</cp:revision>
  <dc:subject/>
  <dc:title>Организация работы ВНИКа по проблемам введения ФГОС в практику деятельности ОУ</dc:title>
</cp:coreProperties>
</file>