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1E6C-5E39-4CBE-B8D7-EA4590776C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2A0-E8C2-4AB8-99FA-FBDC56F44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626-CC99-4274-9730-8A8A4AA659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764-3806-471B-AF93-6833F051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74C-5FBD-4318-AF36-0E3A8665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3BEA5-6FFD-4E20-8625-0204730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1B803-5BAC-48DE-8060-CA3F4AC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41889-225B-4328-B016-F915A014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E8118-A9C5-4B4F-8DD9-6C00C6D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4FAB0-4639-46B2-8C36-D7636A0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CD2CD-58EB-4F51-AE13-EC69F32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6D954-62AA-413F-90A5-AFAA0006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575D7-6010-465A-A716-177117E9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64A95-9957-453C-8962-CD748765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94A4B-E5B8-4674-96CD-4ED4F7E5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0F6-E334-4BAE-9E8A-644A73D1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DB80A-5F12-4D2E-8E28-DF35C44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DC382-174B-47A9-8B63-888109D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58D8E-5ECE-4C45-A621-D5D971B3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65502-285B-4868-B109-906241FF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BE823-07D4-4682-875B-FDED99BD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76117-F0D3-4638-87F2-4B5A384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B310A-B106-4BF5-86E7-EB58CBFD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AD529-738C-444E-BFBE-C98E977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B64F6-907E-42D1-BC2F-9034633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F4EE3-8EBB-4FA4-B9FA-763936AB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5C3-F8F9-41EC-BFF8-5E3E219D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BB312-C26E-4841-A5B5-2FB61DBA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762DE-9BCF-4426-BA7B-6F751F6E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BA704-F2BB-4BF7-89B0-5DA6638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F61F0-D80A-4F15-8220-586132FF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D8E2-B936-4122-AC7E-527E80C8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696E2-AD4D-4089-9BA7-C452FEF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CADA-7EA7-492C-8BF2-12355A05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21CF7-5339-44C7-A9A4-AD18E26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699C-3182-4A32-B82A-9E2CF6E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8C0E8-D26A-4F6A-A968-15185D8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EEE-A60D-4987-876B-CADD3DDC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CC645-F1DF-487F-84ED-98778613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2A59-36C3-4EC5-AAAA-4F773BB0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4D170-E8EB-46FC-8118-A1E84DA1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D47CA-8A6D-491C-A6E4-AFCD79F5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CD7EF-42C1-4DEE-A2AD-9814A459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10FDE-07F4-4D9D-A608-FC656455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F6680-D4B0-4254-9BA1-12940E1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9BE41-5752-4896-8822-0CF251DE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B2B34-DF4D-4576-9E06-A53B9D5A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2AE82-6306-431B-A5B2-00AE188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BE7D-79CA-4765-AD7B-46192B22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48C72-0916-421B-9C03-534AD35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C6B23-BC8D-4FE6-9932-3D151866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0D9D9-C680-418B-8037-4D0E79D2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FC287-BE94-4432-B56E-CC996EF3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2DD88-B795-4B47-82B7-F822BB59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971E6-789F-45BE-938A-0AA8F133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E13A8-CB10-4888-9E6E-C6F671B2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E5254-4923-438C-ADD8-EFB36EE8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3B04B-721F-4B5E-AB54-F3E09DE2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64638-9CF0-4B22-BCEA-7033AFC7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3C69-9641-4657-9803-A7DB116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C1B8-894B-4A58-A469-70267867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18590-CD70-4DDC-B79B-4C9958C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3BFD0-F965-427A-AAFE-57EF784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38F15-BCE7-4E95-AC02-89B0D21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CC579-67D5-4AA3-8808-8B486354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7A742-3A18-448D-B187-EB239413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610F4-3C95-441B-B7DE-8BA22EFB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A9262-6B2F-4A15-AE8F-65CE22FC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E5E29-8AAA-4C8D-B098-843D6B62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E62E1-EFA8-4CF7-A3FB-34AB3821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44CB-686B-4A45-AACE-EE3847A8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0B969-63C4-423B-A483-1CF5B455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DA928-6DDB-428F-8D57-FEA7AAD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341E7-AB8B-4682-95B7-1B6E35D2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EF0DD-05CE-4A59-9B7A-94AF3B3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96A7B-6BBC-4C13-B506-FA966AE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95735-5A5D-484E-B468-2CB3619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7EFB3-106F-4FAF-B7AA-B4555B20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229A8-B97E-43E3-92E7-5F10A7F4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06DD1-0A57-4B00-AA67-DE645425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CA44D-9FB3-4500-8293-B211B1B5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6E8-BC44-4FBB-A742-F742F82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4B0CA-A78B-4933-A5B3-E77BD039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A741B-2FE3-4CC5-BFE6-155E465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73F6A-14B2-4788-B739-C3E2C343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FAB96-C929-420C-A7C3-EB25F18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60078-B73F-4D80-8892-238E104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065CA-C4A3-44C1-B94E-52B20AC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90153-0278-4ECA-8025-05F25F2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CCE30-ED79-452A-AE46-9F883A6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72289-8B73-491D-ACF6-01DB4CEF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B20F9-DA4C-466B-949C-4D2E626B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83D1-FC22-4502-84E1-F7ED7174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2E62B-4E89-4E85-9706-7F868E6A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18BEC-86C0-493B-B579-49851B32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F2195-F054-40F7-9E51-52819A9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01D9C-E056-4F39-8514-FBC5FF3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63583-BB6A-42F5-924C-ABE6254D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2F535-5782-4738-B2A6-23D70603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41A73-260D-4C7A-B4B7-EA5AEEA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901AF-AB23-49D3-AAF0-92F2007E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5D0B9-8F29-4163-9AFC-461DE8C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125B4-7D42-4773-BCE5-BE0ED3E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5F73-8FCC-4B7B-86E5-1091F25A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D876A-E706-4E5C-A34C-DAF79860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42601-7FD0-4B13-A5B7-EAB90BC5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3DE49-BD7D-4BCA-8B2D-5601BF4E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B5172-018B-4012-BD4F-1C40160C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105DC-5C7A-4C7D-AAA6-F6BE09FD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CD2D3-6B4F-4713-9D61-6382B6B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693BD-4AAE-495A-A91B-99067349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BD456-0EE5-42E8-A168-D156FA7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23C55-1767-4450-AC09-B1984D6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D31FE-B13C-463B-A71B-82B6BE7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C08-D7B7-46BD-925E-6FCBF724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0A23-1524-47BF-B190-08EE505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D20C7-954B-41C8-B237-982F6F35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9E4B5-7157-4378-8485-8E7A689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6FC23-D4E2-45E3-9263-1410B638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8766E-4B21-49F4-B563-A10B1612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87513-37EF-4B07-A80E-A3CEFDA9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2751A-A664-4224-8797-D4143E4D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718CF-18E8-464C-B5AE-C7A81C77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FF51C-99BE-4D64-8BF0-46D5B9D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E2E5C-357F-4F6F-B760-E7555CF7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00693-AB73-49FE-BC2C-FAFD1113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B0EB-B254-480C-944A-9A14D42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7BADA-C32D-4599-8346-447F162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D635C-9876-45E5-9FB2-9FB9973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3CC12-4548-425C-8D02-83624EB2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0BCE2-4383-4AA7-8BDC-B888FC0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B87EA-5C0E-48D1-9978-3A5672C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A51C7-5FA6-45AF-B50F-FC46F88F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E808A-B55B-4646-BCC1-8A81317A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C6D7D-279D-4836-B2AC-69F13EFD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CDEF6-AF06-47D5-AD4A-857E34FF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1944D-18C7-4CF1-8F77-E18338C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115B-A093-43E1-8FD7-A9DC14E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782F1C-6479-4462-96BD-F44EF4B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414CD-759C-49E3-AA8A-DD23073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5100B-DDF0-43CE-B58B-759D3473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6ADE8-A2CE-425D-9581-5A5176F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C1211-E6BC-4DCF-BE31-364F7EA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78B33-56D9-4224-BC7E-7252275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91195-C584-45A5-B2C4-D26D3E8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4A955-C119-4920-A7B4-6621501D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21DA2-AB03-451E-B423-5EDD6165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FEDDA-6413-4784-989F-1C7698FF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9FAF-2D69-4FBB-98AF-6C62A98E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BC113-0C7E-4755-9F41-B3A1609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EA655-A539-4F7C-BDA9-5AB439B7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B96DC-DAE1-43DB-9F35-D040C31A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20451-97FB-4B36-9AAD-F831D631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DF1FE-5847-4727-9C06-25E4508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70B4F-5C80-486E-A659-F5A3BA9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E7BBE5-8AC0-4CF0-876B-D5860CB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1E260-CED1-4431-A662-B7AE095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56DAA-5D13-4F4A-A5EE-6D0D5143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85CBD-E3F5-447E-8AC8-EBE636A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B199-B762-490C-A4DA-DF32CB1A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4A404-FDE8-4BBA-B96C-E1FED6D6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E84C86-9A27-4DDD-8DF9-EEDB77C1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0A0A4-7171-4E85-8C30-86644A8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E0798-9A85-46A0-B692-C694CADA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DBB102-C2D5-4600-A2A6-43CBDCF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40B8B6-68F0-4EC6-AC1C-A79AB5C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78303-74EE-44BB-BFC5-7B48A4A9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11D66-82DB-4A90-9416-9521BF0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F6DF2-0947-4877-870D-3054062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60E1D-7087-4629-B7D1-5F33E82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7842-3377-490D-80B3-763244F6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FAA62-CFC4-43A9-8E04-A2F31B4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3F693-0B13-4167-9F5E-3BBE9915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24F97-10C4-416E-A85C-D27EC936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6E7D1-B18F-42F4-A273-9765A686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43E967-00AD-43E5-B9DD-AC616410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CF220E-9FF0-45C9-B73F-E2C7476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90A831-4F01-409F-9798-1772DF5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BD98FA-8D26-4FA8-9628-AFE5D38D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F55C4-79D5-4644-A87A-7A4695A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DC96A6-0B4B-49DD-8AD3-5ACFBB2B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806F-FFD5-43EC-9097-6CA2A03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F9328-992D-469A-A8DC-12885C5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D60D7-9DEB-45A8-A8B5-575F953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E62EC0-A1EE-437F-93F4-1C8949D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E263D5-D3A0-47AB-A0EB-52B7309B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DF8EC9-3D01-4023-9344-FD632A4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E4AEED-10D5-4EE1-ABE6-D7167AE0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A123D3-0E12-4377-9829-5AD9338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83FCE2-DF07-493B-8276-6A974BF8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9E5208-5C38-4D21-A2A0-C4B0F782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11BC9-43C1-4D9E-9EB4-F2BFF4A6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2182-DBA5-494B-8E47-02D035D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D5AC64-5714-4B6F-A48D-BE23AB2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EA4EF5-1EC6-498D-BB55-C7B21551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DB7E8F-DE9B-4CBF-B7BD-8A753B15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1E8204-08D0-4B1A-B9B7-CB0C3AB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743A8-5686-439C-9EC6-22609CD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19092-F3D3-405F-AA4F-B40F4BC7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856212-7C6A-4511-95E8-7F5BEDB2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BF2CD1-5C3D-4751-8349-14CAE0A9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6C29E-6B6F-49FB-B7A1-886F3A5B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C90BA2-43CC-4B7B-B9A2-D6501E8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4C9E-7EDA-4384-ACB2-97E037D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07A55F-15D0-42EE-A95C-BE49674F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6BC111-E5D7-4E5F-B663-6437BA91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7131D-D9B1-48D1-ABE2-0027A4E1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3EDCD0-A576-4037-97A1-E03AC58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457BCE-77F3-4DAA-BFCE-D81082B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B28377-BFFF-4819-8921-FAB10E9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92EAF-613C-40AD-89D5-527853E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1A83F1-34FE-4E8C-ADD3-1285B350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15708C-0234-4C0D-A321-3E26D6D7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14F49D-5C62-4E78-9A11-27BC36DB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6566-C811-444B-B7F7-EFC9B59C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E670C0-E0D3-4F18-94DC-A4E5BB2F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3FFC0B-D2A9-42A8-AFBF-F3EE694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BACFB-684F-4247-9232-6239C1E7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D30E81-E5CF-4D88-8F35-36177DE8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B6719E-72AE-4868-8E48-EF48B49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393175-222F-49E0-9C24-2FA49139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4360CF-01AE-40EF-B33F-A9D1E00B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4AFA83-722D-4BE0-85D6-1996E15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17085A-538A-40F4-A9F2-01D603FD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DD793E-DD10-4B63-9CBB-A47D35AB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C23-8D17-47B3-9F53-CA2C1A6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61B3-320A-436F-B304-708AEA8C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771A36-1607-409C-826F-48BA97EC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7DEB85-9657-447F-967A-D5088455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00B896-E9F4-4F2A-AB2F-00271A0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69C34F-06DA-488B-ACC7-C792A2F8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870E2D-D6AA-4E67-A6C7-5AA2AEDA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38A57B-ACE0-429A-85EA-B3A0CC50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7145E8-A435-4315-B1A8-C7B1E7A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FA8C7B-D152-4E82-B135-0E7BCA6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17EDA1-8B55-4152-B4B4-03F5FFC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A3D539-35D6-46DB-8891-3D21AD1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CDF9-6B93-4DC7-B1A1-8C5F0AC4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47A16C-94DA-4FFE-B4C9-BF37D63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A847E3-F298-4940-9C92-3ED2DCA7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F03EDE-B673-429E-8F8B-3399B116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F74DCC-F7EF-4B03-AA1C-8817595C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D8A773-AF12-4D60-91DA-C0A4FFC4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045DF9-24B5-40B0-AEEA-9483E73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BD2F35-1B41-42AB-9E68-DAD4D24A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F546D3-8ED9-4082-9FA6-3D595C52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D12EAD-A590-47CF-B585-96D970F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3141AE-1910-41DE-A715-BD78914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A2F4-1390-4201-A1E5-E79068B2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9D050E-B860-4DB8-A7F6-2A3ADBA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D33E91-F64B-4880-B9B5-B4762737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1C1E10-E737-4505-9D74-5B02377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3BA8BA-F32B-4CFB-B3F7-D837CD15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9D8901-0071-4EBF-99B7-ED2607D2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96E0-FE88-45FC-9D51-96F29CF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610E-0B8A-4EF7-9F33-1CC88F66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ABE1-848E-41A7-AAF9-D2425458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05CB-63D8-45D3-830A-1C8827E7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8F77-C020-43C4-8C1C-D06D455E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F392-44E2-470A-BBBE-6B3528F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B6DD6-C70F-4B79-93D1-7D779B6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8CE-204E-4181-B8CD-D78117CA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C46D-31C2-4313-9C9C-1E47594F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4F00-99C2-4510-87CA-CE8CDE69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1B83-2D40-4904-A315-8E31837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39DF7-9383-4FC3-9724-F70744D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81E1-F2C1-454F-ADC0-84B9DB8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8E5E-2780-438E-A36B-00C06A2E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32D3-FCB4-4944-BFD6-1A4BAA9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A473-B37B-47D3-B1E4-9F5C3F73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75B0-FFE3-4A13-83B8-A8BD4A0F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31885-56ED-4D7A-8700-710FA95B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60A-F397-41F4-BC98-C10412C4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CDB16-3856-4FB1-AEEC-556B973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29FE-AC19-43E0-BEC8-02B7ED57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976CB-BD05-436E-889E-557F5BA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D498D-CE94-4314-927C-FFD4015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B79E4-B5A5-4D57-A812-C5A46429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64C2-E861-424A-BD5B-7F03C40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F1A6-BA80-4DEC-A2EC-D35C22A6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B11BE-C935-46F1-8ACE-DF13EEF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4F869-4CF0-4FB8-B112-AD002BDA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864C8-F33D-4CC9-9223-C2E2836D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D65-21D0-4D4C-B413-BEA36A61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FCE8-786D-479C-A102-18070BD6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4159-1937-4A67-8EDE-01C947B3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C5FA-A6CE-4145-AC3A-8B50D35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76337-F4EB-4488-AF18-76D4DDB3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F635C-84A7-4C79-BB38-FD959D0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470DA-9441-4E40-B640-6BABA7AF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887CA-6763-4B47-A9B8-B731B13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2A335-D486-4C8A-ABE1-D31CA56F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62B03-D226-4F76-A0FB-B3F2011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17123-4A6E-47B2-B5FC-582E067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24A-9B27-4114-8D80-A4F2A1B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914EF-C127-4C4D-91A3-7DE99DE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BBA5-F695-4F9A-BCF0-D7062AA6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758D-067E-4CA9-A6CD-3A1520F0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51401-40BE-4910-9962-63B0DDD6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ABB08-F1A0-4178-90BF-D47C5FC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05884-AB26-4A05-BE70-AEEF6E7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839C9-809D-4E60-88EB-405BD808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C6E3-BF96-4D81-AD2E-A95F62E8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F1B0-E023-45D3-A08C-D5E8E533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3B84-326C-466A-A7BA-4093EDC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A69-8B73-4E3B-A7FB-1B746B2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B13D1-1066-480D-AD98-00DDA68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D8536-4F65-482D-A10E-A3A28964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5BB9-2346-45F1-AF40-A29C2BBE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30E6F-2F15-420A-B038-F73ED71A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FA9A-4C5F-4A2E-9356-39DE8158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F1E5E-E993-433E-9B4A-DA339FEA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FFC2-DB69-418E-A6A9-1B0574FB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E1B8-9DE9-4088-8CF9-7307998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C6E5-A1C4-4E6A-9A06-DF923580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F4DCE-9176-4B23-9C0D-85BBD7B5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A6D-4CCC-47E8-9231-272CA16C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16FB-7275-4F13-89C1-1AF34AE4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C2B57-3C71-405A-9BEA-81EB914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EA643-C24B-4EBD-9718-F2B1DEC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5845-273A-433D-80ED-A765AE9A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D377-4847-43E5-8C4B-BA59C2B1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24F6-A4DE-4A06-A8C5-EF0266AD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4322D-533B-42D9-8C6F-5BD6B70E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EE1C5-EFB8-4B9F-A768-7FBD7E9F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90A15-7B5C-4CCB-86A3-1FD31F4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C1C4A-0FA6-4B41-B004-7216D50C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972D-552C-4D50-8C0E-ACFA96F2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0CB0-7313-47A2-9B8D-54ACD1A46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163-1B9F-46DD-9E29-CD669CF88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A72-CD08-49C0-9BBC-D6046DFDF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EF8F-9B0A-4EBF-AC75-33EF805B0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4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5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40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7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8"/>
          <p:cNvSpPr/>
          <p:nvPr/>
        </p:nvSpPr>
        <p:spPr>
          <a:xfrm>
            <a:off x="276120" y="1255680"/>
            <a:ext cx="4656240" cy="4837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0"/>
          <p:cNvSpPr/>
          <p:nvPr/>
        </p:nvSpPr>
        <p:spPr>
          <a:xfrm>
            <a:off x="1130400" y="1415880"/>
            <a:ext cx="2873160" cy="2183040"/>
          </a:xfrm>
          <a:custGeom>
            <a:avLst/>
            <a:gdLst>
              <a:gd name="textAreaLeft" fmla="*/ 0 w 2873160"/>
              <a:gd name="textAreaRight" fmla="*/ 2873520 w 287316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1"/>
          <p:cNvSpPr/>
          <p:nvPr/>
        </p:nvSpPr>
        <p:spPr>
          <a:xfrm>
            <a:off x="376200" y="2147760"/>
            <a:ext cx="2103480" cy="30322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3032280"/>
              <a:gd name="textAreaBottom" fmla="*/ 3032640 h 3032280"/>
            </a:gdLst>
            <a:ahLst/>
            <a:rect l="textAreaLeft" t="textAreaTop" r="textAreaRight" b="textAreaBottom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2"/>
          <p:cNvSpPr/>
          <p:nvPr/>
        </p:nvSpPr>
        <p:spPr>
          <a:xfrm>
            <a:off x="1085760" y="3730680"/>
            <a:ext cx="2962440" cy="2219400"/>
          </a:xfrm>
          <a:custGeom>
            <a:avLst/>
            <a:gdLst>
              <a:gd name="textAreaLeft" fmla="*/ 0 w 2962440"/>
              <a:gd name="textAreaRight" fmla="*/ 2962800 w 29624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9"/>
          <p:cNvSpPr/>
          <p:nvPr/>
        </p:nvSpPr>
        <p:spPr>
          <a:xfrm>
            <a:off x="2625840" y="2119320"/>
            <a:ext cx="2139840" cy="3116160"/>
          </a:xfrm>
          <a:custGeom>
            <a:avLst/>
            <a:gdLst>
              <a:gd name="textAreaLeft" fmla="*/ 0 w 2139840"/>
              <a:gd name="textAreaRight" fmla="*/ 2140200 w 2139840"/>
              <a:gd name="textAreaTop" fmla="*/ 0 h 3116160"/>
              <a:gd name="textAreaBottom" fmla="*/ 3116520 h 3116160"/>
            </a:gdLst>
            <a:ahLst/>
            <a:rect l="textAreaLeft" t="textAreaTop" r="textAreaRight" b="textAreaBottom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3"/>
          <p:cNvSpPr/>
          <p:nvPr/>
        </p:nvSpPr>
        <p:spPr>
          <a:xfrm>
            <a:off x="1806480" y="2954160"/>
            <a:ext cx="1656000" cy="165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981080" y="35053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4864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1883-9F7D-471E-9CE2-365F8258708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597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DBD7-568E-4908-AF93-A99C43044520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648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6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7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8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E63D-1248-4DD2-A670-5CB624FFD7A0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699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2533-A10B-48A6-8C41-7B530B2DF7DA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750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52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53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54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F22E-AAB9-42D9-8A36-877B04CDD71F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801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BC9-9D9D-41AE-9230-3D5EB721A089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801-BD49-408A-A780-137085568E35}" type="slidenum">
              <a:rPr b="0" lang="en-US" sz="1400" spc="-1" strike="noStrike">
                <a:solidFill>
                  <a:srgbClr val="19426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49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852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8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9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0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6092-B327-4326-A124-AAB92A619D38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903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61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62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3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35E2-ACA2-4FB1-AEC8-12D619AE3D44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954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4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5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6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4D1B-1E54-4E01-BE5D-40E76312FDC0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1005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7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8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69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12C-81ED-4F59-A5E5-666FA2C27AD9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1056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0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1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2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D4C-4D6A-4C41-8B3C-4CF6358E197B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1107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73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74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75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9E7E-64F3-47EE-9B80-1412D7CACD18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1158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76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77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78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D1D0-C7F0-4755-B609-4BDDA7C62B31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1209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dt" idx="79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ftr" idx="80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 type="sldNum" idx="81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426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807-EA83-4A57-9991-4F670AB75971}" type="slidenum">
              <a:rPr b="0" lang="en-US" sz="1400" spc="-1" strike="noStrike">
                <a:solidFill>
                  <a:srgbClr val="19426b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806-00F7-4175-A7E9-D76BF2718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774E-A86F-46D0-89B2-0FA83A97F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1BC1-BDD9-4F84-8492-9BF7B0EB5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0D1E-475D-4755-918A-13B9FBE88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A55B-12C9-46A1-AB96-8A075B1C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65B-680B-458F-9291-BF52DC46A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FA93-5895-461E-BA76-FE022108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429000" y="2071800"/>
            <a:ext cx="55720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426b"/>
                </a:solidFill>
                <a:latin typeface="Verdana"/>
              </a:rPr>
              <a:t>Целеполагани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786200" y="2999880"/>
            <a:ext cx="42148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1" lang="en-US" sz="32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1266" name="Содержимое 5" descr="4.jpg"/>
          <p:cNvPicPr/>
          <p:nvPr/>
        </p:nvPicPr>
        <p:blipFill>
          <a:blip r:embed="rId1"/>
          <a:stretch/>
        </p:blipFill>
        <p:spPr>
          <a:xfrm>
            <a:off x="2000160" y="3143160"/>
            <a:ext cx="1214640" cy="1246320"/>
          </a:xfrm>
          <a:prstGeom prst="rect">
            <a:avLst/>
          </a:prstGeom>
          <a:ln w="0">
            <a:noFill/>
          </a:ln>
        </p:spPr>
      </p:pic>
      <p:sp>
        <p:nvSpPr>
          <p:cNvPr id="1267" name="Подзаголовок 4"/>
          <p:cNvSpPr/>
          <p:nvPr/>
        </p:nvSpPr>
        <p:spPr>
          <a:xfrm>
            <a:off x="4143240" y="4500720"/>
            <a:ext cx="48578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Пуденкова Е.А., метод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по физике ПОИПК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Ele-pudenkova@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Рисунок 8" descr="i.jpg"/>
          <p:cNvPicPr/>
          <p:nvPr/>
        </p:nvPicPr>
        <p:blipFill>
          <a:blip r:embed="rId2"/>
          <a:stretch/>
        </p:blipFill>
        <p:spPr>
          <a:xfrm>
            <a:off x="7480440" y="142920"/>
            <a:ext cx="1449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ехнологичная постановка цел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457200" y="124092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Постановка цели через результаты обучения, выраженные в действиях учащихся </a:t>
            </a: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(причем таких, которые учитель или другой эксперт могут надежно опознать)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Проблемы. 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Что есть результат обучения? </a:t>
            </a: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Новообразования ученика, сдвиг в развитии, который находит отражение в процессе его деятельности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Каким способом перевести результаты обучения на язык действий?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   </a:t>
            </a: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Таксономии целей 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Формулировка целе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Систему целей обучения необходимо описать через действия, адекватные учебному материалу и уровням его усвоения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Хорошая формулировка цели должна сообщать о том, что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сможет делать обучаемый, описать результат исполнения соответствующих действий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Т.е. формулировка цели должна описывать желаемые действия обучаемых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лаголы целеполагания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57200" y="12409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описывающие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состояние: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зн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поним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уме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облад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ни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ознакомиться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чувствов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4648320" y="1240920"/>
            <a:ext cx="44956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описывающие </a:t>
            </a:r>
            <a:r>
              <a:rPr b="1" i="1" lang="ru-RU" sz="2800" spc="-1" strike="noStrike">
                <a:solidFill>
                  <a:srgbClr val="008080"/>
                </a:solidFill>
                <a:latin typeface="Verdana"/>
              </a:rPr>
              <a:t>исполнение: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выполни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напис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перечисли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выдели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продемонстриро-в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указ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выбрать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соотнести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еполагани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1)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Целеполагание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-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англ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. realization of goal/aim;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нем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.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Zielverfolgung -Смыслообразующее содержание практики, состоящее в формировании цели как субъективно-идеального образа  желаемого (целеформирование) и воплощении ее в объективно-реальном результате деятельности (целереализации)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еполагани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2)</a:t>
            </a:r>
            <a:r>
              <a:rPr b="1" i="1" lang="ru-RU" sz="2800" spc="-1" strike="noStrike">
                <a:solidFill>
                  <a:srgbClr val="008080"/>
                </a:solidFill>
                <a:latin typeface="Verdana"/>
              </a:rPr>
              <a:t> Целеполагание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- процесс  формирования и выдвижения целей индивидуальным или совокупным субъектом; начинается на уровне потребностей, переходит уровень мотивов и определяется в цели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Цель образуется при встрече </a:t>
            </a:r>
            <a:r>
              <a:rPr b="1" i="1" lang="ru-RU" sz="2800" spc="-1" strike="noStrike">
                <a:solidFill>
                  <a:srgbClr val="008080"/>
                </a:solidFill>
                <a:latin typeface="Verdana"/>
              </a:rPr>
              <a:t>мотива  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(как осознанного стремления к удовлетворению потребностей) со средствами, т. е. ресурсами, условиями, возможностями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еполагани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457200" y="1071720"/>
            <a:ext cx="868680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Verdana"/>
              </a:rPr>
              <a:t>Целеполагание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 – процесс формирования цели, процесс ее развертывания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Verdana"/>
              </a:rPr>
              <a:t>Целеполагание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 – это процесс выявления целей учителя и учащихся, их предъявления друг другу, согласование, иногда корректировка  и последующее достижение целей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Этапы: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Определение – формулирование -постановка цели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лгоритм целеполагания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учет нормативных документов (стандарта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анализ обстановки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установление на этой основе потребностей и интересов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выяснение имеющихся ресурсов, сил и возможностей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выбор потребностей и интересов, удовлетворение которых даст наибольший эффект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формулирование цели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 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44" name="Нижний колонтитул 4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остановка цели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3 фазы: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Нахождение целей: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Чего Я хочу? 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(цели должны быть ясными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Ситуационный анализ: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Что Я могу? 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(регистрация ресурсов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Формулировка целей: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К чему Я приступаю?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(конкретные практические цели с четкими результатами и сроками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Цель и задач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457200" y="124128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Цель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 — отвечает на вопрос «Чего нужно достигнуть?»,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а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задача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 — на вопрос «Какими действиями этого можно достигнуть?»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По сути учебные цели представляются системой учебных задач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ли урока, проектируемые учителем, должны быть таковы, «как будто ученик сам себе их поставил; они понятны ему, очевидны, с интересом и охотой усвояемы» (С.И. Гессен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Формулирование целе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«Сегодня мы научимся трем способам решения задач с неизвестным…»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«В результате сегодняшнего урока каждый сможет сформулировать…»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блемы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Диагностичная постановка целей (через результат)</a:t>
            </a:r>
            <a:endParaRPr b="1" lang="en-US" sz="32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Конкретизация целей воспитания (развития) учащихся</a:t>
            </a:r>
            <a:endParaRPr b="1" lang="en-US" sz="32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Обучение целеполаганию (ученик и группа как субъект деятельности)</a:t>
            </a:r>
            <a:endParaRPr b="1" lang="en-US" sz="32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Действия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1. Определяем, что д.б в результате обучения на уроке у ученика (какое новообразование, изменение):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Знание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(представление и/или понятие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Умение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 (общее и/или предметное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Отношение, ценности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(воспитание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2. Выясняем уровень усвоения (базовый, повышенный, углубленный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3. Изучаем стандарт (планируемые результаты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4. Формулируем конкретные цели/задачи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аксономии целе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Таксономия Беспалько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Таксономия Блума                     (Конструктор задач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Таксономия Д. Толлингеровой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ровни усвоения деятельности по Беспалько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6" name="Рисунок 5" descr="P331.gif"/>
          <p:cNvPicPr/>
          <p:nvPr/>
        </p:nvPicPr>
        <p:blipFill>
          <a:blip r:embed="rId1"/>
          <a:stretch/>
        </p:blipFill>
        <p:spPr>
          <a:xfrm>
            <a:off x="500040" y="1143000"/>
            <a:ext cx="829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цесс усвоения деятельност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1359" name="Рисунок 5" descr="Процесс усвоеия.gif"/>
          <p:cNvPicPr/>
          <p:nvPr/>
        </p:nvPicPr>
        <p:blipFill>
          <a:blip r:embed="rId1"/>
          <a:stretch/>
        </p:blipFill>
        <p:spPr>
          <a:xfrm>
            <a:off x="295200" y="1019160"/>
            <a:ext cx="728208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457200" y="12409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Шкалы отметок (коэффициент усвоения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Эвристика и ТРИЗ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ФГОС: основная школа. Планируемые результаты освоения образовательной программы по физике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ознавательная деятельност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3" name="Содержимое 6" descr="Gjpyfdfn ltzn.gif"/>
          <p:cNvPicPr/>
          <p:nvPr/>
        </p:nvPicPr>
        <p:blipFill>
          <a:blip r:embed="rId1"/>
          <a:stretch/>
        </p:blipFill>
        <p:spPr>
          <a:xfrm>
            <a:off x="0" y="1785960"/>
            <a:ext cx="9225000" cy="3981600"/>
          </a:xfrm>
          <a:prstGeom prst="rect">
            <a:avLst/>
          </a:prstGeom>
          <a:ln w="0">
            <a:noFill/>
          </a:ln>
        </p:spPr>
      </p:pic>
      <p:sp>
        <p:nvSpPr>
          <p:cNvPr id="1364" name="TextBox 3"/>
          <p:cNvSpPr/>
          <p:nvPr/>
        </p:nvSpPr>
        <p:spPr>
          <a:xfrm>
            <a:off x="1000080" y="585792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пы формирования умственных действий               (по Гальперину П.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Обратная связ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85840" y="1285920"/>
            <a:ext cx="8858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Учебный процесс организуется не ради получения правильных ответов от учащихся, а для обучения их тем познавательным действиям, которые ведут к этим ответам. Следовательно, контролировать надо содержание формируемых действий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Обратная связь должна нести следующую информацию: 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выполняет ли обучаемый намеченное действие, 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правильно ли его выполняет; 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соответствует ли форма действия данному этапу усвоения; 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формируется ли действие с должной мерой обобщения, освоения (автоматизированности, быстроты выполнения и др.) и т.д. 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Возможны</a:t>
            </a:r>
            <a:r>
              <a:rPr b="0" lang="ru-RU" sz="24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два способа управления учебной деятельностью учащегося: разомкнутое (отсроченное) или замкнутое (немедленное) управление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Желательно определить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28400" y="1142640"/>
            <a:ext cx="87152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Verdana"/>
              </a:rPr>
              <a:t>Когнитивные задачи: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что учащийся поймет,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о чем задумается, 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что осмыслит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к какому выводу придет…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Verdana"/>
              </a:rPr>
              <a:t>Действенно-практические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какие навыки закрепит,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какие умения приобретет,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какие способности и в чем усилит..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Verdana"/>
              </a:rPr>
              <a:t>Мотивационные задачи: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что учащийся прочувствует,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чем заинтересуется,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Verdana"/>
              </a:rPr>
              <a:t>какое стремление усилит…</a:t>
            </a:r>
            <a:endParaRPr b="1" lang="en-US" sz="24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 txBox="1"/>
          <p:nvPr/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Воспитательный потенциал урока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Проектирование урока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370" name="Нижний колонтитул 4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нструирование урока (Щуркова Н.Е.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нализ урока  (Щуркова Н.Е.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858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Verdana"/>
              </a:rPr>
              <a:t>Содержание урока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Качество содержания урока – знания и мире, умения взаимодействовать с миром, отношения к миру – измеряется меркой </a:t>
            </a:r>
            <a:r>
              <a:rPr b="1" i="1" lang="en-US" sz="2000" spc="-1" strike="noStrike">
                <a:solidFill>
                  <a:srgbClr val="008080"/>
                </a:solidFill>
                <a:latin typeface="Verdana"/>
              </a:rPr>
              <a:t>«жизни»: </a:t>
            </a: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насколько жизнь присутствует на уроке как предмет изучения и осмысления. Анализировать и оценивать данный блок – значит оценивать меру возвышения учебного материала до уровня закономерности жизни. 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Verdana"/>
              </a:rPr>
              <a:t>Организация деятельности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Качество организации деятельности измеряется критерием </a:t>
            </a:r>
            <a:r>
              <a:rPr b="1" i="1" lang="en-US" sz="2000" spc="-1" strike="noStrike">
                <a:solidFill>
                  <a:srgbClr val="008080"/>
                </a:solidFill>
                <a:latin typeface="Verdana"/>
              </a:rPr>
              <a:t>«истины»</a:t>
            </a:r>
            <a:r>
              <a:rPr b="1" lang="en-US" sz="2000" spc="-1" strike="noStrike">
                <a:solidFill>
                  <a:srgbClr val="00808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в какой мере присутствует на уроке истина как объект поиска? В какой мере истина задает необходимость действий? В какой мере формируются умения взаимодействовать с истиной?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8080"/>
                </a:solidFill>
                <a:latin typeface="Verdana"/>
              </a:rPr>
              <a:t>Анализировать и оценивать данный блок – значит выявлять и оценивать меру активности всех учащихся в поисках истины и меру возможности каждым ребенком проявить свой индивидуальный вариант активного освоения и усвоения истины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Что такое Цель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213840" y="1241280"/>
            <a:ext cx="8929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Цель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– образ желаемого результата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Цель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- идеальное, мысленное предвосхищение результата деятельности </a:t>
            </a:r>
            <a:r>
              <a:rPr b="1" lang="en-US" sz="1800" spc="-1" strike="noStrike">
                <a:solidFill>
                  <a:srgbClr val="008080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8080"/>
                </a:solidFill>
                <a:latin typeface="Verdana"/>
              </a:rPr>
              <a:t>Энциклопедический словарь</a:t>
            </a:r>
            <a:r>
              <a:rPr b="1" lang="en-US" sz="1800" spc="-1" strike="noStrike">
                <a:solidFill>
                  <a:srgbClr val="008080"/>
                </a:solidFill>
                <a:latin typeface="Verdana"/>
              </a:rPr>
              <a:t>)</a:t>
            </a:r>
            <a:endParaRPr b="1" lang="en-US" sz="1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Цель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 — идеальный или реальный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предмет 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сознательного или бессознательного стремления субъекта; финальный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результат, 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на который преднамеренно направлен процесс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Цель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- предвосхищение в сознании 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результата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, на достижение которого направлены действия </a:t>
            </a:r>
            <a:r>
              <a:rPr b="1" i="1" lang="en-US" sz="1800" spc="-1" strike="noStrike">
                <a:solidFill>
                  <a:srgbClr val="008080"/>
                </a:solidFill>
                <a:latin typeface="Verdana"/>
              </a:rPr>
              <a:t>(Философский словарь)</a:t>
            </a:r>
            <a:endParaRPr b="1" lang="en-US" sz="1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одолжени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8858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80"/>
                </a:solidFill>
                <a:latin typeface="Verdana"/>
              </a:rPr>
              <a:t>Взаимоотношения на уроке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Качество протекающих на уроке взаимоотношений между людьми измеряется критерием </a:t>
            </a:r>
            <a:r>
              <a:rPr b="1" i="1" lang="ru-RU" sz="2000" spc="-1" strike="noStrike">
                <a:solidFill>
                  <a:srgbClr val="008080"/>
                </a:solidFill>
                <a:latin typeface="Verdana"/>
              </a:rPr>
              <a:t>«человека»</a:t>
            </a:r>
            <a:r>
              <a:rPr b="1" lang="ru-RU" sz="2000" spc="-1" strike="noStrike">
                <a:solidFill>
                  <a:srgbClr val="00808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какова мера уважения к человеку, присутствующему на уроке? К человеку, вступающему во взаимодействие с другим человеком? К человеку, опосредованно находящемуся в контексте урочной работы группы? К человеку, которым является каждый присутствующий?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Профессиональное внимание педагога направляется по следующим основным векторам: «учитель – ученик», «ученик – учитель», «ученик – ученик».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Анализировать и оценивать данный блок – значит определить меру соответствия этическому образцу современного культурного уровня реально протекающих отношений между людьми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Verdana"/>
              </a:rPr>
              <a:t>Три блока, три критерия и ряд методических положений, соответствующих критериям оценки, - ядро анализа урока.</a:t>
            </a:r>
            <a:endParaRPr b="1" lang="en-US" sz="20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Прямоугольник 10" descr=""/>
          <p:cNvPicPr/>
          <p:nvPr/>
        </p:nvPicPr>
        <p:blipFill>
          <a:blip r:embed="rId2"/>
          <a:stretch/>
        </p:blipFill>
        <p:spPr>
          <a:xfrm>
            <a:off x="324000" y="2316240"/>
            <a:ext cx="8680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457200" y="1214280"/>
            <a:ext cx="86868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Цель</a:t>
            </a: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 – это описание поведения, которое должен продемонстрировать обучаемый, чтобы подтвердить свою компетентность в изучаемом вопросе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ль описывает ожидаемый результат, а не сам учебный процесс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ебования к цели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4"/>
          <p:cNvSpPr/>
          <p:nvPr/>
        </p:nvSpPr>
        <p:spPr>
          <a:xfrm rot="5400000">
            <a:off x="-2422440" y="162648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5"/>
          <p:cNvSpPr/>
          <p:nvPr/>
        </p:nvSpPr>
        <p:spPr>
          <a:xfrm flipH="1" rot="5400000">
            <a:off x="-2034720" y="2045520"/>
            <a:ext cx="4032360" cy="396396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63960"/>
              <a:gd name="textAreaBottom" fmla="*/ 1415520 h 396396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6"/>
          <p:cNvSpPr/>
          <p:nvPr/>
        </p:nvSpPr>
        <p:spPr>
          <a:xfrm>
            <a:off x="1822320" y="525132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e3841b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426b"/>
                </a:solidFill>
                <a:latin typeface="Arial"/>
              </a:rPr>
              <a:t>побудите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7"/>
          <p:cNvSpPr/>
          <p:nvPr/>
        </p:nvSpPr>
        <p:spPr>
          <a:xfrm>
            <a:off x="2317680" y="4424400"/>
            <a:ext cx="5183280" cy="507960"/>
          </a:xfrm>
          <a:prstGeom prst="roundRect">
            <a:avLst>
              <a:gd name="adj" fmla="val 50000"/>
            </a:avLst>
          </a:prstGeom>
          <a:solidFill>
            <a:srgbClr val="a6a6a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426b"/>
                </a:solidFill>
                <a:latin typeface="Arial"/>
              </a:rPr>
              <a:t>определена в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8"/>
          <p:cNvSpPr/>
          <p:nvPr/>
        </p:nvSpPr>
        <p:spPr>
          <a:xfrm>
            <a:off x="2268360" y="357336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85dfdb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426b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19426b"/>
                </a:solidFill>
                <a:latin typeface="Arial"/>
              </a:rPr>
              <a:t>реалистич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AutoShape 9"/>
          <p:cNvSpPr/>
          <p:nvPr/>
        </p:nvSpPr>
        <p:spPr>
          <a:xfrm>
            <a:off x="2286000" y="2743200"/>
            <a:ext cx="4419720" cy="507960"/>
          </a:xfrm>
          <a:prstGeom prst="roundRect">
            <a:avLst>
              <a:gd name="adj" fmla="val 50000"/>
            </a:avLst>
          </a:prstGeom>
          <a:solidFill>
            <a:srgbClr val="92d050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426b"/>
                </a:solidFill>
                <a:latin typeface="Arial"/>
              </a:rPr>
              <a:t>диагностич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10"/>
          <p:cNvSpPr/>
          <p:nvPr/>
        </p:nvSpPr>
        <p:spPr>
          <a:xfrm>
            <a:off x="1765440" y="1973160"/>
            <a:ext cx="441936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426b"/>
                </a:solidFill>
                <a:latin typeface="Arial"/>
              </a:rPr>
              <a:t>конкре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Group 11"/>
          <p:cNvGrpSpPr/>
          <p:nvPr/>
        </p:nvGrpSpPr>
        <p:grpSpPr>
          <a:xfrm>
            <a:off x="1447920" y="2062080"/>
            <a:ext cx="380880" cy="381240"/>
            <a:chOff x="1447920" y="2062080"/>
            <a:chExt cx="380880" cy="381240"/>
          </a:xfrm>
        </p:grpSpPr>
        <p:sp>
          <p:nvSpPr>
            <p:cNvPr id="1285" name="Oval 12"/>
            <p:cNvSpPr/>
            <p:nvPr/>
          </p:nvSpPr>
          <p:spPr>
            <a:xfrm>
              <a:off x="144792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Oval 13"/>
            <p:cNvSpPr/>
            <p:nvPr/>
          </p:nvSpPr>
          <p:spPr>
            <a:xfrm>
              <a:off x="146952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14"/>
            <p:cNvSpPr/>
            <p:nvPr/>
          </p:nvSpPr>
          <p:spPr>
            <a:xfrm>
              <a:off x="1488960" y="210312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val 15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16"/>
            <p:cNvSpPr/>
            <p:nvPr/>
          </p:nvSpPr>
          <p:spPr>
            <a:xfrm>
              <a:off x="150804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17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18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1292" name="Oval 19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20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21"/>
            <p:cNvSpPr/>
            <p:nvPr/>
          </p:nvSpPr>
          <p:spPr>
            <a:xfrm>
              <a:off x="2022120" y="289044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22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Oval 23"/>
            <p:cNvSpPr/>
            <p:nvPr/>
          </p:nvSpPr>
          <p:spPr>
            <a:xfrm>
              <a:off x="20415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24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25"/>
          <p:cNvGrpSpPr/>
          <p:nvPr/>
        </p:nvGrpSpPr>
        <p:grpSpPr>
          <a:xfrm>
            <a:off x="2124000" y="3645000"/>
            <a:ext cx="360360" cy="380880"/>
            <a:chOff x="2124000" y="3645000"/>
            <a:chExt cx="360360" cy="380880"/>
          </a:xfrm>
        </p:grpSpPr>
        <p:sp>
          <p:nvSpPr>
            <p:cNvPr id="1299" name="Oval 26"/>
            <p:cNvSpPr/>
            <p:nvPr/>
          </p:nvSpPr>
          <p:spPr>
            <a:xfrm>
              <a:off x="2124000" y="3645000"/>
              <a:ext cx="36036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Oval 27"/>
            <p:cNvSpPr/>
            <p:nvPr/>
          </p:nvSpPr>
          <p:spPr>
            <a:xfrm>
              <a:off x="2144520" y="3666240"/>
              <a:ext cx="319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28"/>
            <p:cNvSpPr/>
            <p:nvPr/>
          </p:nvSpPr>
          <p:spPr>
            <a:xfrm>
              <a:off x="2163600" y="3686040"/>
              <a:ext cx="28116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29"/>
            <p:cNvSpPr/>
            <p:nvPr/>
          </p:nvSpPr>
          <p:spPr>
            <a:xfrm>
              <a:off x="2163240" y="3686400"/>
              <a:ext cx="2815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Oval 30"/>
            <p:cNvSpPr/>
            <p:nvPr/>
          </p:nvSpPr>
          <p:spPr>
            <a:xfrm>
              <a:off x="2180880" y="3705120"/>
              <a:ext cx="24444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Oval 31"/>
            <p:cNvSpPr/>
            <p:nvPr/>
          </p:nvSpPr>
          <p:spPr>
            <a:xfrm>
              <a:off x="2181600" y="3705840"/>
              <a:ext cx="2444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Group 32"/>
          <p:cNvGrpSpPr/>
          <p:nvPr/>
        </p:nvGrpSpPr>
        <p:grpSpPr>
          <a:xfrm>
            <a:off x="1981080" y="4525920"/>
            <a:ext cx="381240" cy="380880"/>
            <a:chOff x="1981080" y="4525920"/>
            <a:chExt cx="381240" cy="380880"/>
          </a:xfrm>
        </p:grpSpPr>
        <p:sp>
          <p:nvSpPr>
            <p:cNvPr id="1306" name="Oval 33"/>
            <p:cNvSpPr/>
            <p:nvPr/>
          </p:nvSpPr>
          <p:spPr>
            <a:xfrm>
              <a:off x="1981080" y="452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34"/>
            <p:cNvSpPr/>
            <p:nvPr/>
          </p:nvSpPr>
          <p:spPr>
            <a:xfrm>
              <a:off x="2002680" y="454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Oval 35"/>
            <p:cNvSpPr/>
            <p:nvPr/>
          </p:nvSpPr>
          <p:spPr>
            <a:xfrm>
              <a:off x="2022120" y="45669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36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37"/>
            <p:cNvSpPr/>
            <p:nvPr/>
          </p:nvSpPr>
          <p:spPr>
            <a:xfrm>
              <a:off x="20415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38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39"/>
          <p:cNvGrpSpPr/>
          <p:nvPr/>
        </p:nvGrpSpPr>
        <p:grpSpPr>
          <a:xfrm>
            <a:off x="1523880" y="5300640"/>
            <a:ext cx="355680" cy="380880"/>
            <a:chOff x="1523880" y="5300640"/>
            <a:chExt cx="355680" cy="380880"/>
          </a:xfrm>
        </p:grpSpPr>
        <p:sp>
          <p:nvSpPr>
            <p:cNvPr id="1313" name="Oval 40"/>
            <p:cNvSpPr/>
            <p:nvPr/>
          </p:nvSpPr>
          <p:spPr>
            <a:xfrm>
              <a:off x="152388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val 41"/>
            <p:cNvSpPr/>
            <p:nvPr/>
          </p:nvSpPr>
          <p:spPr>
            <a:xfrm>
              <a:off x="154404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val 42"/>
            <p:cNvSpPr/>
            <p:nvPr/>
          </p:nvSpPr>
          <p:spPr>
            <a:xfrm>
              <a:off x="156168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43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val 44"/>
            <p:cNvSpPr/>
            <p:nvPr/>
          </p:nvSpPr>
          <p:spPr>
            <a:xfrm>
              <a:off x="158112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val 45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WordArt 47"/>
          <p:cNvSpPr txBox="1"/>
          <p:nvPr/>
        </p:nvSpPr>
        <p:spPr>
          <a:xfrm rot="5400000">
            <a:off x="-650160" y="3722040"/>
            <a:ext cx="2657520" cy="64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Цель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0" name="Рисунок 54" descr="goal.jpg"/>
          <p:cNvPicPr/>
          <p:nvPr/>
        </p:nvPicPr>
        <p:blipFill>
          <a:blip r:embed="rId2"/>
          <a:stretch/>
        </p:blipFill>
        <p:spPr>
          <a:xfrm>
            <a:off x="6413400" y="0"/>
            <a:ext cx="273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Критерии SM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285840" y="1213920"/>
            <a:ext cx="885816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Specific — конкретная, определённая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Measurable — измеримая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Achievable — достижимая, выполнимая для конкретного исполнителя. Цель должна соответствовать возможностям исполнителя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Relevant — соответствующая контексту. Достижение цели должно быть обеспечено ресурсами (реальная)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Timed/Time-bounded — Привязанная к точке/интервалу времени. Нет привязки — нет цели (есть мечты).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Иерархия целе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ли образования в обществе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ли образования, реализуемые на различных этапах системы непрерывного образования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ли образования, реализуемые в учебном процессе конкретного ОУ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Цели образования, реализуемые через учебный предмет и деятельность учителя (и ученика)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Образовательные и личностно значимые цели учителя и ученика на уроке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актикум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57120" y="1240920"/>
            <a:ext cx="8786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Типичные способы постановки целей: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8bb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Определение целей через изучаемое содержание.</a:t>
            </a: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                                     </a:t>
            </a: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Например: «изучить явление электромагнитной индукции», «изучить содержание параграфа №…»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8bb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Определение целей через деятельность учителя.                   </a:t>
            </a:r>
            <a:r>
              <a:rPr b="0" i="1" lang="en-US" sz="2800" spc="-1" strike="noStrike">
                <a:solidFill>
                  <a:srgbClr val="008080"/>
                </a:solidFill>
                <a:latin typeface="Verdana"/>
              </a:rPr>
              <a:t>Например: «познакомить учащихся с принципом действия ДВС», «объяснить 2-й закон Ньютона»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8bb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актикум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213840" y="1071720"/>
            <a:ext cx="892980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Verdana"/>
              </a:rPr>
              <a:t>3.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Постановка целей через внутренние процессы интеллектуального, эмоционального, личностного развития учащихся.                        </a:t>
            </a:r>
            <a:r>
              <a:rPr b="0" i="1" lang="ru-RU" sz="2800" spc="-1" strike="noStrike">
                <a:solidFill>
                  <a:srgbClr val="008080"/>
                </a:solidFill>
                <a:latin typeface="Verdana"/>
              </a:rPr>
              <a:t>Например; «формировать познавательный интерес»,«формировать умение анализи-ровать наблюдаемые явления», «развивать умение выразительного чтения».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Verdana"/>
              </a:rPr>
              <a:t>4.  </a:t>
            </a:r>
            <a:r>
              <a:rPr b="1" lang="ru-RU" sz="2800" spc="-1" strike="noStrike">
                <a:solidFill>
                  <a:srgbClr val="008080"/>
                </a:solidFill>
                <a:latin typeface="Verdana"/>
              </a:rPr>
              <a:t>Постановка целей через учебную деятельность учащихся (процесс) </a:t>
            </a:r>
            <a:r>
              <a:rPr b="0" i="1" lang="ru-RU" sz="2800" spc="-1" strike="noStrike">
                <a:solidFill>
                  <a:srgbClr val="008080"/>
                </a:solidFill>
                <a:latin typeface="Verdana"/>
              </a:rPr>
              <a:t>Например: «решение задач на ЗСЭ», «исследование клеточной структуры растений», «выполнение упражнений…»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1:00:29Z</dcterms:created>
  <dc:creator>Admin</dc:creator>
  <dc:description/>
  <dc:language>en-US</dc:language>
  <cp:lastModifiedBy>Пуденкова</cp:lastModifiedBy>
  <dcterms:modified xsi:type="dcterms:W3CDTF">2011-06-16T08:04:33Z</dcterms:modified>
  <cp:revision>75</cp:revision>
  <dc:subject/>
  <dc:title>Слайд 1</dc:title>
</cp:coreProperties>
</file>