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3210-12EA-4409-A8A2-D4E8D0E7A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653C-2F90-4B4B-91E5-5CD744C8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AFCA-F940-4EB1-B058-10D89F315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B950-3850-4531-9BCF-12492E6D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3DA2-DF2C-4983-9637-C110112E9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F216-E8A0-4EDC-B124-60CD8194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C4E1-EC8C-45B4-BFAA-6D2D991D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11F5-83AC-4E47-B020-50AC56E8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BB77-8141-4501-9BEB-0C47C3DE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79B1-1556-41CD-AABA-522EAED3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E2D1-440A-4545-B195-EE2D5254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BA9F-7E5D-4589-AEE7-C8B029D2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41CC-D436-4009-9D20-1354D43F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B39C-81A5-488B-A6F0-EB87A58C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12F5-C521-48E9-9DF8-CCAEC694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89E0-4184-40F4-928B-24E0208AF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61C7-E51B-4E4D-8772-F0FD56838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FE2C-C100-4330-B1CD-0833CE83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CC95-0679-4E92-8008-46C1F8E1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FB65-FF05-432F-9FB3-4A66FF9E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2B94-28B4-4DF7-A2FD-E91BE264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72D3-380A-47A0-A98F-22586AB9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C098-5733-4AD8-8D04-AEA8324A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A37D-FF4A-46C9-8F65-27D360B7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1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cc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cc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cccc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edf1f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2123-32F2-4009-A1A9-A9421D436238}" type="slidenum">
              <a:rPr b="1" lang="en-US" sz="2800" spc="-1" strike="noStrike">
                <a:solidFill>
                  <a:srgbClr val="edf1f3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3333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3333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00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1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4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1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3333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cccc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cccc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00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edf1f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CA74-2678-42A6-B74A-7E692CF831DF}" type="slidenum">
              <a:rPr b="1" lang="en-US" sz="3200" spc="-1" strike="noStrike">
                <a:solidFill>
                  <a:srgbClr val="edf1f3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cccc00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1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Проектирование урока физики с использованием современных технологи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258560" y="4508280"/>
            <a:ext cx="72327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Пуденкова Е.А., методист по физике ПОИПКРО 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1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5280" y="1219320"/>
            <a:ext cx="784872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Педагогическое проектировани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5280" y="2421000"/>
            <a:ext cx="7848720" cy="37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существляется в 3 последовательных этап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Моделирова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ектирова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онструировани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1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Моделирован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220500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Моделирование урок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это процесс определения основных его параметро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ключает в себя: выбор концепции или технологической идеи, определяющих мировоззренческое поле урока, постановку цели урока, определение его вида и тип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Модель урока – это и есть общее представление учителя об уроке, которое он хотел бы воплотить на практике. Это абрис, эскиз, идеальная «версия» уро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1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2920" y="907920"/>
            <a:ext cx="7086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Проектировани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8028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Проектирование уро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-  этот этап состоит в разработке регулятивов (способов), с помощью которых будет достигаться поставленная цель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акими регулятивами являются компоненты педагогического процесса – задачи, принципы, содержание, методы, формы учебной деятель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этом этапе создается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педагогическая структура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ждый компонент которой как бы материализует модель как исходный образ уро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этом этапе разработки урока осуществляется подбор материала, который на следующем этапе будет превращаться в технологи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1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02920" y="980640"/>
            <a:ext cx="6870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Конструирование урок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8028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Конструирование урока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создание технологии обучения как процесса освоения ими учебного материала. Технология урока и есть сама система взаимодействия учителя и учащихся, направленная на овладение ими учебным материалом согласно поставленной цели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По сути, технология урока – та последовательность действий учителя и учащихся, благодаря которой достигается цель урок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Конструирование урока для учителя выливается в создание своей специфической методической и психологической структур в соответствии с моделью и уже построенной педагогической структурой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Формы конструирования – конспекты уроков, сценарии, планы, планы-тезисы, схемы, методические разработки. Через их реализацию учитель ведет детей к Истин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1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4920" y="1125360"/>
            <a:ext cx="7086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Принципы проектирован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95280" y="2060640"/>
            <a:ext cx="78487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инцип достаточной полноты охвата проектируемого объект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инцип системного единства всех этапов и форм проектирования уро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инцип человеческих приоритет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инцип саморазвития педагогического процесса уро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инцип доступности проектирования и проекто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1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4920" y="1219320"/>
            <a:ext cx="708660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Литератур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2276640"/>
            <a:ext cx="784872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езрукова В.С. Все о современном уроке в школе: проблемы и решения. Книга 2. - М.: Сентябрь, 2004. - С.8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1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763640" y="1916280"/>
            <a:ext cx="6696000" cy="14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Желаю успех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04000" y="4869000"/>
            <a:ext cx="11667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15:00:00Z</dcterms:created>
  <dc:creator>Lena</dc:creator>
  <dc:description/>
  <dc:language>en-US</dc:language>
  <cp:lastModifiedBy>лена</cp:lastModifiedBy>
  <dcterms:modified xsi:type="dcterms:W3CDTF">2007-12-06T08:51:01Z</dcterms:modified>
  <cp:revision>5</cp:revision>
  <dc:subject/>
  <dc:title>Проектирование урока физики с использованием современных технологий</dc:title>
</cp:coreProperties>
</file>