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B64B-CC01-44B8-8EDA-B6ED0517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A478-00B0-4C4D-B2EB-505F239C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B7FB-FD8B-4C67-9237-AC4C0E6C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B02F-2895-4B4B-909A-031CA2C0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A03B-8932-494F-B983-27EB3B53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9896-08FA-4CF6-BE68-CF985DB4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DD56-AE0E-4F3A-ABC4-EF99AAC1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5A78-D7B7-46C6-AE8A-FAD2ADDA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282F-C446-41CF-A001-B3A4CA17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7393-2AE6-4916-BA9A-DC1B51F7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8102-5660-4551-A978-258C8F95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D5AD-7E67-48D4-ABF6-EFF000F4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0F4C-667C-4A7B-909A-39D59781BB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Технология деятельностного мето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14520"/>
            <a:ext cx="6400800" cy="14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терсон Л.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убышева М.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050840" y="3952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289080" y="3189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85800" y="914400"/>
            <a:ext cx="3276720" cy="7621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ff"/>
              </a:gs>
            </a:gsLst>
            <a:lin ang="5400000"/>
          </a:gradFill>
          <a:ln w="22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) Включение в сист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ний и повто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990720" y="1676520"/>
            <a:ext cx="73152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685800" y="1676520"/>
            <a:ext cx="3276720" cy="326376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d0ffb8"/>
              </a:gs>
            </a:gsLst>
            <a:lin ang="5400000"/>
          </a:gradFill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ение заданий, где новый способ действий используется как шаг в более общем алгоритме ре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 заданий на тренировку ранее изученных алгоритмов, с целью подготовки введения нового 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5257800" y="914400"/>
            <a:ext cx="3429000" cy="7621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ff"/>
              </a:gs>
            </a:gsLst>
            <a:lin ang="5400000"/>
          </a:gradFill>
          <a:ln w="22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) Рефлексия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итог уро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5257800" y="1676520"/>
            <a:ext cx="3429000" cy="326376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d0ffb8"/>
              </a:gs>
            </a:gsLst>
            <a:lin ang="5400000"/>
          </a:gradFill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оценка детьми собствен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отнесение полученных результатов с поставленной целью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 дальнейше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2"/>
          <p:cNvSpPr/>
          <p:nvPr/>
        </p:nvSpPr>
        <p:spPr>
          <a:xfrm>
            <a:off x="3962520" y="2819520"/>
            <a:ext cx="1295280" cy="144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5257800" y="5257800"/>
            <a:ext cx="3429000" cy="1281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66"/>
              </a:gs>
              <a:gs pos="100000">
                <a:srgbClr val="ffffff"/>
              </a:gs>
            </a:gsLst>
            <a:lin ang="2700000"/>
          </a:gradFill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п завершается фиксацией разрешения учебной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685800" y="5257800"/>
            <a:ext cx="327672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66"/>
              </a:gs>
              <a:gs pos="100000">
                <a:srgbClr val="ffffff"/>
              </a:gs>
            </a:gsLst>
            <a:lin ang="2700000"/>
          </a:gradFill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п завершается формулировкой или уточнением темы 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5"/>
          <p:cNvSpPr/>
          <p:nvPr/>
        </p:nvSpPr>
        <p:spPr>
          <a:xfrm>
            <a:off x="76320" y="2819520"/>
            <a:ext cx="60948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5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8000"/>
                            </p:stCondLst>
                            <p:childTnLst>
                              <p:par>
                                <p:cTn id="41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4500"/>
                            </p:stCondLst>
                            <p:childTnLst>
                              <p:par>
                                <p:cTn id="42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Дидактические  принципы  организации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 учебно-воспитательного  процесса предпрофильной  подготовки  по  математик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565000" y="1905120"/>
            <a:ext cx="388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3300"/>
                </a:solidFill>
                <a:latin typeface="Arial"/>
              </a:rPr>
              <a:t>1.  Принцип деятельности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380240" y="2819520"/>
            <a:ext cx="6318360" cy="734040"/>
          </a:xfrm>
          <a:prstGeom prst="rect">
            <a:avLst/>
          </a:prstGeom>
          <a:solidFill>
            <a:srgbClr val="ffff66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е предпрофильной подготов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щий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вляется не объектом, а субъектом деятель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2442600" y="4267080"/>
            <a:ext cx="389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3300"/>
                </a:solidFill>
                <a:latin typeface="Arial"/>
              </a:rPr>
              <a:t>2. Принцип вариатив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371600" y="5105520"/>
            <a:ext cx="6400800" cy="703800"/>
          </a:xfrm>
          <a:prstGeom prst="rect">
            <a:avLst/>
          </a:prstGeom>
          <a:solidFill>
            <a:srgbClr val="99ccff"/>
          </a:solidFill>
          <a:ln w="22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стоятельный выбор учащимися вариа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его профи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50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2286000" y="380880"/>
            <a:ext cx="4495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3300"/>
                </a:solidFill>
                <a:latin typeface="Arial"/>
              </a:rPr>
              <a:t>3.  Принцип минимакс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219320" y="1143000"/>
            <a:ext cx="6400800" cy="1008720"/>
          </a:xfrm>
          <a:prstGeom prst="rect">
            <a:avLst/>
          </a:prstGeom>
          <a:solidFill>
            <a:srgbClr val="00ff00"/>
          </a:solidFill>
          <a:ln w="25560">
            <a:solidFill>
              <a:srgbClr val="1be5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едение уровня подачи материала и уров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ований к его освоен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ноуровневое содержание курсов по выбо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1376640" y="2590920"/>
            <a:ext cx="6320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3300"/>
                </a:solidFill>
                <a:latin typeface="Arial"/>
              </a:rPr>
              <a:t>4. Принцип психологической комфорт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914400" y="3429000"/>
            <a:ext cx="7238880" cy="1008720"/>
          </a:xfrm>
          <a:prstGeom prst="rect">
            <a:avLst/>
          </a:prstGeom>
          <a:solidFill>
            <a:srgbClr val="66ffff"/>
          </a:solidFill>
          <a:ln w="2232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ятие стрессобразующих факторов учебного процесса, создание доброжелательной атмосферы, ориенти-рованной на реализацию идей педагогики сотрудни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2741760" y="4800600"/>
            <a:ext cx="350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3300"/>
                </a:solidFill>
                <a:latin typeface="Arial"/>
              </a:rPr>
              <a:t>5.  Принцип творч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914400" y="5562720"/>
            <a:ext cx="7010280" cy="1008720"/>
          </a:xfrm>
          <a:prstGeom prst="rect">
            <a:avLst/>
          </a:prstGeom>
          <a:solidFill>
            <a:srgbClr val="ffcc99"/>
          </a:solidFill>
          <a:ln w="22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симальная ориентация на творческое начало в учебной деятельности учащихся, приобретение ими собственного опыта творческ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850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6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2514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. Дистервег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57200" y="609480"/>
            <a:ext cx="8077320" cy="1374480"/>
          </a:xfrm>
          <a:prstGeom prst="rect">
            <a:avLst/>
          </a:prstGeom>
          <a:solidFill>
            <a:srgbClr val="ffffb7"/>
          </a:solidFill>
          <a:ln w="22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Главная цель воспитателя должна заключать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развитии само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агодаря которой человек может впоследствии стать распорядителем своей судьбы, продолжателем образования своей жизн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457200" y="2590920"/>
            <a:ext cx="8153280" cy="1069560"/>
          </a:xfrm>
          <a:prstGeom prst="rect">
            <a:avLst/>
          </a:prstGeom>
          <a:solidFill>
            <a:srgbClr val="00ffff"/>
          </a:solidFill>
          <a:ln w="22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ать труд человек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 свободный, наполняющий душ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дать средства к выполнению этого тру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т полное определение цели педагогической деятельност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533520" y="1981080"/>
            <a:ext cx="2819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.Д. Ушинск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533520" y="518148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.Н. Леонтье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57200" y="4419720"/>
            <a:ext cx="8077320" cy="764640"/>
          </a:xfrm>
          <a:prstGeom prst="rect">
            <a:avLst/>
          </a:prstGeom>
          <a:solidFill>
            <a:srgbClr val="ffcccc"/>
          </a:solidFill>
          <a:ln w="1908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Надо учить не содержанию науки, 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еятельности по его освоению».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533520" y="3733920"/>
            <a:ext cx="2819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.Г. Белинск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457200" y="5791320"/>
            <a:ext cx="8153280" cy="978120"/>
          </a:xfrm>
          <a:prstGeom prst="rect">
            <a:avLst/>
          </a:prstGeom>
          <a:solidFill>
            <a:srgbClr val="99ff99"/>
          </a:solidFill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менно забвением ро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еятельности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амого ученик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ясняется тот факт, что многие уроки проходят впустую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57200" y="3352680"/>
            <a:ext cx="2514600" cy="15242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ель: Воспроизведение зн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57200" y="1676520"/>
            <a:ext cx="2514600" cy="1552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гматическ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429000" y="3352680"/>
            <a:ext cx="2209680" cy="15242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ель: Сознательное усвоение зн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429000" y="1676520"/>
            <a:ext cx="2209680" cy="1552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а нагляд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6019920" y="3352680"/>
            <a:ext cx="2514600" cy="15242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ель:     Готовность к саморазвит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6019920" y="1676520"/>
            <a:ext cx="2514600" cy="1552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а развивающе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>
            <a:off x="5638680" y="2438280"/>
            <a:ext cx="3812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>
            <a:off x="2971800" y="2438280"/>
            <a:ext cx="380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1905120" y="533520"/>
            <a:ext cx="556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этапы развит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стемы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457200" y="5029200"/>
            <a:ext cx="2514600" cy="1339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холастический мет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3429000" y="5029200"/>
            <a:ext cx="2209680" cy="1339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яснительно-иллюстративный мет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6095880" y="5029200"/>
            <a:ext cx="2438640" cy="1339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ный мет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7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9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3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6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5105520" y="685800"/>
            <a:ext cx="3352680" cy="1552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стема развивающего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685800" y="2514600"/>
            <a:ext cx="3657600" cy="3809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дактические принци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Принцип нагля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Принцип нау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Принцип преемств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Принцип доступ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 Принцип систем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) Принцип сознатель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воения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5181480" y="2514600"/>
            <a:ext cx="3200400" cy="3809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5"/>
          <p:cNvGrpSpPr/>
          <p:nvPr/>
        </p:nvGrpSpPr>
        <p:grpSpPr>
          <a:xfrm>
            <a:off x="4267080" y="685800"/>
            <a:ext cx="533520" cy="1371600"/>
            <a:chOff x="4267080" y="685800"/>
            <a:chExt cx="533520" cy="1371600"/>
          </a:xfrm>
        </p:grpSpPr>
        <p:sp>
          <p:nvSpPr>
            <p:cNvPr id="68" name="Line 6"/>
            <p:cNvSpPr/>
            <p:nvPr/>
          </p:nvSpPr>
          <p:spPr>
            <a:xfrm>
              <a:off x="4267080" y="685800"/>
              <a:ext cx="5335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7"/>
            <p:cNvSpPr/>
            <p:nvPr/>
          </p:nvSpPr>
          <p:spPr>
            <a:xfrm>
              <a:off x="4267080" y="914400"/>
              <a:ext cx="5335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8"/>
            <p:cNvSpPr/>
            <p:nvPr/>
          </p:nvSpPr>
          <p:spPr>
            <a:xfrm>
              <a:off x="4267080" y="1143000"/>
              <a:ext cx="5335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9"/>
            <p:cNvSpPr/>
            <p:nvPr/>
          </p:nvSpPr>
          <p:spPr>
            <a:xfrm>
              <a:off x="4267080" y="1371600"/>
              <a:ext cx="5335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0"/>
            <p:cNvSpPr/>
            <p:nvPr/>
          </p:nvSpPr>
          <p:spPr>
            <a:xfrm>
              <a:off x="4267080" y="1600200"/>
              <a:ext cx="5335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1"/>
            <p:cNvSpPr/>
            <p:nvPr/>
          </p:nvSpPr>
          <p:spPr>
            <a:xfrm>
              <a:off x="4267080" y="1828800"/>
              <a:ext cx="5335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2"/>
            <p:cNvSpPr/>
            <p:nvPr/>
          </p:nvSpPr>
          <p:spPr>
            <a:xfrm>
              <a:off x="4267080" y="2057400"/>
              <a:ext cx="5335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Rectangle 13"/>
          <p:cNvSpPr/>
          <p:nvPr/>
        </p:nvSpPr>
        <p:spPr>
          <a:xfrm>
            <a:off x="1219320" y="2666880"/>
            <a:ext cx="2286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1752480" y="2666880"/>
            <a:ext cx="2286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3352680" y="2666880"/>
            <a:ext cx="2286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2286000" y="2666880"/>
            <a:ext cx="2286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2819520" y="2666880"/>
            <a:ext cx="2286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8"/>
          <p:cNvSpPr/>
          <p:nvPr/>
        </p:nvSpPr>
        <p:spPr>
          <a:xfrm>
            <a:off x="1447920" y="2819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9"/>
          <p:cNvSpPr/>
          <p:nvPr/>
        </p:nvSpPr>
        <p:spPr>
          <a:xfrm>
            <a:off x="198108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0"/>
          <p:cNvSpPr/>
          <p:nvPr/>
        </p:nvSpPr>
        <p:spPr>
          <a:xfrm>
            <a:off x="251460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1"/>
          <p:cNvSpPr/>
          <p:nvPr/>
        </p:nvSpPr>
        <p:spPr>
          <a:xfrm>
            <a:off x="3048120" y="2819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3657600" cy="1600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стем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глядного обуч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9500"/>
                            </p:stCondLst>
                            <p:childTnLst>
                              <p:par>
                                <p:cTn id="14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85800" y="609480"/>
            <a:ext cx="3124080" cy="1552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стема наглядного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724280" y="2514600"/>
            <a:ext cx="4038840" cy="3809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 Принцип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 Принцип непреры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 Принцип целостного представления о м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 Принцип минима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)  Принцип психологической комфор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)  Принцип вариа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)  Принцип 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609480" y="2514600"/>
            <a:ext cx="3581640" cy="3809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  Принцип нагляд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  Принцип нау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  Принцип преем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  Принцип доступ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)   Принцип сознательного усвоения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066680" y="2819520"/>
            <a:ext cx="2286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1600200" y="2819520"/>
            <a:ext cx="2286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200400" y="2819520"/>
            <a:ext cx="2286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2133720" y="2819520"/>
            <a:ext cx="2286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2666880" y="2819520"/>
            <a:ext cx="2286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129528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1"/>
          <p:cNvSpPr/>
          <p:nvPr/>
        </p:nvSpPr>
        <p:spPr>
          <a:xfrm>
            <a:off x="1828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2"/>
          <p:cNvSpPr/>
          <p:nvPr/>
        </p:nvSpPr>
        <p:spPr>
          <a:xfrm>
            <a:off x="2362320" y="2971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3"/>
          <p:cNvSpPr/>
          <p:nvPr/>
        </p:nvSpPr>
        <p:spPr>
          <a:xfrm>
            <a:off x="289548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4952880" y="2743200"/>
            <a:ext cx="2286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5410080" y="2743200"/>
            <a:ext cx="2286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6781680" y="2743200"/>
            <a:ext cx="2286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5867280" y="2743200"/>
            <a:ext cx="2286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8"/>
          <p:cNvSpPr/>
          <p:nvPr/>
        </p:nvSpPr>
        <p:spPr>
          <a:xfrm>
            <a:off x="6324480" y="2743200"/>
            <a:ext cx="2286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9"/>
          <p:cNvSpPr/>
          <p:nvPr/>
        </p:nvSpPr>
        <p:spPr>
          <a:xfrm>
            <a:off x="518148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0"/>
          <p:cNvSpPr/>
          <p:nvPr/>
        </p:nvSpPr>
        <p:spPr>
          <a:xfrm>
            <a:off x="563868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1"/>
          <p:cNvSpPr/>
          <p:nvPr/>
        </p:nvSpPr>
        <p:spPr>
          <a:xfrm>
            <a:off x="609588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2"/>
          <p:cNvSpPr/>
          <p:nvPr/>
        </p:nvSpPr>
        <p:spPr>
          <a:xfrm>
            <a:off x="655308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3"/>
          <p:cNvSpPr/>
          <p:nvPr/>
        </p:nvSpPr>
        <p:spPr>
          <a:xfrm>
            <a:off x="701028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4"/>
          <p:cNvSpPr/>
          <p:nvPr/>
        </p:nvSpPr>
        <p:spPr>
          <a:xfrm>
            <a:off x="746748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5"/>
          <p:cNvSpPr/>
          <p:nvPr/>
        </p:nvSpPr>
        <p:spPr>
          <a:xfrm>
            <a:off x="792468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6"/>
          <p:cNvSpPr/>
          <p:nvPr/>
        </p:nvSpPr>
        <p:spPr>
          <a:xfrm>
            <a:off x="7696080" y="2743200"/>
            <a:ext cx="2286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7"/>
          <p:cNvSpPr/>
          <p:nvPr/>
        </p:nvSpPr>
        <p:spPr>
          <a:xfrm>
            <a:off x="7238880" y="2743200"/>
            <a:ext cx="2286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8"/>
          <p:cNvSpPr/>
          <p:nvPr/>
        </p:nvSpPr>
        <p:spPr>
          <a:xfrm>
            <a:off x="8153280" y="2743200"/>
            <a:ext cx="2286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29"/>
          <p:cNvGrpSpPr/>
          <p:nvPr/>
        </p:nvGrpSpPr>
        <p:grpSpPr>
          <a:xfrm>
            <a:off x="3809880" y="685800"/>
            <a:ext cx="533520" cy="1371600"/>
            <a:chOff x="3809880" y="685800"/>
            <a:chExt cx="533520" cy="1371600"/>
          </a:xfrm>
        </p:grpSpPr>
        <p:sp>
          <p:nvSpPr>
            <p:cNvPr id="113" name="Line 30"/>
            <p:cNvSpPr/>
            <p:nvPr/>
          </p:nvSpPr>
          <p:spPr>
            <a:xfrm>
              <a:off x="3809880" y="685800"/>
              <a:ext cx="5335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31"/>
            <p:cNvSpPr/>
            <p:nvPr/>
          </p:nvSpPr>
          <p:spPr>
            <a:xfrm>
              <a:off x="3809880" y="914400"/>
              <a:ext cx="5335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2"/>
            <p:cNvSpPr/>
            <p:nvPr/>
          </p:nvSpPr>
          <p:spPr>
            <a:xfrm>
              <a:off x="3809880" y="1143000"/>
              <a:ext cx="5335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3"/>
            <p:cNvSpPr/>
            <p:nvPr/>
          </p:nvSpPr>
          <p:spPr>
            <a:xfrm>
              <a:off x="3809880" y="1371600"/>
              <a:ext cx="5335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4"/>
            <p:cNvSpPr/>
            <p:nvPr/>
          </p:nvSpPr>
          <p:spPr>
            <a:xfrm>
              <a:off x="3809880" y="1600200"/>
              <a:ext cx="5335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5"/>
            <p:cNvSpPr/>
            <p:nvPr/>
          </p:nvSpPr>
          <p:spPr>
            <a:xfrm>
              <a:off x="3809880" y="1828800"/>
              <a:ext cx="5335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6"/>
            <p:cNvSpPr/>
            <p:nvPr/>
          </p:nvSpPr>
          <p:spPr>
            <a:xfrm>
              <a:off x="3809880" y="2057400"/>
              <a:ext cx="5335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28840" y="685800"/>
            <a:ext cx="3352680" cy="1371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стем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вающего обуч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8"/>
          <p:cNvSpPr/>
          <p:nvPr/>
        </p:nvSpPr>
        <p:spPr>
          <a:xfrm>
            <a:off x="7091280" y="6400800"/>
            <a:ext cx="1630080" cy="3373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Л.Г. Петерсо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5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0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7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8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1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2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2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3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3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4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4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5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6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6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7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7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8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8500"/>
                            </p:stCondLst>
                            <p:childTnLst>
                              <p:par>
                                <p:cTn id="26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Group 3"/>
          <p:cNvGrpSpPr/>
          <p:nvPr/>
        </p:nvGrpSpPr>
        <p:grpSpPr>
          <a:xfrm>
            <a:off x="2666880" y="1523880"/>
            <a:ext cx="6171840" cy="5258880"/>
            <a:chOff x="2666880" y="1523880"/>
            <a:chExt cx="6171840" cy="5258880"/>
          </a:xfrm>
        </p:grpSpPr>
        <p:sp>
          <p:nvSpPr>
            <p:cNvPr id="124" name="Text Box 4"/>
            <p:cNvSpPr/>
            <p:nvPr/>
          </p:nvSpPr>
          <p:spPr>
            <a:xfrm>
              <a:off x="4967640" y="1604520"/>
              <a:ext cx="3871080" cy="51782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амоопределение к деятель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ктуализация зна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остановка учебной задач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остроение проекта выхода из затрудн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ервичное закрепление во внешней реч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амостоятельная работа с самопроверкой по эталон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ключение в систему знаний и повтор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ефлексия деятельности (итог урок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(Л.Г. Петерсон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5"/>
            <p:cNvSpPr/>
            <p:nvPr/>
          </p:nvSpPr>
          <p:spPr>
            <a:xfrm flipV="1">
              <a:off x="3364200" y="1523880"/>
              <a:ext cx="768240" cy="85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6"/>
            <p:cNvSpPr/>
            <p:nvPr/>
          </p:nvSpPr>
          <p:spPr>
            <a:xfrm>
              <a:off x="2666880" y="4806720"/>
              <a:ext cx="69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7"/>
          <p:cNvGrpSpPr/>
          <p:nvPr/>
        </p:nvGrpSpPr>
        <p:grpSpPr>
          <a:xfrm>
            <a:off x="609480" y="1447920"/>
            <a:ext cx="3365640" cy="4572000"/>
            <a:chOff x="609480" y="1447920"/>
            <a:chExt cx="3365640" cy="4572000"/>
          </a:xfrm>
        </p:grpSpPr>
        <p:sp>
          <p:nvSpPr>
            <p:cNvPr id="128" name="Oval 8"/>
            <p:cNvSpPr/>
            <p:nvPr/>
          </p:nvSpPr>
          <p:spPr>
            <a:xfrm>
              <a:off x="960480" y="1947960"/>
              <a:ext cx="3014640" cy="4071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9"/>
            <p:cNvSpPr/>
            <p:nvPr/>
          </p:nvSpPr>
          <p:spPr>
            <a:xfrm>
              <a:off x="1450800" y="1733760"/>
              <a:ext cx="1963800" cy="18572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0"/>
            <p:cNvSpPr/>
            <p:nvPr/>
          </p:nvSpPr>
          <p:spPr>
            <a:xfrm>
              <a:off x="1450800" y="2305440"/>
              <a:ext cx="140040" cy="14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1"/>
            <p:cNvSpPr/>
            <p:nvPr/>
          </p:nvSpPr>
          <p:spPr>
            <a:xfrm>
              <a:off x="3273480" y="2305440"/>
              <a:ext cx="141120" cy="14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Group 12"/>
            <p:cNvGrpSpPr/>
            <p:nvPr/>
          </p:nvGrpSpPr>
          <p:grpSpPr>
            <a:xfrm>
              <a:off x="609480" y="1447920"/>
              <a:ext cx="2734920" cy="1285560"/>
              <a:chOff x="609480" y="1447920"/>
              <a:chExt cx="2734920" cy="1285560"/>
            </a:xfrm>
          </p:grpSpPr>
          <p:sp>
            <p:nvSpPr>
              <p:cNvPr id="133" name="Line 13"/>
              <p:cNvSpPr/>
              <p:nvPr/>
            </p:nvSpPr>
            <p:spPr>
              <a:xfrm>
                <a:off x="609480" y="1447920"/>
                <a:ext cx="911520" cy="9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14"/>
              <p:cNvSpPr/>
              <p:nvPr/>
            </p:nvSpPr>
            <p:spPr>
              <a:xfrm>
                <a:off x="2082240" y="2019240"/>
                <a:ext cx="0" cy="71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15"/>
              <p:cNvSpPr/>
              <p:nvPr/>
            </p:nvSpPr>
            <p:spPr>
              <a:xfrm>
                <a:off x="1521000" y="2376360"/>
                <a:ext cx="56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16"/>
              <p:cNvSpPr/>
              <p:nvPr/>
            </p:nvSpPr>
            <p:spPr>
              <a:xfrm>
                <a:off x="2082240" y="2376360"/>
                <a:ext cx="420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17"/>
              <p:cNvSpPr/>
              <p:nvPr/>
            </p:nvSpPr>
            <p:spPr>
              <a:xfrm>
                <a:off x="2503080" y="2376360"/>
                <a:ext cx="420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18"/>
              <p:cNvSpPr/>
              <p:nvPr/>
            </p:nvSpPr>
            <p:spPr>
              <a:xfrm>
                <a:off x="2923920" y="2376360"/>
                <a:ext cx="420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Line 19"/>
            <p:cNvSpPr/>
            <p:nvPr/>
          </p:nvSpPr>
          <p:spPr>
            <a:xfrm flipH="1">
              <a:off x="1241280" y="2376720"/>
              <a:ext cx="841680" cy="242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0"/>
            <p:cNvSpPr/>
            <p:nvPr/>
          </p:nvSpPr>
          <p:spPr>
            <a:xfrm>
              <a:off x="1241280" y="4805640"/>
              <a:ext cx="7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1"/>
            <p:cNvSpPr/>
            <p:nvPr/>
          </p:nvSpPr>
          <p:spPr>
            <a:xfrm>
              <a:off x="1941480" y="4805640"/>
              <a:ext cx="70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2"/>
            <p:cNvSpPr/>
            <p:nvPr/>
          </p:nvSpPr>
          <p:spPr>
            <a:xfrm flipH="1" flipV="1">
              <a:off x="2082600" y="2376360"/>
              <a:ext cx="1261800" cy="242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23"/>
            <p:cNvSpPr/>
            <p:nvPr/>
          </p:nvSpPr>
          <p:spPr>
            <a:xfrm>
              <a:off x="1380960" y="1947960"/>
              <a:ext cx="2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24"/>
            <p:cNvSpPr/>
            <p:nvPr/>
          </p:nvSpPr>
          <p:spPr>
            <a:xfrm>
              <a:off x="1662120" y="2019600"/>
              <a:ext cx="27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25"/>
            <p:cNvSpPr/>
            <p:nvPr/>
          </p:nvSpPr>
          <p:spPr>
            <a:xfrm>
              <a:off x="1450800" y="4448520"/>
              <a:ext cx="3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6"/>
            <p:cNvSpPr/>
            <p:nvPr/>
          </p:nvSpPr>
          <p:spPr>
            <a:xfrm>
              <a:off x="2082960" y="4448520"/>
              <a:ext cx="3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7"/>
            <p:cNvSpPr/>
            <p:nvPr/>
          </p:nvSpPr>
          <p:spPr>
            <a:xfrm>
              <a:off x="2782800" y="4448520"/>
              <a:ext cx="3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28"/>
            <p:cNvSpPr/>
            <p:nvPr/>
          </p:nvSpPr>
          <p:spPr>
            <a:xfrm>
              <a:off x="2782800" y="4876920"/>
              <a:ext cx="2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29"/>
            <p:cNvSpPr/>
            <p:nvPr/>
          </p:nvSpPr>
          <p:spPr>
            <a:xfrm rot="16200000">
              <a:off x="1610280" y="4291920"/>
              <a:ext cx="5335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600" spc="-1" strike="noStrike">
                  <a:solidFill>
                    <a:srgbClr val="b2b2b2"/>
                  </a:solidFill>
                  <a:latin typeface="Arial"/>
                  <a:ea typeface="Times New Roman"/>
                </a:rPr>
                <a:t>{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30"/>
            <p:cNvSpPr/>
            <p:nvPr/>
          </p:nvSpPr>
          <p:spPr>
            <a:xfrm>
              <a:off x="1801800" y="5305680"/>
              <a:ext cx="2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31"/>
            <p:cNvSpPr/>
            <p:nvPr/>
          </p:nvSpPr>
          <p:spPr>
            <a:xfrm>
              <a:off x="2154240" y="2019600"/>
              <a:ext cx="27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32"/>
            <p:cNvSpPr/>
            <p:nvPr/>
          </p:nvSpPr>
          <p:spPr>
            <a:xfrm>
              <a:off x="2503440" y="2019600"/>
              <a:ext cx="27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33"/>
            <p:cNvSpPr/>
            <p:nvPr/>
          </p:nvSpPr>
          <p:spPr>
            <a:xfrm>
              <a:off x="2924280" y="2019600"/>
              <a:ext cx="27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34"/>
            <p:cNvSpPr/>
            <p:nvPr/>
          </p:nvSpPr>
          <p:spPr>
            <a:xfrm>
              <a:off x="3416400" y="1590840"/>
              <a:ext cx="27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хнология деятельностного мет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3276720" cy="7621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ff"/>
              </a:gs>
            </a:gsLst>
            <a:lin ang="5400000"/>
          </a:gradFill>
          <a:ln w="22320">
            <a:solidFill>
              <a:srgbClr val="99cc00"/>
            </a:solidFill>
            <a:miter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)    Самоопределение к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85800" y="1828800"/>
            <a:ext cx="3276720" cy="274536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d0ffb8"/>
              </a:gs>
            </a:gsLst>
            <a:lin ang="5400000"/>
          </a:gradFill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ожительное самоопределение учащего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деятельности на занят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5257800" y="1066680"/>
            <a:ext cx="3276720" cy="7621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ff"/>
              </a:gs>
            </a:gsLst>
            <a:lin ang="5400000"/>
          </a:gradFill>
          <a:ln w="22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ктуализация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257800" y="1828800"/>
            <a:ext cx="3276720" cy="277596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d0ffb8"/>
              </a:gs>
            </a:gsLst>
            <a:lin ang="5400000"/>
          </a:gradFill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готов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шления учащихся к проектировоч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6"/>
          <p:cNvSpPr/>
          <p:nvPr/>
        </p:nvSpPr>
        <p:spPr>
          <a:xfrm>
            <a:off x="3962520" y="2971800"/>
            <a:ext cx="1295280" cy="144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5257800" y="4967280"/>
            <a:ext cx="327672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66"/>
              </a:gs>
              <a:gs pos="100000">
                <a:srgbClr val="ffffff"/>
              </a:gs>
            </a:gsLst>
            <a:lin ang="2700000"/>
          </a:gradFill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п завершается затруднением в индивидуальной деятельности учащего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>
            <a:off x="8534520" y="2971800"/>
            <a:ext cx="60948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5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89080" y="3189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85800" y="914400"/>
            <a:ext cx="3276720" cy="7621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ff"/>
              </a:gs>
            </a:gsLst>
            <a:lin ang="5400000"/>
          </a:gradFill>
          <a:ln w="22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)  Постановка учебной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990720" y="1676520"/>
            <a:ext cx="73152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685800" y="1676520"/>
            <a:ext cx="3276720" cy="280548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d0ffb8"/>
              </a:gs>
            </a:gsLst>
            <a:lin ang="5400000"/>
          </a:gradFill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явление и фиксация причины затруд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ановка цели занятия, связанной с устранением причины затруд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5257800" y="914400"/>
            <a:ext cx="3276720" cy="7621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ff"/>
              </a:gs>
            </a:gsLst>
            <a:lin ang="5400000"/>
          </a:gradFill>
          <a:ln w="22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) Построение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хода из затруд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5257800" y="1676520"/>
            <a:ext cx="3276720" cy="27763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d0ffb8"/>
              </a:gs>
            </a:gsLst>
            <a:lin ang="5400000"/>
          </a:gradFill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роение нового способа действия на основе выбранного метода решения учебной задачи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0"/>
          <p:cNvSpPr/>
          <p:nvPr/>
        </p:nvSpPr>
        <p:spPr>
          <a:xfrm>
            <a:off x="3962520" y="2819520"/>
            <a:ext cx="1295280" cy="144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6ff33"/>
                </a:solidFill>
                <a:latin typeface="Arial Unicode MS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257800" y="4815000"/>
            <a:ext cx="327672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66"/>
              </a:gs>
              <a:gs pos="100000">
                <a:srgbClr val="ffffff"/>
              </a:gs>
            </a:gsLst>
            <a:lin ang="2700000"/>
          </a:gradFill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п завершается фиксацией разрешения учебной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685800" y="4800600"/>
            <a:ext cx="327672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66"/>
              </a:gs>
              <a:gs pos="100000">
                <a:srgbClr val="ffffff"/>
              </a:gs>
            </a:gsLst>
            <a:lin ang="2700000"/>
          </a:gradFill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п завершается формулировкой или уточнением темы 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4"/>
          <p:cNvSpPr/>
          <p:nvPr/>
        </p:nvSpPr>
        <p:spPr>
          <a:xfrm>
            <a:off x="0" y="2819520"/>
            <a:ext cx="68580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5"/>
          <p:cNvSpPr/>
          <p:nvPr/>
        </p:nvSpPr>
        <p:spPr>
          <a:xfrm>
            <a:off x="8534520" y="2819520"/>
            <a:ext cx="60948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75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7500"/>
                            </p:stCondLst>
                            <p:childTnLst>
                              <p:par>
                                <p:cTn id="35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685800" y="838080"/>
            <a:ext cx="3429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6094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212760" y="5475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609480" y="1143000"/>
            <a:ext cx="3353040" cy="7621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ff"/>
              </a:gs>
            </a:gsLst>
            <a:lin ang="5400000"/>
          </a:gradFill>
          <a:ln w="22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)  Первичное закрепление во внешней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914400" y="1905120"/>
            <a:ext cx="73152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609480" y="1905120"/>
            <a:ext cx="3353040" cy="283608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d0ffb8"/>
              </a:gs>
            </a:gsLst>
            <a:lin ang="5400000"/>
          </a:gradFill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 типо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й на новый способ действий с проговариванием способа решения во внешней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4952880" y="1143000"/>
            <a:ext cx="3657600" cy="7621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ff"/>
              </a:gs>
            </a:gsLst>
            <a:lin ang="5400000"/>
          </a:gradFill>
          <a:ln w="22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) 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самопроверкой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тал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4952880" y="1905120"/>
            <a:ext cx="3657600" cy="285156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d0ffb8"/>
              </a:gs>
            </a:gsLst>
            <a:lin ang="5400000"/>
          </a:gradFill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стоятельное выполнение заданий на новый способ действий и их самопроверка по этало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3"/>
          <p:cNvSpPr/>
          <p:nvPr/>
        </p:nvSpPr>
        <p:spPr>
          <a:xfrm>
            <a:off x="3962520" y="2895480"/>
            <a:ext cx="99036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6ff33"/>
                </a:solidFill>
                <a:latin typeface="Arial Unicode MS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4952880" y="5043600"/>
            <a:ext cx="36576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66"/>
              </a:gs>
              <a:gs pos="100000">
                <a:srgbClr val="ffffff"/>
              </a:gs>
            </a:gsLst>
            <a:lin ang="2700000"/>
          </a:gradFill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я ситуации успе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6"/>
          <p:cNvSpPr/>
          <p:nvPr/>
        </p:nvSpPr>
        <p:spPr>
          <a:xfrm>
            <a:off x="0" y="2895480"/>
            <a:ext cx="60948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7"/>
          <p:cNvSpPr/>
          <p:nvPr/>
        </p:nvSpPr>
        <p:spPr>
          <a:xfrm>
            <a:off x="8610480" y="2895480"/>
            <a:ext cx="45720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0"/>
                            </p:stCondLst>
                            <p:childTnLst>
                              <p:par>
                                <p:cTn id="37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7500"/>
                            </p:stCondLst>
                            <p:childTnLst>
                              <p:par>
                                <p:cTn id="37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75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21:51:54Z</dcterms:created>
  <dc:creator>Lena</dc:creator>
  <dc:description/>
  <dc:language>en-US</dc:language>
  <cp:lastModifiedBy>Admin</cp:lastModifiedBy>
  <dcterms:modified xsi:type="dcterms:W3CDTF">2010-10-31T20:18:21Z</dcterms:modified>
  <cp:revision>8</cp:revision>
  <dc:subject/>
  <dc:title>Технология деятельностного метода</dc:title>
</cp:coreProperties>
</file>