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1.png" ContentType="image/png"/>
  <Override PartName="/ppt/media/image1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DB58-67BF-45F0-995B-DC4F890007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DFA0-D186-4991-A570-2233BA7C0D28}" type="slidenum">
              <a:rPr b="0" lang="en-US" sz="1200" spc="-1" strike="noStrike">
                <a:solidFill>
                  <a:srgbClr val="8383a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43A3-9416-4034-9300-61C40E1114CE}" type="slidenum">
              <a:rPr b="0" lang="en-US" sz="1200" spc="-1" strike="noStrike">
                <a:solidFill>
                  <a:srgbClr val="8383a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EDE-E9D7-49F8-B751-AA470E82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A48-A4B3-488D-9F93-E9688A82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F7556-EEEC-4E6B-84E2-56BC0C91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CBB45-B41F-482F-BFEB-6F2D5133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D349E-C4A6-45D3-9233-42E1606E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E252C-CDFB-4A69-9B62-8D247A88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3B122-DF1A-410A-A918-EC90B5D5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02A4E-2718-4463-9DAD-5D65421C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C1C43-5DC4-470E-BA81-8FA9F977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780E4-FF0A-4A46-B50E-ECA1DD6A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7BA56-9B56-4426-88E0-8D24B81F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0BEB0-849F-4862-8CA3-A7FB7406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305-45D3-4AB3-A8AA-A6320201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5CE1A-6A9F-4484-866E-897C39C2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D2CE4-313F-408E-9415-388E14F0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CCA59-570C-4C1F-A061-6A859D68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8C2A4-B94B-423E-9104-6CF1549B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035EF-C5D1-40B4-A75D-35476D6C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F9064-F02C-4EC5-BE0E-967F06EF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9D660-1A56-454A-92D7-B998084D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2EEA1-EEE1-44E0-8337-770D09D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49620-A404-4640-989F-830B5778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4DD5F-FF79-4CE7-AABB-184818FD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6CA-54A0-43A3-A346-289C8440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12209-8914-4D6C-90EF-916BE6E0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42AB6-5357-403A-B76D-8DEED49B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C7688-F38D-4620-9B15-D13912A4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1CD3B-D758-4502-A8A7-908A2330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1569A-19CB-4414-A665-375BE84E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93432-1E65-4C72-A755-8483A0ED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02A63-15C3-4368-B8F8-A232181A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502C6-F1F2-499C-9DEA-B9940366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98099-E913-4054-8969-2F0B78A4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5FD8D-7EBE-4B50-AD6B-8C5A2ED6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BAD2-E79B-4171-BCA9-60B0D6D7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FEBE1-0B13-4C74-BA73-023FF033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A5759-8973-4A19-B044-61980BBB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B4E56-3546-43E1-A320-713EAFEB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CA6EF-60C0-470E-91BD-4983C94B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F7E23-3A48-415F-8C8F-0ED7544E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F5D93-6877-443D-A1B4-88ABCFD7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8E638-A252-422E-AD4E-3BBD8506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CACB6-77C9-4245-BC8C-C5FD5306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1B1B5-AF4F-4BE7-B4F0-04F0A40B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389AB-EE5E-47CB-9D6C-7A08E478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7155-45FE-4944-949F-413AA636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09FF6-0718-4C24-8D97-7FA048B8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EDCAB-1554-47A7-8FE2-3A353428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D68DC-617C-4F7A-81D0-1A7909FC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B12D5-1021-433B-B1DE-E943F7C9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1D885-B580-44EB-8BAF-C411E968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57D1-4136-494E-8F8F-DF79AB9C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3555-8EC7-49C0-BFF8-EB85330C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707E-2C30-408B-A02A-BBC2934D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495C-7683-4C6E-847A-1D241A73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AC94-7F03-4C89-9019-69B0EC1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02E-5B39-4D4A-9133-892732B7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0F01-28E7-46C4-993E-3D052BF9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93AF-E2B1-4707-8519-F14C0D4A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100C-7DEC-4E71-8357-F48E6ACB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AD11-F06B-45EF-AE12-1E387875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E4AA-FAEA-47A0-86C2-0D7124A2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1EA0-E245-43FC-93CE-65F7F7C4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CB85-8513-4881-87AF-3F5234BC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52773-C84B-4E46-B1E2-4BD4CE46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D58AF-9D38-4AFB-93A5-AD274304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7A6E5-1EB9-4429-A63F-03D90A7D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A96-89F8-4766-B97A-050B18B4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C3A2E-91CD-4EE9-9806-1ADC0646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51CC3-3830-4824-8264-EFB51F59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5CE0F-459F-4DFE-A5A2-5B01F6FB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CDA87-3BEC-4B52-AAEF-F14F67D8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BAFFF-AC71-4F5F-BA06-FFBA5373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C22F6-5988-4833-8A72-0529D1F8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395C3-FAEC-4CFA-909D-B19ADB27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41E7E-520A-4854-A275-E289B94A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BE6DA-1A24-49C9-A365-85A39149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BE6D2-815C-4B97-99E4-EA87F862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81B-9811-4403-B2A3-3B66F7F6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2E3D-C049-4A6C-B9A2-3397B81F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42F8B-64BB-452E-8A80-AB8FEF33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101CE-AC8F-49C4-B24F-898C8834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245AC-6F0F-4069-BEFC-D8AED2F7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953F-FE1E-43F3-AF86-98E39CA5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98A7A-E27A-4BF4-9E5A-355ED008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7961A-3A14-4E33-885A-9679CF69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856F3-EB99-4FEB-B829-964B89F2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3728A-CDCA-47B7-8603-D5EEBF9E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9A2FB-97E9-4BD2-BED6-A76F6483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B7D-8D32-4249-95AF-0244FEA4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77E64-7906-4FEB-B76B-418981D8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D9F55-EE79-45D7-A51F-0DCEBED6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28888-FF5C-42BF-816B-D5DD8B03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1BD54-AEA8-4C2F-91D4-A7637D48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7936D-A97C-46CB-9119-E934ED9C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1D287-2AC1-431A-BF54-745D9D5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B951-EC89-48F7-A971-91EB6419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DDBE0-9504-42BF-8AF1-56DEF4FF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F6228-5932-4C3D-99E4-806A2C54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C2936-6DAB-4B07-9CA0-77D258C4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F32-B4BF-463D-A0D1-0FCE984D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6D067-29E5-43DC-A606-6B1FCC02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421CC-C195-457E-ACEA-B35F745D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97AE1-B079-40F9-AD93-0B7A66FA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EC69F-D1C0-4B1B-80A6-DF9D213E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C5A93-0BD9-43F1-8AED-67084331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92DC8-2559-4BA7-BAED-853E540F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DB754-0D44-45FA-ADAA-004CD645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EC39F-DB79-4228-B9AB-3F6DB6B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61D81-21F2-4640-AE57-C8F530F7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40756-ED3D-4F1A-8B43-52CB1660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563-EF7F-4549-A0DF-B155F299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F4D19-CDBF-4D4A-A954-36B6F484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66E9F-CDEE-4490-B79B-70A598A1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22504-89FA-42A4-940F-600796C9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3E413-7E3C-4062-8C2B-2F9B101B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C8E13-A2BF-4AB7-99CB-9DCEADE9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FBE66-341B-4E09-806E-3D91F136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08DAE-0111-470D-A26B-2B8449FC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2124C-CDEF-402D-A98B-00D865F3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7AC0C-8C4F-45C3-A51F-7228FE0D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D7566-83DD-4FA2-A6E4-BA499831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192-14A1-46C3-9089-22CC7F8B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F7967-2AC6-4740-8175-BD15A298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BCAE4-DF7C-4980-A832-2A6D371B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F3360-444C-4567-9EEB-2FE19147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D9AA1-C427-485D-96BC-89A3A12D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B9D92-D9F0-4703-AD1E-005096B2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037C0-6AD9-4B67-878C-363A39A1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63B0D-7E2E-436E-A6C9-75D20562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58E51-B617-4BF6-85FF-F67AB579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6DFA4-0B3F-4912-9149-DC9F58C3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CDE74-E103-4836-AB42-74CF0160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BAB-B9A4-4C3A-BE48-EC0E7C63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B0C3E-F962-437B-8002-F2EC1084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01593-7B1C-4867-813A-036CDBB2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E4D6E-6E82-431A-A44F-3611B03F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B785F-6AF9-4248-84F7-C839B342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8C71A-01DC-444C-B583-0DE1E17C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D1155-1B4D-4C83-AAD7-EE4CAC33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E56CD-F051-4FCC-901D-5199E5D3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83379-06C2-4991-94EA-4167720A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63616-7862-4A1D-BCCA-96C66F52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413EE-9088-4279-AD26-83480E7E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5C65-FCD3-4157-96FD-6FC5C9347CF7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066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067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068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9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0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1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2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074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5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6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7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8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080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1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2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3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4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5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086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7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8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9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90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092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93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94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95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96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7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098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099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00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1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102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03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4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105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06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108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09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111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12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114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15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117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18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120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21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 type="dt" idx="28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 type="ftr" idx="29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 type="sldNum" idx="30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8AEE-70FC-45EB-86EB-92B653586FF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3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164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165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166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67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68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69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70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172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73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74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75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76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7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178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79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80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81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82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3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184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85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86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87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88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9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190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91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92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93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94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5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196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197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98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9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200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01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2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203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04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5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206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07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8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209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10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1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212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13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4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215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16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7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218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19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3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3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3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4D2F-8428-4875-ACF7-A08BEE2ED96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1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262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263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264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65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66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67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68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9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270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71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72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73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74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5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276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77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78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79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80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1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282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83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84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85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86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7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288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89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90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91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92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3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294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295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96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7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298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99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0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301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02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3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304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05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307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08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9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310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11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2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313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14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5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316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17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3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3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3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F777-A922-4D51-86BB-2CE1726990FE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37" name="Picture 246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9B9A-9C2C-4B6E-84E5-2F17489EF627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380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381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82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388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394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97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98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400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2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3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4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406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9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1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412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413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16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19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22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25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28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431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434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54A9-1EBF-4D52-9AF7-26438883C80D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478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479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480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82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83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84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486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87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88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89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0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492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3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5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6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498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9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0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1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2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504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5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6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7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8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9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510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511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12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514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15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517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18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520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1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23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26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7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9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0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32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3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0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1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1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99A4-0D21-41C0-9EF6-9CEF0C7E33D2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576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577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578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79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0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2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584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5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6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7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8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590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91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92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93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596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97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98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99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00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602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03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04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05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06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608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609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0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612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615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6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618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9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621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3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624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25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627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28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30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31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1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1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1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598F-D1AF-427D-B47A-845F8852863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74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675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676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77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78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79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0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682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3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4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5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6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688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9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90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91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694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95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98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700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01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02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03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5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706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707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08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710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11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713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14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716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17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719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20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722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23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725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26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728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29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16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17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18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9BD1-98EB-4877-BF9E-A7E75B83A7E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772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73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774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75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76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77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78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780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81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82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83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84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786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87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88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89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90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792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93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94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95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96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798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99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00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01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02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3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804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805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06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7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808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09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0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811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12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3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814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15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817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18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9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820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21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2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823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24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5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826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27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19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20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2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25A4-18CA-44CD-B73A-7876954C6D90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870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871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72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73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74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75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76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878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79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80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81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82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884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85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86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87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88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890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91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92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93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94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896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97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98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99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00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902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903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04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5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906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07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8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909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10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1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912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13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915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16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918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19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0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921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22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3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924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25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2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B987-DD07-4256-9BFE-F74B186B4CF6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968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969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970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71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72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73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74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5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76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77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78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79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80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982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83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84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85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86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7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988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89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90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91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92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994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95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96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97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98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9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000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001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02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004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05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6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007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08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010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11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013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14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5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016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17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019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0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022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3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25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26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27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9C68-8CBA-4AF5-ABA3-DE3AC30A202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file:///&#1058;&#1077;&#1093;&#1085;&#1086;&#1083;&#1086;&#1075;&#1080;&#1103;%20&#1076;&#1077;&#1103;&#1090;&#1077;&#1083;&#1100;&#1085;&#1086;&#1089;&#1090;&#1085;&#1086;&#1075;&#1086;%20&#1084;&#1077;&#1090;&#1086;&#1076;&#1072;.ppt" TargetMode="External"/><Relationship Id="rId5" Type="http://schemas.openxmlformats.org/officeDocument/2006/relationships/image" Target="../media/image1.png"/><Relationship Id="rId6" Type="http://schemas.openxmlformats.org/officeDocument/2006/relationships/hyperlink" Target="file:///&#1055;&#1056;&#1054;&#1041;&#1051;&#1045;&#1052;&#1053;&#1054;%20-&#1076;&#1080;&#1072;&#1083;&#1086;&#1075;&#1080;&#1095;%20&#1091;&#1088;&#1086;&#1082;.doc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Arial"/>
              </a:rPr>
              <a:t>Реализация идей ФГОС.</a:t>
            </a:r>
            <a:br>
              <a:rPr sz="4400"/>
            </a:br>
            <a:r>
              <a:rPr b="1" lang="ru-RU" sz="4400" spc="-1" strike="noStrike">
                <a:solidFill>
                  <a:srgbClr val="404176"/>
                </a:solidFill>
                <a:latin typeface="Arial"/>
              </a:rPr>
              <a:t>Деятельностный подход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500040" y="4929120"/>
            <a:ext cx="4929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e2e01"/>
                </a:solidFill>
                <a:latin typeface="Arial"/>
              </a:rPr>
              <a:t>Пуденкова Е.А., методист по физике ПОИПКРО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68" name="Text Box 11"/>
          <p:cNvSpPr/>
          <p:nvPr/>
        </p:nvSpPr>
        <p:spPr>
          <a:xfrm>
            <a:off x="500040" y="142920"/>
            <a:ext cx="8153280" cy="115164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e2e01"/>
                </a:solidFill>
                <a:latin typeface="Arial"/>
              </a:rPr>
              <a:t>«Именно забвением роли</a:t>
            </a:r>
            <a:r>
              <a:rPr b="0" i="1" lang="ru-RU" sz="2000" spc="-1" strike="noStrike">
                <a:solidFill>
                  <a:srgbClr val="2e2e01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2e2e01"/>
                </a:solidFill>
                <a:latin typeface="Arial"/>
              </a:rPr>
              <a:t>деятельности</a:t>
            </a:r>
            <a:r>
              <a:rPr b="1" i="1" lang="ru-RU" sz="2000" spc="-1" strike="noStrike">
                <a:solidFill>
                  <a:srgbClr val="2e2e01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2e2e01"/>
                </a:solidFill>
                <a:latin typeface="Arial"/>
              </a:rPr>
              <a:t>самого ученика </a:t>
            </a:r>
            <a:r>
              <a:rPr b="0" i="1" lang="ru-RU" sz="2000" spc="-1" strike="noStrike">
                <a:solidFill>
                  <a:srgbClr val="2e2e01"/>
                </a:solidFill>
                <a:latin typeface="Arial"/>
              </a:rPr>
              <a:t>объясняется тот факт, что многие уроки проходят впустую»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e2e01"/>
                </a:solidFill>
                <a:latin typeface="Arial"/>
              </a:rPr>
              <a:t>А.Н. Леонтьев</a:t>
            </a:r>
            <a:r>
              <a:rPr b="0" i="1" lang="ru-RU" sz="1800" spc="-1" strike="noStrike">
                <a:solidFill>
                  <a:srgbClr val="2e2e01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1369" name="Рисунок 7" descr="31487069_01090001.jpg"/>
          <p:cNvPicPr/>
          <p:nvPr/>
        </p:nvPicPr>
        <p:blipFill>
          <a:blip r:embed="rId1"/>
          <a:stretch/>
        </p:blipFill>
        <p:spPr>
          <a:xfrm>
            <a:off x="5429160" y="4071960"/>
            <a:ext cx="29527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356760" y="1571400"/>
            <a:ext cx="85726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Фундаментальное ядро содержания общего образован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Примерные программы (УУД, ИКТ и по учебным предметам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Планируемые результаты (общие и по учебным предметам)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Оценка достижения планируемых результато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05" name="Прямоугольник 4"/>
          <p:cNvSpPr/>
          <p:nvPr/>
        </p:nvSpPr>
        <p:spPr>
          <a:xfrm>
            <a:off x="500040" y="5000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383ad"/>
                </a:solidFill>
                <a:latin typeface="Arial"/>
              </a:rPr>
              <a:t>Сопровождение ФГОС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/>
          </p:nvPr>
        </p:nvSpPr>
        <p:spPr>
          <a:xfrm>
            <a:off x="0" y="1643040"/>
            <a:ext cx="914400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2e2e01"/>
                </a:solidFill>
                <a:latin typeface="Arial"/>
              </a:rPr>
              <a:t>Ориентация</a:t>
            </a: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e2e01"/>
                </a:solidFill>
                <a:latin typeface="Arial"/>
              </a:rPr>
              <a:t>на результат образован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Цели=идеалы </a:t>
            </a:r>
            <a:r>
              <a:rPr b="0" lang="ru-RU" sz="2800" spc="-1" strike="noStrike">
                <a:solidFill>
                  <a:srgbClr val="2e2e01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 заданные средства </a:t>
            </a:r>
            <a:r>
              <a:rPr b="0" lang="ru-RU" sz="2800" spc="-1" strike="noStrike">
                <a:solidFill>
                  <a:srgbClr val="2e2e01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 результа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Цели=результаты </a:t>
            </a:r>
            <a:r>
              <a:rPr b="1" lang="ru-RU" sz="2800" spc="-1" strike="noStrike">
                <a:solidFill>
                  <a:srgbClr val="2e2e01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 средства, избираемые педагогом </a:t>
            </a:r>
            <a:r>
              <a:rPr b="1" lang="ru-RU" sz="2800" spc="-1" strike="noStrike">
                <a:solidFill>
                  <a:srgbClr val="2e2e01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 оценк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Arial"/>
              </a:rPr>
              <a:t>2. Понимание результата как деятельност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Ориентация на деятельностный подход: развитие личности на основе освоения способов деятельност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1407" name="AutoShape 6"/>
          <p:cNvCxnSpPr>
            <a:stCxn id="1406" idx="1"/>
            <a:endCxn id="1406" idx="1"/>
          </p:cNvCxnSpPr>
          <p:nvPr/>
        </p:nvCxnSpPr>
        <p:spPr>
          <a:xfrm flipH="1" flipV="1">
            <a:off x="-360" y="3758400"/>
            <a:ext cx="2160" cy="2520"/>
          </a:xfrm>
          <a:prstGeom prst="straightConnector1">
            <a:avLst/>
          </a:prstGeom>
          <a:ln w="9360">
            <a:solidFill>
              <a:srgbClr val="8383ad"/>
            </a:solidFill>
            <a:miter/>
          </a:ln>
        </p:spPr>
      </p:cxnSp>
      <p:sp>
        <p:nvSpPr>
          <p:cNvPr id="1408" name="Line 7"/>
          <p:cNvSpPr/>
          <p:nvPr/>
        </p:nvSpPr>
        <p:spPr>
          <a:xfrm>
            <a:off x="428760" y="2000160"/>
            <a:ext cx="360360" cy="576360"/>
          </a:xfrm>
          <a:prstGeom prst="line">
            <a:avLst/>
          </a:prstGeom>
          <a:ln w="5076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09" name="Line 8"/>
          <p:cNvSpPr/>
          <p:nvPr/>
        </p:nvSpPr>
        <p:spPr>
          <a:xfrm flipH="1">
            <a:off x="428400" y="2000160"/>
            <a:ext cx="360360" cy="576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0" name="Прямоугольник 6"/>
          <p:cNvSpPr/>
          <p:nvPr/>
        </p:nvSpPr>
        <p:spPr>
          <a:xfrm>
            <a:off x="214200" y="42876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собенности подхода к разработк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стандартов второго поколени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Arial"/>
              </a:rPr>
              <a:t>Планируемые результаты:</a:t>
            </a:r>
            <a:br>
              <a:rPr sz="3600"/>
            </a:br>
            <a:r>
              <a:rPr b="0" lang="ru-RU" sz="3600" spc="-1" strike="noStrike">
                <a:solidFill>
                  <a:srgbClr val="404176"/>
                </a:solidFill>
                <a:latin typeface="Arial"/>
              </a:rPr>
              <a:t>три основные группы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3" name="AutoShape 5"/>
          <p:cNvSpPr/>
          <p:nvPr/>
        </p:nvSpPr>
        <p:spPr>
          <a:xfrm>
            <a:off x="285840" y="1571760"/>
            <a:ext cx="2519280" cy="68400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4" name="AutoShape 6"/>
          <p:cNvSpPr/>
          <p:nvPr/>
        </p:nvSpPr>
        <p:spPr>
          <a:xfrm>
            <a:off x="3214800" y="1571760"/>
            <a:ext cx="2519280" cy="68400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5" name="AutoShape 7"/>
          <p:cNvSpPr/>
          <p:nvPr/>
        </p:nvSpPr>
        <p:spPr>
          <a:xfrm>
            <a:off x="6072120" y="1571760"/>
            <a:ext cx="2698920" cy="68400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6" name="AutoShape 8"/>
          <p:cNvSpPr/>
          <p:nvPr/>
        </p:nvSpPr>
        <p:spPr>
          <a:xfrm>
            <a:off x="285840" y="242892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04176"/>
                </a:solidFill>
                <a:uFillTx/>
                <a:latin typeface="Arial"/>
              </a:rPr>
              <a:t>Самоопределение: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внутренняя позиция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школьника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Самоидентификация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самоуважение и самооценк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7" name="AutoShape 9"/>
          <p:cNvSpPr/>
          <p:nvPr/>
        </p:nvSpPr>
        <p:spPr>
          <a:xfrm>
            <a:off x="285840" y="3786120"/>
            <a:ext cx="2519280" cy="110988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04176"/>
                </a:solidFill>
                <a:uFillTx/>
                <a:latin typeface="Arial"/>
              </a:rPr>
              <a:t>Смыслообразование: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мотивация (учебная,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социальная)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границы собственного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знания и «незнания»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8" name="AutoShape 10"/>
          <p:cNvSpPr/>
          <p:nvPr/>
        </p:nvSpPr>
        <p:spPr>
          <a:xfrm>
            <a:off x="214200" y="5037120"/>
            <a:ext cx="2571840" cy="182088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04176"/>
                </a:solidFill>
                <a:uFillTx/>
                <a:latin typeface="Arial"/>
              </a:rPr>
              <a:t>Ценностная и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04176"/>
                </a:solidFill>
                <a:uFillTx/>
                <a:latin typeface="Arial"/>
              </a:rPr>
              <a:t>морально-этическая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04176"/>
                </a:solidFill>
                <a:uFillTx/>
                <a:latin typeface="Arial"/>
              </a:rPr>
              <a:t>ориентация: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ориентация на выполнение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морально-нравственных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норм;</a:t>
            </a:r>
            <a:r>
              <a:rPr b="1" lang="en-US" sz="1400" spc="-1" strike="noStrike">
                <a:solidFill>
                  <a:srgbClr val="2e2e0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способность</a:t>
            </a:r>
            <a:r>
              <a:rPr b="1" lang="en-US" sz="1400" spc="-1" strike="noStrike">
                <a:solidFill>
                  <a:srgbClr val="2e2e0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к решению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моральных</a:t>
            </a:r>
            <a:r>
              <a:rPr b="1" lang="en-US" sz="1400" spc="-1" strike="noStrike">
                <a:solidFill>
                  <a:srgbClr val="2e2e0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проблем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оценка своих поступков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9" name="AutoShape 11"/>
          <p:cNvSpPr/>
          <p:nvPr/>
        </p:nvSpPr>
        <p:spPr>
          <a:xfrm>
            <a:off x="3214800" y="2500200"/>
            <a:ext cx="2520720" cy="128592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04176"/>
                </a:solidFill>
                <a:uFillTx/>
                <a:latin typeface="Arial"/>
              </a:rPr>
              <a:t>Регулятивные: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управление своей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деятельностью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контроль и коррекция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инициативность и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самостоятельность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0" name="AutoShape 12"/>
          <p:cNvSpPr/>
          <p:nvPr/>
        </p:nvSpPr>
        <p:spPr>
          <a:xfrm>
            <a:off x="3214800" y="3929040"/>
            <a:ext cx="2520720" cy="89208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04176"/>
                </a:solidFill>
                <a:uFillTx/>
                <a:latin typeface="Arial"/>
              </a:rPr>
              <a:t>Коммуникативные: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речевая деятельность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навыки сотрудничеств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1" name="AutoShape 13"/>
          <p:cNvSpPr/>
          <p:nvPr/>
        </p:nvSpPr>
        <p:spPr>
          <a:xfrm>
            <a:off x="3000240" y="5000760"/>
            <a:ext cx="3143520" cy="185724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04176"/>
                </a:solidFill>
                <a:uFillTx/>
                <a:latin typeface="Arial"/>
              </a:rPr>
              <a:t>Познавательные: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работа с информацией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работа с учебными моделями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использование знако-символических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средств, общих схем решения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выполнение логических операций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сравнения, анализа, обобщения,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классификации, установления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аналогий, подведения под пон</a:t>
            </a:r>
            <a:r>
              <a:rPr b="1" lang="ru-RU" sz="1400" spc="-1" strike="noStrike">
                <a:solidFill>
                  <a:srgbClr val="8383ad"/>
                </a:solidFill>
                <a:latin typeface="Arial"/>
              </a:rPr>
              <a:t>ятие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2" name="Text Box 14"/>
          <p:cNvSpPr/>
          <p:nvPr/>
        </p:nvSpPr>
        <p:spPr>
          <a:xfrm>
            <a:off x="6429240" y="2571840"/>
            <a:ext cx="176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Основы системы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научных знаний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3" name="Text Box 15"/>
          <p:cNvSpPr/>
          <p:nvPr/>
        </p:nvSpPr>
        <p:spPr>
          <a:xfrm>
            <a:off x="6357960" y="3143160"/>
            <a:ext cx="201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Опыт «предметной» деятельности по получению,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4" name="AutoShape 25"/>
          <p:cNvSpPr/>
          <p:nvPr/>
        </p:nvSpPr>
        <p:spPr>
          <a:xfrm>
            <a:off x="6858000" y="4643280"/>
            <a:ext cx="106668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5" name="Text Box 26"/>
          <p:cNvSpPr/>
          <p:nvPr/>
        </p:nvSpPr>
        <p:spPr>
          <a:xfrm>
            <a:off x="6357960" y="51436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176"/>
                </a:solidFill>
                <a:latin typeface="Arial"/>
              </a:rPr>
              <a:t>Предметные и метапредметные действия с учебным материалом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Универсальные учебные</a:t>
            </a:r>
            <a:br>
              <a:rPr sz="4000"/>
            </a:b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 действи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427" name="Organization Chart 3"/>
          <p:cNvGrpSpPr/>
          <p:nvPr/>
        </p:nvGrpSpPr>
        <p:grpSpPr>
          <a:xfrm>
            <a:off x="642960" y="2000160"/>
            <a:ext cx="7772040" cy="4113720"/>
            <a:chOff x="642960" y="2000160"/>
            <a:chExt cx="7772040" cy="4113720"/>
          </a:xfrm>
        </p:grpSpPr>
        <p:cxnSp>
          <p:nvCxnSpPr>
            <p:cNvPr id="1428" name="_s2052"/>
            <p:cNvCxnSpPr>
              <a:stCxn id="1429" idx="0"/>
              <a:endCxn id="1430" idx="2"/>
            </p:cNvCxnSpPr>
            <p:nvPr/>
          </p:nvCxnSpPr>
          <p:spPr>
            <a:xfrm flipV="1" rot="16200000">
              <a:off x="4683600" y="3550680"/>
              <a:ext cx="700200" cy="1012680"/>
            </a:xfrm>
            <a:prstGeom prst="bentConnector3">
              <a:avLst>
                <a:gd name="adj1" fmla="val 16358"/>
              </a:avLst>
            </a:prstGeom>
            <a:ln w="28440">
              <a:solidFill>
                <a:srgbClr val="8383ad"/>
              </a:solidFill>
              <a:miter/>
            </a:ln>
          </p:spPr>
        </p:cxnSp>
        <p:cxnSp>
          <p:nvCxnSpPr>
            <p:cNvPr id="1431" name="_s2053"/>
            <p:cNvCxnSpPr>
              <a:stCxn id="1432" idx="0"/>
              <a:endCxn id="1430" idx="2"/>
            </p:cNvCxnSpPr>
            <p:nvPr/>
          </p:nvCxnSpPr>
          <p:spPr>
            <a:xfrm flipH="1" flipV="1" rot="5400000">
              <a:off x="3672720" y="3551760"/>
              <a:ext cx="700200" cy="1010880"/>
            </a:xfrm>
            <a:prstGeom prst="bentConnector3">
              <a:avLst>
                <a:gd name="adj1" fmla="val 16358"/>
              </a:avLst>
            </a:prstGeom>
            <a:ln w="28440">
              <a:solidFill>
                <a:srgbClr val="8383ad"/>
              </a:solidFill>
              <a:miter/>
            </a:ln>
          </p:spPr>
        </p:cxnSp>
        <p:cxnSp>
          <p:nvCxnSpPr>
            <p:cNvPr id="1433" name="_s2054"/>
            <p:cNvCxnSpPr>
              <a:stCxn id="1434" idx="0"/>
              <a:endCxn id="1430" idx="2"/>
            </p:cNvCxnSpPr>
            <p:nvPr/>
          </p:nvCxnSpPr>
          <p:spPr>
            <a:xfrm flipV="1" rot="16200000">
              <a:off x="5694840" y="2539440"/>
              <a:ext cx="700200" cy="3035160"/>
            </a:xfrm>
            <a:prstGeom prst="bentConnector3">
              <a:avLst>
                <a:gd name="adj1" fmla="val 16358"/>
              </a:avLst>
            </a:prstGeom>
            <a:ln w="28440">
              <a:solidFill>
                <a:srgbClr val="8383ad"/>
              </a:solidFill>
              <a:miter/>
            </a:ln>
          </p:spPr>
        </p:cxnSp>
        <p:cxnSp>
          <p:nvCxnSpPr>
            <p:cNvPr id="1435" name="_s2055"/>
            <p:cNvCxnSpPr>
              <a:stCxn id="1436" idx="0"/>
              <a:endCxn id="1430" idx="2"/>
            </p:cNvCxnSpPr>
            <p:nvPr/>
          </p:nvCxnSpPr>
          <p:spPr>
            <a:xfrm flipH="1" flipV="1" rot="5400000">
              <a:off x="2661480" y="2540520"/>
              <a:ext cx="700200" cy="3033360"/>
            </a:xfrm>
            <a:prstGeom prst="bentConnector3">
              <a:avLst>
                <a:gd name="adj1" fmla="val 16358"/>
              </a:avLst>
            </a:prstGeom>
            <a:ln w="28440">
              <a:solidFill>
                <a:srgbClr val="8383ad"/>
              </a:solidFill>
              <a:miter/>
            </a:ln>
          </p:spPr>
        </p:cxnSp>
        <p:sp>
          <p:nvSpPr>
            <p:cNvPr id="1430" name="_s2056"/>
            <p:cNvSpPr/>
            <p:nvPr/>
          </p:nvSpPr>
          <p:spPr>
            <a:xfrm>
              <a:off x="3675600" y="2000160"/>
              <a:ext cx="1704600" cy="1706760"/>
            </a:xfrm>
            <a:custGeom>
              <a:avLst/>
              <a:gdLst>
                <a:gd name="textAreaLeft" fmla="*/ 83160 w 1704600"/>
                <a:gd name="textAreaRight" fmla="*/ 1621440 w 1704600"/>
                <a:gd name="textAreaTop" fmla="*/ 83160 h 1706760"/>
                <a:gd name="textAreaBottom" fmla="*/ 1623600 h 1706760"/>
              </a:gdLst>
              <a:ahLst/>
              <a:rect l="textAreaLeft" t="textAreaTop" r="textAreaRight" b="textAreaBottom"/>
              <a:pathLst>
                <a:path w="21600" h="21627">
                  <a:moveTo>
                    <a:pt x="3600" y="0"/>
                  </a:moveTo>
                  <a:arcTo wR="3600" hR="3600" stAng="16200000" swAng="-5400000"/>
                  <a:lnTo>
                    <a:pt x="0" y="18027"/>
                  </a:lnTo>
                  <a:arcTo wR="3600" hR="3600" stAng="10800000" swAng="-5400000"/>
                  <a:lnTo>
                    <a:pt x="18000" y="21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383ad"/>
                  </a:solidFill>
                  <a:latin typeface="Arial"/>
                </a:rPr>
                <a:t>УУД</a:t>
              </a:r>
              <a:endParaRPr b="0" lang="en-US" sz="21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6" name="_s2057"/>
            <p:cNvSpPr/>
            <p:nvPr/>
          </p:nvSpPr>
          <p:spPr>
            <a:xfrm>
              <a:off x="642960" y="4407120"/>
              <a:ext cx="1704600" cy="1706760"/>
            </a:xfrm>
            <a:custGeom>
              <a:avLst/>
              <a:gdLst>
                <a:gd name="textAreaLeft" fmla="*/ 83160 w 1704600"/>
                <a:gd name="textAreaRight" fmla="*/ 1621440 w 1704600"/>
                <a:gd name="textAreaTop" fmla="*/ 83160 h 1706760"/>
                <a:gd name="textAreaBottom" fmla="*/ 1623600 h 1706760"/>
              </a:gdLst>
              <a:ahLst/>
              <a:rect l="textAreaLeft" t="textAreaTop" r="textAreaRight" b="textAreaBottom"/>
              <a:pathLst>
                <a:path w="21600" h="21627">
                  <a:moveTo>
                    <a:pt x="3600" y="0"/>
                  </a:moveTo>
                  <a:arcTo wR="3600" hR="3600" stAng="16200000" swAng="-5400000"/>
                  <a:lnTo>
                    <a:pt x="0" y="18027"/>
                  </a:lnTo>
                  <a:arcTo wR="3600" hR="3600" stAng="10800000" swAng="-5400000"/>
                  <a:lnTo>
                    <a:pt x="18000" y="21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383ad"/>
                  </a:solidFill>
                  <a:latin typeface="Arial"/>
                </a:rPr>
                <a:t>Личностные</a:t>
              </a: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383ad"/>
                  </a:solidFill>
                  <a:latin typeface="Arial"/>
                </a:rPr>
                <a:t>УУД</a:t>
              </a: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2" name="_s2058"/>
            <p:cNvSpPr/>
            <p:nvPr/>
          </p:nvSpPr>
          <p:spPr>
            <a:xfrm>
              <a:off x="2665440" y="4407120"/>
              <a:ext cx="1704600" cy="1706760"/>
            </a:xfrm>
            <a:custGeom>
              <a:avLst/>
              <a:gdLst>
                <a:gd name="textAreaLeft" fmla="*/ 83160 w 1704600"/>
                <a:gd name="textAreaRight" fmla="*/ 1621440 w 1704600"/>
                <a:gd name="textAreaTop" fmla="*/ 83160 h 1706760"/>
                <a:gd name="textAreaBottom" fmla="*/ 1623600 h 1706760"/>
              </a:gdLst>
              <a:ahLst/>
              <a:rect l="textAreaLeft" t="textAreaTop" r="textAreaRight" b="textAreaBottom"/>
              <a:pathLst>
                <a:path w="21600" h="21627">
                  <a:moveTo>
                    <a:pt x="3600" y="0"/>
                  </a:moveTo>
                  <a:arcTo wR="3600" hR="3600" stAng="16200000" swAng="-5400000"/>
                  <a:lnTo>
                    <a:pt x="0" y="18027"/>
                  </a:lnTo>
                  <a:arcTo wR="3600" hR="3600" stAng="10800000" swAng="-5400000"/>
                  <a:lnTo>
                    <a:pt x="18000" y="21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8383ad"/>
                  </a:solidFill>
                  <a:latin typeface="Arial"/>
                </a:rPr>
                <a:t>Регулятив-</a:t>
              </a: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8383ad"/>
                  </a:solidFill>
                  <a:latin typeface="Arial"/>
                </a:rPr>
                <a:t>ные УУД</a:t>
              </a: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9" name="_s2059"/>
            <p:cNvSpPr/>
            <p:nvPr/>
          </p:nvSpPr>
          <p:spPr>
            <a:xfrm>
              <a:off x="4687920" y="4407120"/>
              <a:ext cx="1704600" cy="1706760"/>
            </a:xfrm>
            <a:custGeom>
              <a:avLst/>
              <a:gdLst>
                <a:gd name="textAreaLeft" fmla="*/ 83160 w 1704600"/>
                <a:gd name="textAreaRight" fmla="*/ 1621440 w 1704600"/>
                <a:gd name="textAreaTop" fmla="*/ 83160 h 1706760"/>
                <a:gd name="textAreaBottom" fmla="*/ 1623600 h 1706760"/>
              </a:gdLst>
              <a:ahLst/>
              <a:rect l="textAreaLeft" t="textAreaTop" r="textAreaRight" b="textAreaBottom"/>
              <a:pathLst>
                <a:path w="21600" h="21627">
                  <a:moveTo>
                    <a:pt x="3600" y="0"/>
                  </a:moveTo>
                  <a:arcTo wR="3600" hR="3600" stAng="16200000" swAng="-5400000"/>
                  <a:lnTo>
                    <a:pt x="0" y="18027"/>
                  </a:lnTo>
                  <a:arcTo wR="3600" hR="3600" stAng="10800000" swAng="-5400000"/>
                  <a:lnTo>
                    <a:pt x="18000" y="21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8383ad"/>
                  </a:solidFill>
                  <a:latin typeface="Arial"/>
                </a:rPr>
                <a:t>Познаватель-</a:t>
              </a: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8383ad"/>
                  </a:solidFill>
                  <a:latin typeface="Arial"/>
                </a:rPr>
                <a:t>ные УУД</a:t>
              </a: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4" name="_s2060"/>
            <p:cNvSpPr/>
            <p:nvPr/>
          </p:nvSpPr>
          <p:spPr>
            <a:xfrm>
              <a:off x="6710400" y="4407120"/>
              <a:ext cx="1704600" cy="1706760"/>
            </a:xfrm>
            <a:custGeom>
              <a:avLst/>
              <a:gdLst>
                <a:gd name="textAreaLeft" fmla="*/ 83160 w 1704600"/>
                <a:gd name="textAreaRight" fmla="*/ 1621440 w 1704600"/>
                <a:gd name="textAreaTop" fmla="*/ 83160 h 1706760"/>
                <a:gd name="textAreaBottom" fmla="*/ 1623600 h 1706760"/>
              </a:gdLst>
              <a:ahLst/>
              <a:rect l="textAreaLeft" t="textAreaTop" r="textAreaRight" b="textAreaBottom"/>
              <a:pathLst>
                <a:path w="21600" h="21627">
                  <a:moveTo>
                    <a:pt x="3600" y="0"/>
                  </a:moveTo>
                  <a:arcTo wR="3600" hR="3600" stAng="16200000" swAng="-5400000"/>
                  <a:lnTo>
                    <a:pt x="0" y="18027"/>
                  </a:lnTo>
                  <a:arcTo wR="3600" hR="3600" stAng="10800000" swAng="-5400000"/>
                  <a:lnTo>
                    <a:pt x="18000" y="21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8383ad"/>
                  </a:solidFill>
                  <a:latin typeface="Arial"/>
                </a:rPr>
                <a:t>Коммуникатив-</a:t>
              </a: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8383ad"/>
                  </a:solidFill>
                  <a:latin typeface="Arial"/>
                </a:rPr>
                <a:t>ные УУД</a:t>
              </a: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285480" y="1785600"/>
            <a:ext cx="86439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умение учиться, т.е. способность к саморазвитию и самосовершенствованию путем сознательного и активного присвоения нового социального опыт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совокупность способов действия учащегося, обеспечивающих его способность к самостоятельному успешному усвоению новых знаний, умений и компетентностей, включая организацию усвоени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Универсальные учебные действия</a:t>
            </a:r>
            <a:br>
              <a:rPr sz="3600"/>
            </a:b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Два поколения стандартов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281160" y="1571760"/>
            <a:ext cx="4076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Действующий стандарт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2e01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Обязательный минимум содержания основных образовательных программ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2e01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Требования к уровню подготовки выпускников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e2e01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2e2e01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357800" y="1499760"/>
            <a:ext cx="45799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Отсутствие регламентации учебной нагрузки на изучение дидактических единиц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Обобщенная формулировка требований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Отсутствие заданий, демонстрирующих уровень требований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42" name="Стрелка вниз 10"/>
          <p:cNvSpPr/>
          <p:nvPr/>
        </p:nvSpPr>
        <p:spPr>
          <a:xfrm>
            <a:off x="2000160" y="3357720"/>
            <a:ext cx="214560" cy="500040"/>
          </a:xfrm>
          <a:prstGeom prst="downArrow">
            <a:avLst>
              <a:gd name="adj1" fmla="val 50000"/>
              <a:gd name="adj2" fmla="val 49945"/>
            </a:avLst>
          </a:prstGeom>
          <a:solidFill>
            <a:srgbClr val="babe90"/>
          </a:solidFill>
          <a:ln w="25560">
            <a:solidFill>
              <a:srgbClr val="888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43" name="Стрелка вниз 11"/>
          <p:cNvSpPr/>
          <p:nvPr/>
        </p:nvSpPr>
        <p:spPr>
          <a:xfrm>
            <a:off x="2000160" y="4500720"/>
            <a:ext cx="214560" cy="500040"/>
          </a:xfrm>
          <a:prstGeom prst="downArrow">
            <a:avLst>
              <a:gd name="adj1" fmla="val 50000"/>
              <a:gd name="adj2" fmla="val 49945"/>
            </a:avLst>
          </a:prstGeom>
          <a:solidFill>
            <a:srgbClr val="babe90"/>
          </a:solidFill>
          <a:ln w="25560">
            <a:solidFill>
              <a:srgbClr val="888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Два поколения стандартов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176"/>
                </a:solidFill>
                <a:latin typeface="Arial"/>
              </a:rPr>
              <a:t>Стандарт второго поколения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e2e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e2e01"/>
                </a:solidFill>
                <a:latin typeface="Arial"/>
              </a:rPr>
              <a:t>Примерная программа и тематическое планиро-вание.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e2e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e2e01"/>
                </a:solidFill>
                <a:latin typeface="Arial"/>
              </a:rPr>
              <a:t>Планируемые результаты освоения образовательной программы.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2e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e2e01"/>
                </a:solidFill>
                <a:latin typeface="Arial"/>
              </a:rPr>
              <a:t>Система заданий для оценки планируемых результатов.</a:t>
            </a: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724280" y="15541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01"/>
                </a:solidFill>
                <a:latin typeface="Arial"/>
              </a:rPr>
              <a:t>Подробное описание содержания с указанием учебной нагрузки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01"/>
                </a:solidFill>
                <a:latin typeface="Arial"/>
              </a:rPr>
              <a:t>Операционализация планируемых результатов (определение перечня умений, формируемых предметным содержанием)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01"/>
                </a:solidFill>
                <a:latin typeface="Arial"/>
              </a:rPr>
              <a:t>Задания разного уровня для одного умени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47" name="Стрелка вверх 8"/>
          <p:cNvSpPr/>
          <p:nvPr/>
        </p:nvSpPr>
        <p:spPr>
          <a:xfrm>
            <a:off x="2195640" y="2708280"/>
            <a:ext cx="214200" cy="50004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babe90"/>
          </a:solidFill>
          <a:ln w="25560">
            <a:solidFill>
              <a:srgbClr val="888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48" name="Стрелка вниз 9"/>
          <p:cNvSpPr/>
          <p:nvPr/>
        </p:nvSpPr>
        <p:spPr>
          <a:xfrm>
            <a:off x="2268360" y="4221000"/>
            <a:ext cx="214560" cy="5004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babe90"/>
          </a:solidFill>
          <a:ln w="25560">
            <a:solidFill>
              <a:srgbClr val="888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214200" y="1643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e2e01"/>
                </a:solidFill>
                <a:latin typeface="Arial"/>
              </a:rPr>
              <a:t>Два блока: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e2e01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e2e01"/>
                </a:solidFill>
                <a:latin typeface="Arial"/>
              </a:rPr>
              <a:t>Выпускник научится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e2e01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2e2e01"/>
                </a:solidFill>
                <a:latin typeface="Arial"/>
              </a:rPr>
              <a:t>Оценка освоения опорного материала на уровне, характеризующем исполнительскую компетентность. </a:t>
            </a:r>
            <a:r>
              <a:rPr b="0" i="1" lang="ru-RU" sz="2200" spc="-1" strike="noStrike">
                <a:solidFill>
                  <a:srgbClr val="2e2e01"/>
                </a:solidFill>
                <a:latin typeface="Arial"/>
              </a:rPr>
              <a:t>Задания базового и повышенного уровня.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e2e01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2e2e01"/>
                </a:solidFill>
                <a:latin typeface="Arial"/>
              </a:rPr>
              <a:t>Единственное основание для перехода на следующую ступень обучения - выполнение учащимися заданий базового уровня</a:t>
            </a:r>
            <a:r>
              <a:rPr b="0" lang="ru-RU" sz="2200" spc="-1" strike="noStrike">
                <a:solidFill>
                  <a:srgbClr val="2e2e01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e2e01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e2e01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e2e01"/>
                </a:solidFill>
                <a:latin typeface="Arial"/>
              </a:rPr>
              <a:t>Выпускник получит возможность научиться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e2e01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2e2e01"/>
                </a:solidFill>
                <a:latin typeface="Arial"/>
              </a:rPr>
              <a:t>Невыполнение учащимися заданий, с помощью которых ведется оценка достижения планируемых результатов этой группы, не является препятствием для перехода на следующую ступень обучения.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50" name="AutoShape 2"/>
          <p:cNvSpPr/>
          <p:nvPr/>
        </p:nvSpPr>
        <p:spPr>
          <a:xfrm>
            <a:off x="428760" y="500040"/>
            <a:ext cx="8286480" cy="795240"/>
          </a:xfrm>
          <a:prstGeom prst="roundRect">
            <a:avLst>
              <a:gd name="adj" fmla="val 49106"/>
            </a:avLst>
          </a:prstGeom>
          <a:solidFill>
            <a:srgbClr val="fefee8"/>
          </a:solidFill>
          <a:ln w="28440">
            <a:solidFill>
              <a:srgbClr val="fefed6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Структура планируемых результатов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 txBox="1"/>
          <p:nvPr/>
        </p:nvSpPr>
        <p:spPr>
          <a:xfrm>
            <a:off x="285840" y="1785960"/>
            <a:ext cx="8624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2e2e01"/>
                </a:solidFill>
                <a:latin typeface="Arial"/>
              </a:rPr>
              <a:t>Планируемый результат: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e2e01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2e2e01"/>
                </a:solidFill>
                <a:latin typeface="Arial"/>
              </a:rPr>
              <a:t>Понимать принципы действия машин, приборов и технических устройств, различать условия их безопасного использования в повседневной жизни.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e2e01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2e2e01"/>
                </a:solidFill>
                <a:latin typeface="Arial"/>
              </a:rPr>
              <a:t>Умения, </a:t>
            </a:r>
            <a:r>
              <a:rPr b="0" lang="ru-RU" sz="2200" spc="-1" strike="noStrike">
                <a:solidFill>
                  <a:srgbClr val="2e2e01"/>
                </a:solidFill>
                <a:latin typeface="Arial"/>
              </a:rPr>
              <a:t>характеризующие достижение этого результата:</a:t>
            </a:r>
            <a:r>
              <a:rPr b="1" i="1" lang="ru-RU" sz="2200" spc="-1" strike="noStrike">
                <a:solidFill>
                  <a:srgbClr val="2e2e01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e2e01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e2e01"/>
                </a:solidFill>
                <a:latin typeface="Arial"/>
              </a:rPr>
              <a:t>Различать явления, лежащие в основе принципа действия машин, приборов и технических устройств.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e2e01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e2e01"/>
                </a:solidFill>
                <a:latin typeface="Arial"/>
              </a:rPr>
              <a:t>Объяснять (с опорой на схемы, рисунки и т.п.) принцип действия изученных машин, приборов и технических устройств и условия безопасного использования машин, приборов и технических устройств в повседневной жизни.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e2e01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e2e01"/>
                </a:solidFill>
                <a:latin typeface="Arial"/>
              </a:rPr>
              <a:t>     </a:t>
            </a:r>
            <a:r>
              <a:rPr b="0" i="1" lang="ru-RU" sz="2200" spc="-1" strike="noStrike">
                <a:solidFill>
                  <a:srgbClr val="2e2e01"/>
                </a:solidFill>
                <a:latin typeface="Arial"/>
              </a:rPr>
              <a:t>(Для каждого умения приводятся примеры заданий базового и повышенного уровней)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52" name="AutoShape 2"/>
          <p:cNvSpPr/>
          <p:nvPr/>
        </p:nvSpPr>
        <p:spPr>
          <a:xfrm>
            <a:off x="285840" y="428760"/>
            <a:ext cx="8713800" cy="1009440"/>
          </a:xfrm>
          <a:prstGeom prst="roundRect">
            <a:avLst>
              <a:gd name="adj" fmla="val 49106"/>
            </a:avLst>
          </a:prstGeom>
          <a:solidFill>
            <a:srgbClr val="fefee8"/>
          </a:solidFill>
          <a:ln w="28440">
            <a:solidFill>
              <a:srgbClr val="fefed6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перационализация планируемых результатов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Пример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285480" y="499680"/>
            <a:ext cx="41907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49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Различать явления, лежащие в основе принципа действия машин, приборов и технических устройств.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e2e01"/>
                </a:solidFill>
                <a:latin typeface="Arial"/>
              </a:rPr>
              <a:t>Задание   (повышенный уровень)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1"/>
                </a:solidFill>
                <a:latin typeface="Arial"/>
              </a:rPr>
              <a:t>На рисунке представлена схема демонстрационного опыта.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1"/>
                </a:solidFill>
                <a:latin typeface="Arial"/>
              </a:rPr>
              <a:t>А. Какое явление наблюдается в этом опыте?     Ответ: _____________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1"/>
                </a:solidFill>
                <a:latin typeface="Arial"/>
              </a:rPr>
              <a:t>Б. В  работе какого из перечисленных ниже технических устройств используется это явление?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1"/>
                </a:solidFill>
                <a:latin typeface="Arial"/>
              </a:rPr>
              <a:t>1) генератор электрической энергии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1"/>
                </a:solidFill>
                <a:latin typeface="Arial"/>
              </a:rPr>
              <a:t>2) электродвигатель постоянного ток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1"/>
                </a:solidFill>
                <a:latin typeface="Arial"/>
              </a:rPr>
              <a:t>3) двигатель внутреннего сгорания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1"/>
                </a:solidFill>
                <a:latin typeface="Arial"/>
              </a:rPr>
              <a:t>4) электронагревательный элемент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SzPct val="187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647960" y="500040"/>
            <a:ext cx="4343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2e2e0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2e2e01"/>
                </a:solidFill>
                <a:latin typeface="Arial"/>
              </a:rPr>
              <a:t>Объяснять (с опорой на схемы, рисунки и т.п.) принцип действия изученных машин, приборов и технических устройств и условия безопасного использования машин, приборов и технических устройств в повседневной жизни.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e2e01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2e2e01"/>
                </a:solidFill>
                <a:latin typeface="Arial"/>
              </a:rPr>
              <a:t>Задание  (повышенный уровень)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1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2e2e01"/>
                </a:solidFill>
                <a:latin typeface="Arial"/>
              </a:rPr>
              <a:t>Перед вами рисунок ножниц для резки металла.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e2e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e2e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e2e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1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2e2e01"/>
                </a:solidFill>
                <a:latin typeface="Arial"/>
              </a:rPr>
              <a:t>Какой из известных вам простых механизмов лежит в основе создания этих ножниц?   Ответ: ______________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1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2e2e01"/>
                </a:solidFill>
                <a:latin typeface="Arial"/>
              </a:rPr>
              <a:t>Укажите, какие особенности конструкции ножниц позволяют преобразовать небольшие усилия человека в большое давление на металл.            Ответ: _______________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1455" name="Picture 2" descr=""/>
          <p:cNvPicPr/>
          <p:nvPr/>
        </p:nvPicPr>
        <p:blipFill>
          <a:blip r:embed="rId2"/>
          <a:stretch/>
        </p:blipFill>
        <p:spPr>
          <a:xfrm>
            <a:off x="6143760" y="3143160"/>
            <a:ext cx="1785960" cy="117180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15" descr="рис-5(серый)"/>
          <p:cNvPicPr/>
          <p:nvPr/>
        </p:nvPicPr>
        <p:blipFill>
          <a:blip r:embed="rId3"/>
          <a:stretch/>
        </p:blipFill>
        <p:spPr>
          <a:xfrm>
            <a:off x="1571760" y="2357280"/>
            <a:ext cx="1761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Введение ФГОС второго поколения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Создание пилотных площадок (26 ОУ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Введение курса «Основы православной культуры»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Третий час физической культур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Дополнительное образование учащихс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(организация проектной и исследовательской деятельности учащихся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Повышение квалификации учителей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Научно-методическое                            сопровождение (ВНИК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1372" name="Picture 5" descr=""/>
          <p:cNvPicPr/>
          <p:nvPr/>
        </p:nvPicPr>
        <p:blipFill>
          <a:blip r:embed="rId7"/>
          <a:stretch/>
        </p:blipFill>
        <p:spPr>
          <a:xfrm>
            <a:off x="7358040" y="5429160"/>
            <a:ext cx="1571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Деятельностный подход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324000" y="1285920"/>
            <a:ext cx="8820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«Знания никогда нельзя дать в готовом виде; они всегда должны усваиваться через включение их в ту или иную деятельность»</a:t>
            </a: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(Психологический закон усвоения знаний </a:t>
            </a:r>
            <a:r>
              <a:rPr b="0" lang="ru-RU" sz="2000" spc="-1" strike="noStrike">
                <a:solidFill>
                  <a:srgbClr val="2e2e01"/>
                </a:solidFill>
                <a:latin typeface="Arial"/>
              </a:rPr>
              <a:t>Талызина Н.Ф. Управление процессом усвоения знаний. - М., 1984.- С.13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1"/>
                </a:solidFill>
                <a:latin typeface="Arial"/>
              </a:rPr>
              <a:t>Обучение в деятельности 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(ФГОС - программы знаний и видов деятельности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«Чтобы овладеть продуктом человеческой деятельности (знаниями), нужно осуществить деятельность, адекватную той, которая воплощена в данном продукте» </a:t>
            </a:r>
            <a:r>
              <a:rPr b="0" lang="ru-RU" sz="2000" spc="-1" strike="noStrike">
                <a:solidFill>
                  <a:srgbClr val="2e2e01"/>
                </a:solidFill>
                <a:latin typeface="Arial"/>
              </a:rPr>
              <a:t>А.Н.Леонтье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2e2e01"/>
                </a:solidFill>
                <a:latin typeface="Arial"/>
              </a:rPr>
              <a:t>(Например, знания о географической карте усваиваются в процессе деятельности по ее созданию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Определения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61" name="Rectangle 3"/>
          <p:cNvSpPr/>
          <p:nvPr/>
        </p:nvSpPr>
        <p:spPr>
          <a:xfrm>
            <a:off x="214200" y="1357200"/>
            <a:ext cx="8710560" cy="518652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babe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4646"/>
                </a:solidFill>
                <a:latin typeface="Garamond"/>
              </a:rPr>
              <a:t>Деятельность</a:t>
            </a:r>
            <a:r>
              <a:rPr b="1" lang="ru-RU" sz="2100" spc="-1" strike="noStrike">
                <a:solidFill>
                  <a:srgbClr val="8383ad"/>
                </a:solidFill>
                <a:latin typeface="Garamond"/>
              </a:rPr>
              <a:t> – человеческая форма </a:t>
            </a:r>
            <a:r>
              <a:rPr b="1" i="1" lang="ru-RU" sz="2100" spc="-1" strike="noStrike">
                <a:solidFill>
                  <a:srgbClr val="8383ad"/>
                </a:solidFill>
                <a:latin typeface="Garamond"/>
              </a:rPr>
              <a:t>активности</a:t>
            </a:r>
            <a:r>
              <a:rPr b="1" lang="ru-RU" sz="2100" spc="-1" strike="noStrike">
                <a:solidFill>
                  <a:srgbClr val="8383ad"/>
                </a:solidFill>
                <a:latin typeface="Garamond"/>
              </a:rPr>
              <a:t>, выражающаяся в целенаправленном преобразовании им природной и социальной действительности.</a:t>
            </a:r>
            <a:r>
              <a:rPr b="1" i="1" lang="ru-RU" sz="2100" spc="-1" strike="noStrike">
                <a:solidFill>
                  <a:srgbClr val="8383ad"/>
                </a:solidFill>
                <a:latin typeface="Garamond"/>
              </a:rPr>
              <a:t>	</a:t>
            </a:r>
            <a:r>
              <a:rPr b="1" i="1" lang="ru-RU" sz="2100" spc="-1" strike="noStrike">
                <a:solidFill>
                  <a:srgbClr val="8383ad"/>
                </a:solidFill>
                <a:latin typeface="Garamond"/>
              </a:rPr>
              <a:t> 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babe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383ad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babe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4646"/>
                </a:solidFill>
                <a:latin typeface="Garamond"/>
              </a:rPr>
              <a:t>Педагогическая деятельность</a:t>
            </a:r>
            <a:r>
              <a:rPr b="1" lang="ru-RU" sz="2100" spc="-1" strike="noStrike">
                <a:solidFill>
                  <a:srgbClr val="464646"/>
                </a:solidFill>
                <a:latin typeface="Garamond"/>
              </a:rPr>
              <a:t> </a:t>
            </a:r>
            <a:r>
              <a:rPr b="1" lang="ru-RU" sz="2100" spc="-1" strike="noStrike">
                <a:solidFill>
                  <a:srgbClr val="8383ad"/>
                </a:solidFill>
                <a:latin typeface="Garamond"/>
              </a:rPr>
              <a:t>– один из видов деятельности, выражающихся в целенаправленном развитии обучающегося, овладении им основами культуры, всестороннем развитии его способностей.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babe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383ad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babe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4646"/>
                </a:solidFill>
                <a:latin typeface="Garamond"/>
              </a:rPr>
              <a:t>Педагогическая деятельность </a:t>
            </a:r>
            <a:r>
              <a:rPr b="1" i="1" lang="ru-RU" sz="2100" spc="-1" strike="noStrike">
                <a:solidFill>
                  <a:srgbClr val="8383ad"/>
                </a:solidFill>
                <a:latin typeface="Garamond"/>
              </a:rPr>
              <a:t>как совместная</a:t>
            </a:r>
            <a:r>
              <a:rPr b="1" lang="ru-RU" sz="2100" spc="-1" strike="noStrike">
                <a:solidFill>
                  <a:srgbClr val="8383ad"/>
                </a:solidFill>
                <a:latin typeface="Garamond"/>
              </a:rPr>
              <a:t> предполагает «субъект-субъектные отношения» в </a:t>
            </a:r>
            <a:r>
              <a:rPr b="1" lang="ru-RU" sz="2100" spc="-1" strike="noStrike">
                <a:solidFill>
                  <a:srgbClr val="8383ad"/>
                </a:solidFill>
                <a:latin typeface="Garamond"/>
              </a:rPr>
              <a:t>	</a:t>
            </a:r>
            <a:r>
              <a:rPr b="1" lang="ru-RU" sz="2100" spc="-1" strike="noStrike">
                <a:solidFill>
                  <a:srgbClr val="8383ad"/>
                </a:solidFill>
                <a:latin typeface="Garamond"/>
              </a:rPr>
              <a:t>процессе деятельности. Педагог и обучающийся выступают как равнозначные субъекты педагогического процесса.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babe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383ad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babe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4646"/>
                </a:solidFill>
                <a:latin typeface="Garamond"/>
              </a:rPr>
              <a:t>Профессиональный стандарт</a:t>
            </a:r>
            <a:r>
              <a:rPr b="1" lang="ru-RU" sz="2100" spc="-1" strike="noStrike">
                <a:solidFill>
                  <a:srgbClr val="464646"/>
                </a:solidFill>
                <a:latin typeface="Garamond"/>
              </a:rPr>
              <a:t> </a:t>
            </a:r>
            <a:r>
              <a:rPr b="1" lang="ru-RU" sz="2100" spc="-1" strike="noStrike">
                <a:solidFill>
                  <a:srgbClr val="8383ad"/>
                </a:solidFill>
                <a:latin typeface="Garamond"/>
              </a:rPr>
              <a:t>– система требований к работнику, определяющая возможность занять определенную должность, быть допущенному к определенной деятельности.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babe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8383ad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babe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4646"/>
                </a:solidFill>
                <a:latin typeface="Garamond"/>
              </a:rPr>
              <a:t>Профессиональный стандарт педагогической деятельности</a:t>
            </a:r>
            <a:r>
              <a:rPr b="1" lang="ru-RU" sz="2100" spc="-1" strike="noStrike">
                <a:solidFill>
                  <a:srgbClr val="464646"/>
                </a:solidFill>
                <a:latin typeface="Garamond"/>
              </a:rPr>
              <a:t> – </a:t>
            </a:r>
            <a:r>
              <a:rPr b="1" lang="ru-RU" sz="2100" spc="-1" strike="noStrike">
                <a:solidFill>
                  <a:srgbClr val="8383ad"/>
                </a:solidFill>
                <a:latin typeface="Garamond"/>
              </a:rPr>
              <a:t>система требований, которым должен соответствовать педагог, чтобы быть допущенным к педагогической деятельности.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3" descr=""/>
          <p:cNvPicPr/>
          <p:nvPr/>
        </p:nvPicPr>
        <p:blipFill>
          <a:blip r:embed="rId1"/>
          <a:stretch/>
        </p:blipFill>
        <p:spPr>
          <a:xfrm>
            <a:off x="41400" y="0"/>
            <a:ext cx="9102600" cy="5857920"/>
          </a:xfrm>
          <a:prstGeom prst="rect">
            <a:avLst/>
          </a:prstGeom>
          <a:ln w="0">
            <a:noFill/>
          </a:ln>
        </p:spPr>
      </p:pic>
      <p:sp>
        <p:nvSpPr>
          <p:cNvPr id="1463" name="Rectangle 4"/>
          <p:cNvSpPr/>
          <p:nvPr/>
        </p:nvSpPr>
        <p:spPr>
          <a:xfrm>
            <a:off x="1010160" y="5929200"/>
            <a:ext cx="76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Схема психологической функциональной системы деятельност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Психологическая структура деятельности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324000" y="1714320"/>
            <a:ext cx="8820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1"/>
                </a:solidFill>
                <a:latin typeface="Arial"/>
              </a:rPr>
              <a:t>Мотив </a:t>
            </a: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(деловой, состязательный, познавательный интерес)      </a:t>
            </a:r>
            <a:r>
              <a:rPr b="0" i="1" lang="ru-RU" sz="2000" spc="-1" strike="noStrike">
                <a:solidFill>
                  <a:srgbClr val="2e2e01"/>
                </a:solidFill>
                <a:latin typeface="Arial"/>
              </a:rPr>
              <a:t>Познавательный интерес </a:t>
            </a:r>
            <a:r>
              <a:rPr b="0" lang="ru-RU" sz="2000" spc="-1" strike="noStrike">
                <a:solidFill>
                  <a:srgbClr val="2e2e01"/>
                </a:solidFill>
                <a:latin typeface="Arial"/>
              </a:rPr>
              <a:t>– это эмоционально окрашенное интеллектуальное отношение субъекта к объекту познания, проявляющееся как его мыслительная активность по теоретическому проникновению в сущность познаваемого с целью достижения полноты ориентировки в не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1"/>
                </a:solidFill>
                <a:latin typeface="Arial"/>
              </a:rPr>
              <a:t>Цель  </a:t>
            </a: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(цель учебной деятельности – это осознанное, т.е. выраженное в словах, четко сформулированное предвосхищение результата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1"/>
                </a:solidFill>
                <a:latin typeface="Arial"/>
              </a:rPr>
              <a:t>Средства </a:t>
            </a: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(способы, методы, приемы, схемы ООД, учебные задачи, проблемные задания, ТСО, ИКТ и др.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1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 (как фактически реализованная цель – усвоенные учениками знания и сформировавшиеся у них умения практически применять эти знания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176"/>
                </a:solidFill>
                <a:latin typeface="Arial"/>
              </a:rPr>
              <a:t>Я слышу, и я забываю.</a:t>
            </a:r>
            <a:br>
              <a:rPr sz="2000"/>
            </a:br>
            <a:r>
              <a:rPr b="1" i="1" lang="ru-RU" sz="2000" spc="-1" strike="noStrike">
                <a:solidFill>
                  <a:srgbClr val="404176"/>
                </a:solidFill>
                <a:latin typeface="Arial"/>
              </a:rPr>
              <a:t>Я вижу, и я помню.</a:t>
            </a:r>
            <a:br>
              <a:rPr sz="2000"/>
            </a:br>
            <a:r>
              <a:rPr b="1" i="1" lang="ru-RU" sz="2000" spc="-1" strike="noStrike">
                <a:solidFill>
                  <a:srgbClr val="404176"/>
                </a:solidFill>
                <a:latin typeface="Arial"/>
              </a:rPr>
              <a:t>Я делаю, и я понимаю.</a:t>
            </a:r>
            <a:br>
              <a:rPr sz="2000"/>
            </a:br>
            <a:r>
              <a:rPr b="1" i="1" lang="ru-RU" sz="2000" spc="-1" strike="noStrike">
                <a:solidFill>
                  <a:srgbClr val="404176"/>
                </a:solidFill>
                <a:latin typeface="Arial"/>
              </a:rPr>
              <a:t>Конфуций</a:t>
            </a: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213840" y="1714680"/>
            <a:ext cx="892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Решить современные проблемы образования возможно только при </a:t>
            </a: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системных изменениях 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в самой педагогической науке и практике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Надо понимать, что не всякая активность человека может быть названа деятельностью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Человеческая </a:t>
            </a: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активность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 только в том случае является </a:t>
            </a: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деятельностью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, если она приводит к существенному </a:t>
            </a: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преобразованию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 ситуации, предмета, созданию чего-то нового в этом преобразовани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Деятельностная педагогика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Задача учителя – вовлекать учащихся не в упражнения, не в повторение и запоминание готового, а в </a:t>
            </a: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размышление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 о том, что неизвестно – обучать через решение системы </a:t>
            </a: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учебных задач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А решать </a:t>
            </a: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учебную задачу 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– это </a:t>
            </a: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преобразовывать, 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действовать с учебным материалом в неопределенной ситуаци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Учебная деятельность 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– это </a:t>
            </a: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преобразование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, а преобразование – это </a:t>
            </a: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«ломка»,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«Ломка» 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- это прежде всего </a:t>
            </a: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поиск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. Поиск не имеет какой-либо законченной формы, он всегда движение в неизвестность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Учебная деятельность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8581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Учебная деятельность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, рассматриваемая в контексте развивающего обучения, - это собственная мыслительная деятельность самих учащихся по добыванию и усвоению научных знаний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Результат учебной деятельности  - изменение самого ученика, его развитие.  В общем виде это развитие есть приобретение учеником </a:t>
            </a:r>
            <a:r>
              <a:rPr b="0" i="1" lang="ru-RU" sz="2800" spc="-1" strike="noStrike">
                <a:solidFill>
                  <a:srgbClr val="2e2e01"/>
                </a:solidFill>
                <a:latin typeface="Arial"/>
              </a:rPr>
              <a:t>новых способностей</a:t>
            </a: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, т.е. новых способов действий с научными понятиями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Учебная задача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24000" y="1285920"/>
            <a:ext cx="8820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1"/>
                </a:solidFill>
                <a:latin typeface="Arial"/>
              </a:rPr>
              <a:t>Учебная задача</a:t>
            </a: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 как психологическое понятие означает такую задачу, решение которой </a:t>
            </a:r>
            <a:r>
              <a:rPr b="0" i="1" lang="ru-RU" sz="2400" spc="-1" strike="noStrike">
                <a:solidFill>
                  <a:srgbClr val="2e2e01"/>
                </a:solidFill>
                <a:latin typeface="Arial"/>
              </a:rPr>
              <a:t>не сводится к получению конкретного ответа</a:t>
            </a: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 после </a:t>
            </a:r>
            <a:r>
              <a:rPr b="0" i="1" lang="ru-RU" sz="2400" spc="-1" strike="noStrike">
                <a:solidFill>
                  <a:srgbClr val="2e2e01"/>
                </a:solidFill>
                <a:latin typeface="Arial"/>
              </a:rPr>
              <a:t>преобразования </a:t>
            </a: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учебного объекта, а приводит к </a:t>
            </a:r>
            <a:r>
              <a:rPr b="0" i="1" lang="ru-RU" sz="2400" spc="-1" strike="noStrike">
                <a:solidFill>
                  <a:srgbClr val="2e2e01"/>
                </a:solidFill>
                <a:latin typeface="Arial"/>
              </a:rPr>
              <a:t>усвоению учеником некоторого способа</a:t>
            </a: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 выполнения действий с данным классом объектов (делает его способным логарифмировать, грамотно писать и т.д.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Под понятием </a:t>
            </a:r>
            <a:r>
              <a:rPr b="1" lang="ru-RU" sz="2400" spc="-1" strike="noStrike">
                <a:solidFill>
                  <a:srgbClr val="2e2e01"/>
                </a:solidFill>
                <a:latin typeface="Arial"/>
              </a:rPr>
              <a:t>усвоение </a:t>
            </a: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надо понимать не просто запоминание знаний, а </a:t>
            </a:r>
            <a:r>
              <a:rPr b="0" i="1" lang="ru-RU" sz="2400" spc="-1" strike="noStrike">
                <a:solidFill>
                  <a:srgbClr val="2e2e01"/>
                </a:solidFill>
                <a:latin typeface="Arial"/>
              </a:rPr>
              <a:t>умение действовать</a:t>
            </a: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 со знанием дела, когда знания поняты, осмыслены и превращены в умение оперировать ими при решении разнообразных жизненных задач, т.е. </a:t>
            </a:r>
            <a:r>
              <a:rPr b="0" i="1" lang="ru-RU" sz="2400" spc="-1" strike="noStrike">
                <a:solidFill>
                  <a:srgbClr val="2e2e01"/>
                </a:solidFill>
                <a:latin typeface="Arial"/>
              </a:rPr>
              <a:t>стали своими,</a:t>
            </a: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 превратились в некую интеллектуальную способность, инструмент собственной мыслительной деятельности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Этапы процесса обучения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356760" y="1428840"/>
            <a:ext cx="40006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Мотивац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Целеполагание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Планирование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Деятельность по реализации (действия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Рефлекс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Оценка эксперт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76" name="Содержимое 2"/>
          <p:cNvSpPr/>
          <p:nvPr/>
        </p:nvSpPr>
        <p:spPr>
          <a:xfrm>
            <a:off x="4857840" y="1714680"/>
            <a:ext cx="4000320" cy="3929040"/>
          </a:xfrm>
          <a:prstGeom prst="rect">
            <a:avLst/>
          </a:prstGeom>
          <a:solidFill>
            <a:srgbClr val="e0e0eb"/>
          </a:solidFill>
          <a:ln w="93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Первичный сбор информаци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Построение ориентировочной основы действий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Построение алгоритм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77" name="Стрелка вправо 4"/>
          <p:cNvSpPr/>
          <p:nvPr/>
        </p:nvSpPr>
        <p:spPr>
          <a:xfrm>
            <a:off x="3786120" y="27147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abe90"/>
          </a:solidFill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Этапы формирования умственных действий по П.Я.Гальперину </a:t>
            </a:r>
            <a:br>
              <a:rPr sz="3200"/>
            </a:b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428400" y="1500120"/>
            <a:ext cx="84294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Освоение деятельности и, следовательно, усвоение обеспечивающих ее знаний может быть успешным только при условии, что обучаемый последовательно пройдет 5 этапов: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1480" name="Picture 2" descr="D:\Физика 1\Материал к лекции\Деят подход\Беспалько\Этапы формирования умственных действий по Гальперину.files\R222.gif"/>
          <p:cNvPicPr/>
          <p:nvPr/>
        </p:nvPicPr>
        <p:blipFill>
          <a:blip r:embed="rId3"/>
          <a:stretch/>
        </p:blipFill>
        <p:spPr>
          <a:xfrm>
            <a:off x="2000160" y="2655720"/>
            <a:ext cx="585792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Введение ФГОС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374" name=""/>
          <p:cNvGraphicFramePr/>
          <p:nvPr/>
        </p:nvGraphicFramePr>
        <p:xfrm>
          <a:off x="304920" y="1785960"/>
          <a:ext cx="8686800" cy="3978360"/>
        </p:xfrm>
        <a:graphic>
          <a:graphicData uri="http://schemas.openxmlformats.org/drawingml/2006/table">
            <a:tbl>
              <a:tblPr/>
              <a:tblGrid>
                <a:gridCol w="909360"/>
                <a:gridCol w="706680"/>
                <a:gridCol w="708120"/>
                <a:gridCol w="706320"/>
                <a:gridCol w="706320"/>
                <a:gridCol w="708120"/>
                <a:gridCol w="706320"/>
                <a:gridCol w="708120"/>
                <a:gridCol w="706320"/>
                <a:gridCol w="706680"/>
                <a:gridCol w="707760"/>
                <a:gridCol w="70668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Учебные года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fefe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efed6"/>
                          </a:solidFill>
                          <a:latin typeface="Arial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53537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efed6"/>
                          </a:solidFill>
                          <a:latin typeface="Arial"/>
                        </a:rPr>
                        <a:t>2 класс</a:t>
                      </a: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53537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efed6"/>
                          </a:solidFill>
                          <a:latin typeface="Arial"/>
                        </a:rPr>
                        <a:t>3 класс</a:t>
                      </a: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53537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efed6"/>
                          </a:solidFill>
                          <a:latin typeface="Arial"/>
                        </a:rPr>
                        <a:t>4 класс</a:t>
                      </a: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53537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efed6"/>
                          </a:solidFill>
                          <a:latin typeface="Arial"/>
                        </a:rPr>
                        <a:t>5 класс</a:t>
                      </a: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efed6"/>
                          </a:solidFill>
                          <a:latin typeface="Arial"/>
                        </a:rPr>
                        <a:t>6 класс</a:t>
                      </a: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efed6"/>
                          </a:solidFill>
                          <a:latin typeface="Arial"/>
                        </a:rPr>
                        <a:t>7 класс</a:t>
                      </a: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efed6"/>
                          </a:solidFill>
                          <a:latin typeface="Arial"/>
                        </a:rPr>
                        <a:t>8 класс</a:t>
                      </a: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efed6"/>
                          </a:solidFill>
                          <a:latin typeface="Arial"/>
                        </a:rPr>
                        <a:t>9 класс</a:t>
                      </a: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efed6"/>
                          </a:solidFill>
                          <a:latin typeface="Arial"/>
                        </a:rPr>
                        <a:t>10 класс</a:t>
                      </a: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f9f9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efed6"/>
                          </a:solidFill>
                          <a:latin typeface="Arial"/>
                        </a:rPr>
                        <a:t>11 класс</a:t>
                      </a: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f9f97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2010-11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2011-12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2012-13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2013-14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2014-15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2015-16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2016-17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c2c2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c2c2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c2c2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c2c2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c2c2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c2c2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c2c2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c2c2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c2c2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c2c2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c2c2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c2c2d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- Введение ФГОС по мере готовности ОУ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fc000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- Обязательное введение ФГОС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Структура процесса познания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499680" y="142848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Первичное восприятие материал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Первичная переработка материала и его понимани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Вторичная переработка материала и его запоминание                                           </a:t>
            </a:r>
            <a:r>
              <a:rPr b="1" i="1" lang="ru-RU" sz="2800" spc="-1" strike="noStrike">
                <a:solidFill>
                  <a:srgbClr val="404176"/>
                </a:solidFill>
                <a:latin typeface="Arial"/>
              </a:rPr>
              <a:t>усвоени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Включение понятого и запомнившегося материала в уже сложившуюся систему прежних знаний                                      </a:t>
            </a:r>
            <a:r>
              <a:rPr b="1" i="1" lang="ru-RU" sz="2800" spc="-1" strike="noStrike">
                <a:solidFill>
                  <a:srgbClr val="404176"/>
                </a:solidFill>
                <a:latin typeface="Arial"/>
              </a:rPr>
              <a:t>освоение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Закрепление знаний как их применение в новых условиях и при решении новых задач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176"/>
                </a:solidFill>
                <a:latin typeface="Arial"/>
              </a:rPr>
              <a:t>                                                                  </a:t>
            </a:r>
            <a:r>
              <a:rPr b="1" i="1" lang="ru-RU" sz="2800" spc="-1" strike="noStrike">
                <a:solidFill>
                  <a:srgbClr val="404176"/>
                </a:solidFill>
                <a:latin typeface="Arial"/>
              </a:rPr>
              <a:t>овладени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Психологические основы концепции развивающего образования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484" name="Group 4"/>
          <p:cNvGrpSpPr/>
          <p:nvPr/>
        </p:nvGrpSpPr>
        <p:grpSpPr>
          <a:xfrm>
            <a:off x="395280" y="2060640"/>
            <a:ext cx="8748360" cy="3209760"/>
            <a:chOff x="395280" y="2060640"/>
            <a:chExt cx="8748360" cy="3209760"/>
          </a:xfrm>
        </p:grpSpPr>
        <p:grpSp>
          <p:nvGrpSpPr>
            <p:cNvPr id="1485" name="Group 5"/>
            <p:cNvGrpSpPr/>
            <p:nvPr/>
          </p:nvGrpSpPr>
          <p:grpSpPr>
            <a:xfrm>
              <a:off x="395280" y="2060640"/>
              <a:ext cx="8748360" cy="3209760"/>
              <a:chOff x="395280" y="2060640"/>
              <a:chExt cx="8748360" cy="3209760"/>
            </a:xfrm>
          </p:grpSpPr>
          <p:sp>
            <p:nvSpPr>
              <p:cNvPr id="1486" name="AutoShape 6"/>
              <p:cNvSpPr/>
              <p:nvPr/>
            </p:nvSpPr>
            <p:spPr>
              <a:xfrm flipV="1">
                <a:off x="395280" y="3320640"/>
                <a:ext cx="525600" cy="91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487" name="AutoShape 7"/>
              <p:cNvSpPr/>
              <p:nvPr/>
            </p:nvSpPr>
            <p:spPr>
              <a:xfrm>
                <a:off x="395280" y="2977560"/>
                <a:ext cx="525600" cy="34380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488" name="Text Box 8"/>
              <p:cNvSpPr/>
              <p:nvPr/>
            </p:nvSpPr>
            <p:spPr>
              <a:xfrm>
                <a:off x="1800000" y="3320640"/>
                <a:ext cx="702000" cy="689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191a10"/>
                    </a:solidFill>
                    <a:latin typeface="Arial"/>
                  </a:rPr>
                  <a:t>Цель</a:t>
                </a:r>
                <a:endParaRPr b="0" lang="en-US" sz="16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489" name="AutoShape 9"/>
              <p:cNvSpPr/>
              <p:nvPr/>
            </p:nvSpPr>
            <p:spPr>
              <a:xfrm>
                <a:off x="395280" y="2060640"/>
                <a:ext cx="2457000" cy="686880"/>
              </a:xfrm>
              <a:prstGeom prst="wedgeEllipseCallout">
                <a:avLst>
                  <a:gd name="adj1" fmla="val -28254"/>
                  <a:gd name="adj2" fmla="val 15916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191a10"/>
                    </a:solidFill>
                    <a:latin typeface="Arial"/>
                  </a:rPr>
                  <a:t>Субъект, планирующий</a:t>
                </a:r>
                <a:endParaRPr b="0" lang="en-US" sz="1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grpSp>
            <p:nvGrpSpPr>
              <p:cNvPr id="1490" name="Group 10"/>
              <p:cNvGrpSpPr/>
              <p:nvPr/>
            </p:nvGrpSpPr>
            <p:grpSpPr>
              <a:xfrm>
                <a:off x="3027960" y="2060640"/>
                <a:ext cx="3334680" cy="2980440"/>
                <a:chOff x="3027960" y="2060640"/>
                <a:chExt cx="3334680" cy="2980440"/>
              </a:xfrm>
            </p:grpSpPr>
            <p:sp>
              <p:nvSpPr>
                <p:cNvPr id="1491" name="Text Box 11"/>
                <p:cNvSpPr/>
                <p:nvPr/>
              </p:nvSpPr>
              <p:spPr>
                <a:xfrm>
                  <a:off x="3203280" y="2863440"/>
                  <a:ext cx="1051920" cy="1374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91a10"/>
                      </a:solidFill>
                      <a:latin typeface="Arial"/>
                    </a:rPr>
                    <a:t>Субъект действую щий</a:t>
                  </a:r>
                  <a:endParaRPr b="0" lang="en-US" sz="1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12"/>
                <p:cNvSpPr/>
                <p:nvPr/>
              </p:nvSpPr>
              <p:spPr>
                <a:xfrm>
                  <a:off x="4929120" y="3857760"/>
                  <a:ext cx="1000080" cy="1031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91a10"/>
                      </a:solidFill>
                      <a:latin typeface="Arial"/>
                    </a:rPr>
                    <a:t>Средства деятельности</a:t>
                  </a:r>
                  <a:endParaRPr b="0" lang="en-US" sz="1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13"/>
                <p:cNvSpPr/>
                <p:nvPr/>
              </p:nvSpPr>
              <p:spPr>
                <a:xfrm>
                  <a:off x="4987800" y="2518920"/>
                  <a:ext cx="941040" cy="1031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91a10"/>
                      </a:solidFill>
                      <a:latin typeface="Arial"/>
                    </a:rPr>
                    <a:t>Предмет деятельности</a:t>
                  </a:r>
                  <a:endParaRPr b="0" lang="en-US" sz="1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94" name="Line 14"/>
                <p:cNvSpPr/>
                <p:nvPr/>
              </p:nvSpPr>
              <p:spPr>
                <a:xfrm flipV="1">
                  <a:off x="4256280" y="3206520"/>
                  <a:ext cx="702000" cy="229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95" name="Line 15"/>
                <p:cNvSpPr/>
                <p:nvPr/>
              </p:nvSpPr>
              <p:spPr>
                <a:xfrm>
                  <a:off x="4256280" y="3780000"/>
                  <a:ext cx="702000" cy="228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96" name="Rectangle 16"/>
                <p:cNvSpPr/>
                <p:nvPr/>
              </p:nvSpPr>
              <p:spPr>
                <a:xfrm>
                  <a:off x="3027960" y="2404440"/>
                  <a:ext cx="3334680" cy="2636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97" name="Text Box 17"/>
                <p:cNvSpPr/>
                <p:nvPr/>
              </p:nvSpPr>
              <p:spPr>
                <a:xfrm>
                  <a:off x="3203280" y="2060640"/>
                  <a:ext cx="2982960" cy="34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91a10"/>
                      </a:solidFill>
                      <a:latin typeface="Arial"/>
                    </a:rPr>
                    <a:t>Блок преобразования</a:t>
                  </a:r>
                  <a:endParaRPr b="0" lang="en-US" sz="1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8" name="Line 18"/>
              <p:cNvSpPr/>
              <p:nvPr/>
            </p:nvSpPr>
            <p:spPr>
              <a:xfrm>
                <a:off x="6714000" y="2175120"/>
                <a:ext cx="720" cy="298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499" name="Text Box 19"/>
              <p:cNvSpPr/>
              <p:nvPr/>
            </p:nvSpPr>
            <p:spPr>
              <a:xfrm>
                <a:off x="7063920" y="2978280"/>
                <a:ext cx="877320" cy="137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191a10"/>
                    </a:solidFill>
                    <a:latin typeface="Arial"/>
                  </a:rPr>
                  <a:t>Продукт деятель ности</a:t>
                </a:r>
                <a:endParaRPr b="0" lang="en-US" sz="1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500" name="Text Box 20"/>
              <p:cNvSpPr/>
              <p:nvPr/>
            </p:nvSpPr>
            <p:spPr>
              <a:xfrm>
                <a:off x="8118000" y="2174400"/>
                <a:ext cx="1025640" cy="309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191a10"/>
                    </a:solidFill>
                    <a:latin typeface="Arial"/>
                  </a:rPr>
                  <a:t>Сфера общест венного потребления</a:t>
                </a:r>
                <a:endParaRPr b="0" lang="en-US" sz="1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501" name="Line 21"/>
              <p:cNvSpPr/>
              <p:nvPr/>
            </p:nvSpPr>
            <p:spPr>
              <a:xfrm>
                <a:off x="877680" y="3665520"/>
                <a:ext cx="87732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502" name="Line 22"/>
              <p:cNvSpPr/>
              <p:nvPr/>
            </p:nvSpPr>
            <p:spPr>
              <a:xfrm>
                <a:off x="2501280" y="3665520"/>
                <a:ext cx="52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503" name="Line 23"/>
              <p:cNvSpPr/>
              <p:nvPr/>
            </p:nvSpPr>
            <p:spPr>
              <a:xfrm>
                <a:off x="6362640" y="3665520"/>
                <a:ext cx="70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1504" name="Line 24"/>
            <p:cNvSpPr/>
            <p:nvPr/>
          </p:nvSpPr>
          <p:spPr>
            <a:xfrm>
              <a:off x="5425200" y="3553200"/>
              <a:ext cx="0" cy="24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Психологические основы концепции развивающего образования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Принцип единства структуры внешней и внутренней деятельност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Принцип предметности психик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Принцип</a:t>
            </a:r>
            <a:r>
              <a:rPr b="0" i="1" lang="ru-RU" sz="2800" spc="-1" strike="noStrike">
                <a:solidFill>
                  <a:srgbClr val="191a1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опосредствованност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Принцип субъектности деятельност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Психологические основы концепции развивающего образования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a1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91a10"/>
                </a:solidFill>
                <a:latin typeface="Arial"/>
              </a:rPr>
              <a:t>Активный характер присвоения учащимися опыта </a:t>
            </a: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деятельност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509" name="Group 4"/>
          <p:cNvGrpSpPr/>
          <p:nvPr/>
        </p:nvGrpSpPr>
        <p:grpSpPr>
          <a:xfrm>
            <a:off x="1403280" y="2136600"/>
            <a:ext cx="6624720" cy="3872160"/>
            <a:chOff x="1403280" y="2136600"/>
            <a:chExt cx="6624720" cy="3872160"/>
          </a:xfrm>
        </p:grpSpPr>
        <p:sp>
          <p:nvSpPr>
            <p:cNvPr id="1510" name="Text Box 5"/>
            <p:cNvSpPr/>
            <p:nvPr/>
          </p:nvSpPr>
          <p:spPr>
            <a:xfrm>
              <a:off x="1403280" y="2136600"/>
              <a:ext cx="6624720" cy="387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1" name="AutoShape 6"/>
            <p:cNvSpPr/>
            <p:nvPr/>
          </p:nvSpPr>
          <p:spPr>
            <a:xfrm>
              <a:off x="2138400" y="2409120"/>
              <a:ext cx="889200" cy="595440"/>
            </a:xfrm>
            <a:prstGeom prst="wedgeRectCallout">
              <a:avLst>
                <a:gd name="adj1" fmla="val -43731"/>
                <a:gd name="adj2" fmla="val 11994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91a10"/>
                  </a:solidFill>
                  <a:latin typeface="Arial"/>
                </a:rPr>
                <a:t>Предмет усвоения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1512" name="Group 7"/>
            <p:cNvGrpSpPr/>
            <p:nvPr/>
          </p:nvGrpSpPr>
          <p:grpSpPr>
            <a:xfrm>
              <a:off x="1643040" y="3267720"/>
              <a:ext cx="790920" cy="1366920"/>
              <a:chOff x="1643040" y="3267720"/>
              <a:chExt cx="790920" cy="1366920"/>
            </a:xfrm>
          </p:grpSpPr>
          <p:grpSp>
            <p:nvGrpSpPr>
              <p:cNvPr id="1513" name="Group 8"/>
              <p:cNvGrpSpPr/>
              <p:nvPr/>
            </p:nvGrpSpPr>
            <p:grpSpPr>
              <a:xfrm>
                <a:off x="1841040" y="3267720"/>
                <a:ext cx="306720" cy="928080"/>
                <a:chOff x="1841040" y="3267720"/>
                <a:chExt cx="306720" cy="928080"/>
              </a:xfrm>
            </p:grpSpPr>
            <p:sp>
              <p:nvSpPr>
                <p:cNvPr id="1514" name="Oval 9"/>
                <p:cNvSpPr/>
                <p:nvPr/>
              </p:nvSpPr>
              <p:spPr>
                <a:xfrm>
                  <a:off x="1841040" y="3267720"/>
                  <a:ext cx="2988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15" name="AutoShape 10"/>
                <p:cNvSpPr/>
                <p:nvPr/>
              </p:nvSpPr>
              <p:spPr>
                <a:xfrm flipV="1">
                  <a:off x="1848960" y="3519720"/>
                  <a:ext cx="298800" cy="676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6" name="Text Box 11"/>
              <p:cNvSpPr/>
              <p:nvPr/>
            </p:nvSpPr>
            <p:spPr>
              <a:xfrm>
                <a:off x="1643040" y="4336560"/>
                <a:ext cx="790920" cy="29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191a10"/>
                    </a:solidFill>
                    <a:latin typeface="Arial"/>
                  </a:rPr>
                  <a:t>учитель</a:t>
                </a:r>
                <a:endParaRPr b="0" lang="en-US" sz="12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517" name="Group 12"/>
            <p:cNvGrpSpPr/>
            <p:nvPr/>
          </p:nvGrpSpPr>
          <p:grpSpPr>
            <a:xfrm>
              <a:off x="2656800" y="3448440"/>
              <a:ext cx="691920" cy="1116360"/>
              <a:chOff x="2656800" y="3448440"/>
              <a:chExt cx="691920" cy="1116360"/>
            </a:xfrm>
          </p:grpSpPr>
          <p:grpSp>
            <p:nvGrpSpPr>
              <p:cNvPr id="1518" name="Group 13"/>
              <p:cNvGrpSpPr/>
              <p:nvPr/>
            </p:nvGrpSpPr>
            <p:grpSpPr>
              <a:xfrm>
                <a:off x="2853720" y="3448440"/>
                <a:ext cx="208080" cy="630720"/>
                <a:chOff x="2853720" y="3448440"/>
                <a:chExt cx="208080" cy="630720"/>
              </a:xfrm>
            </p:grpSpPr>
            <p:sp>
              <p:nvSpPr>
                <p:cNvPr id="1519" name="Oval 14"/>
                <p:cNvSpPr/>
                <p:nvPr/>
              </p:nvSpPr>
              <p:spPr>
                <a:xfrm>
                  <a:off x="2853720" y="3448440"/>
                  <a:ext cx="202680" cy="153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20" name="AutoShape 15"/>
                <p:cNvSpPr/>
                <p:nvPr/>
              </p:nvSpPr>
              <p:spPr>
                <a:xfrm flipV="1">
                  <a:off x="2859120" y="3619080"/>
                  <a:ext cx="202680" cy="459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1" name="Text Box 16"/>
              <p:cNvSpPr/>
              <p:nvPr/>
            </p:nvSpPr>
            <p:spPr>
              <a:xfrm>
                <a:off x="2656800" y="4266000"/>
                <a:ext cx="691920" cy="29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191a10"/>
                    </a:solidFill>
                    <a:latin typeface="Arial"/>
                  </a:rPr>
                  <a:t>ученик</a:t>
                </a:r>
                <a:endParaRPr b="0" lang="en-US" sz="12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1522" name="Text Box 17"/>
            <p:cNvSpPr/>
            <p:nvPr/>
          </p:nvSpPr>
          <p:spPr>
            <a:xfrm>
              <a:off x="1642680" y="4792320"/>
              <a:ext cx="1957680" cy="59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191a10"/>
                  </a:solidFill>
                  <a:uFillTx/>
                  <a:latin typeface="Arial"/>
                </a:rPr>
                <a:t>Активен учитель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1523" name="Group 18"/>
            <p:cNvGrpSpPr/>
            <p:nvPr/>
          </p:nvGrpSpPr>
          <p:grpSpPr>
            <a:xfrm>
              <a:off x="6064560" y="3722760"/>
              <a:ext cx="790920" cy="1366920"/>
              <a:chOff x="6064560" y="3722760"/>
              <a:chExt cx="790920" cy="1366920"/>
            </a:xfrm>
          </p:grpSpPr>
          <p:grpSp>
            <p:nvGrpSpPr>
              <p:cNvPr id="1524" name="Group 19"/>
              <p:cNvGrpSpPr/>
              <p:nvPr/>
            </p:nvGrpSpPr>
            <p:grpSpPr>
              <a:xfrm>
                <a:off x="6262920" y="3722760"/>
                <a:ext cx="307440" cy="929160"/>
                <a:chOff x="6262920" y="3722760"/>
                <a:chExt cx="307440" cy="929160"/>
              </a:xfrm>
            </p:grpSpPr>
            <p:sp>
              <p:nvSpPr>
                <p:cNvPr id="1525" name="Oval 20"/>
                <p:cNvSpPr/>
                <p:nvPr/>
              </p:nvSpPr>
              <p:spPr>
                <a:xfrm>
                  <a:off x="6262920" y="3722760"/>
                  <a:ext cx="29952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26" name="AutoShape 21"/>
                <p:cNvSpPr/>
                <p:nvPr/>
              </p:nvSpPr>
              <p:spPr>
                <a:xfrm flipV="1">
                  <a:off x="6270840" y="3975120"/>
                  <a:ext cx="299520" cy="676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7" name="Text Box 22"/>
              <p:cNvSpPr/>
              <p:nvPr/>
            </p:nvSpPr>
            <p:spPr>
              <a:xfrm>
                <a:off x="6064560" y="4791240"/>
                <a:ext cx="79092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191a10"/>
                    </a:solidFill>
                    <a:latin typeface="Arial"/>
                  </a:rPr>
                  <a:t>учитель</a:t>
                </a:r>
                <a:endParaRPr b="0" lang="en-US" sz="12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528" name="Group 23"/>
            <p:cNvGrpSpPr/>
            <p:nvPr/>
          </p:nvGrpSpPr>
          <p:grpSpPr>
            <a:xfrm>
              <a:off x="6685920" y="2409120"/>
              <a:ext cx="691920" cy="1116000"/>
              <a:chOff x="6685920" y="2409120"/>
              <a:chExt cx="691920" cy="1116000"/>
            </a:xfrm>
          </p:grpSpPr>
          <p:grpSp>
            <p:nvGrpSpPr>
              <p:cNvPr id="1529" name="Group 24"/>
              <p:cNvGrpSpPr/>
              <p:nvPr/>
            </p:nvGrpSpPr>
            <p:grpSpPr>
              <a:xfrm>
                <a:off x="6882840" y="2409120"/>
                <a:ext cx="208080" cy="630360"/>
                <a:chOff x="6882840" y="2409120"/>
                <a:chExt cx="208080" cy="630360"/>
              </a:xfrm>
            </p:grpSpPr>
            <p:sp>
              <p:nvSpPr>
                <p:cNvPr id="1530" name="Oval 25"/>
                <p:cNvSpPr/>
                <p:nvPr/>
              </p:nvSpPr>
              <p:spPr>
                <a:xfrm>
                  <a:off x="6882840" y="2409120"/>
                  <a:ext cx="202680" cy="153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31" name="AutoShape 26"/>
                <p:cNvSpPr/>
                <p:nvPr/>
              </p:nvSpPr>
              <p:spPr>
                <a:xfrm flipV="1">
                  <a:off x="6888240" y="2580120"/>
                  <a:ext cx="202680" cy="459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Text Box 27"/>
              <p:cNvSpPr/>
              <p:nvPr/>
            </p:nvSpPr>
            <p:spPr>
              <a:xfrm>
                <a:off x="6685920" y="3226680"/>
                <a:ext cx="69192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191a10"/>
                    </a:solidFill>
                    <a:latin typeface="Arial"/>
                  </a:rPr>
                  <a:t>ученик</a:t>
                </a:r>
                <a:endParaRPr b="0" lang="en-US" sz="12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1533" name="Text Box 28"/>
            <p:cNvSpPr/>
            <p:nvPr/>
          </p:nvSpPr>
          <p:spPr>
            <a:xfrm>
              <a:off x="4751640" y="2433600"/>
              <a:ext cx="1087560" cy="59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91a10"/>
                  </a:solidFill>
                  <a:latin typeface="Arial"/>
                </a:rPr>
                <a:t>Предмет усвоения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4" name="AutoShape 29"/>
            <p:cNvSpPr/>
            <p:nvPr/>
          </p:nvSpPr>
          <p:spPr>
            <a:xfrm>
              <a:off x="4510080" y="3600000"/>
              <a:ext cx="1285920" cy="597240"/>
            </a:xfrm>
            <a:prstGeom prst="wedgeRoundRectCallout">
              <a:avLst>
                <a:gd name="adj1" fmla="val 87361"/>
                <a:gd name="adj2" fmla="val -9737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91a10"/>
                  </a:solidFill>
                  <a:latin typeface="Arial"/>
                </a:rPr>
                <a:t>Программа деятельности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5" name="AutoShape 30"/>
            <p:cNvSpPr/>
            <p:nvPr/>
          </p:nvSpPr>
          <p:spPr>
            <a:xfrm>
              <a:off x="6244560" y="3052080"/>
              <a:ext cx="296280" cy="548640"/>
            </a:xfrm>
            <a:prstGeom prst="upDownArrow">
              <a:avLst>
                <a:gd name="adj1" fmla="val 50000"/>
                <a:gd name="adj2" fmla="val 368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6" name="AutoShape 31"/>
            <p:cNvSpPr/>
            <p:nvPr/>
          </p:nvSpPr>
          <p:spPr>
            <a:xfrm>
              <a:off x="5994000" y="2648520"/>
              <a:ext cx="790920" cy="297720"/>
            </a:xfrm>
            <a:prstGeom prst="leftRightArrow">
              <a:avLst>
                <a:gd name="adj1" fmla="val 50000"/>
                <a:gd name="adj2" fmla="val 528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7" name="AutoShape 32"/>
            <p:cNvSpPr/>
            <p:nvPr/>
          </p:nvSpPr>
          <p:spPr>
            <a:xfrm>
              <a:off x="2229480" y="3647520"/>
              <a:ext cx="592920" cy="297720"/>
            </a:xfrm>
            <a:prstGeom prst="leftRightArrow">
              <a:avLst>
                <a:gd name="adj1" fmla="val 50000"/>
                <a:gd name="adj2" fmla="val 396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8" name="Text Box 33"/>
            <p:cNvSpPr/>
            <p:nvPr/>
          </p:nvSpPr>
          <p:spPr>
            <a:xfrm>
              <a:off x="5499000" y="5148000"/>
              <a:ext cx="1978200" cy="59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191a10"/>
                  </a:solidFill>
                  <a:uFillTx/>
                  <a:latin typeface="Arial"/>
                </a:rPr>
                <a:t>Активен учащийся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Уровни методологических знаний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812520" y="1885680"/>
            <a:ext cx="81025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a10"/>
                </a:solidFill>
                <a:latin typeface="Arial"/>
              </a:rPr>
              <a:t>IV  </a:t>
            </a: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уровень   -   философский   </a:t>
            </a:r>
            <a:r>
              <a:rPr b="0" lang="ru-RU" sz="2400" spc="-1" strike="noStrike">
                <a:solidFill>
                  <a:srgbClr val="191a10"/>
                </a:solidFill>
                <a:latin typeface="Arial"/>
              </a:rPr>
              <a:t>(рефлексивный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a10"/>
                </a:solidFill>
                <a:latin typeface="Arial"/>
              </a:rPr>
              <a:t>III  </a:t>
            </a: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уровень   - </a:t>
            </a: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общенаучной методологи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a10"/>
                </a:solidFill>
                <a:latin typeface="Arial"/>
              </a:rPr>
              <a:t>II  </a:t>
            </a: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уровень    - </a:t>
            </a: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предметно-специфический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a10"/>
                </a:solidFill>
                <a:latin typeface="Arial"/>
              </a:rPr>
              <a:t>I  </a:t>
            </a: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уровень     - </a:t>
            </a: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191a10"/>
                </a:solidFill>
                <a:latin typeface="Arial"/>
              </a:rPr>
              <a:t>операциональный   </a:t>
            </a:r>
            <a:r>
              <a:rPr b="0" lang="ru-RU" sz="2400" spc="-1" strike="noStrike">
                <a:solidFill>
                  <a:srgbClr val="191a10"/>
                </a:solidFill>
                <a:latin typeface="Arial"/>
              </a:rPr>
              <a:t>(сервисный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У. Глассер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6858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Arial"/>
              </a:rPr>
              <a:t>10 % - после того, как прочитал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Arial"/>
              </a:rPr>
              <a:t>20 % - если слушаешь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Arial"/>
              </a:rPr>
              <a:t>30 % - если смотришь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Arial"/>
              </a:rPr>
              <a:t>50 % - если смотришь и слушаешь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Arial"/>
              </a:rPr>
              <a:t>75 % - если сам действуешь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Arial"/>
              </a:rPr>
              <a:t>85 % - если обсуждаешь то, что узнал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Arial"/>
              </a:rPr>
              <a:t>95 % - если учишь другого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Технологии обучения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714240" y="150012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Группы развит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Проектирование современного урока (приемы обучения, конструктор урока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Технология деятельностного метод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Технология проблемно-диалогического урок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Технология проектной деятельност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Организация проектной и исследовательской деятельност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357120" y="1356840"/>
            <a:ext cx="878688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Бадмаев Б.Ц. Психология в работе учителя. В 2 кн. - М.:ВЛАДОС,2000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Давыдов В.В. Виды обобщения в обучении.- М.: Педагогическое общество России, 2000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Талызина Н.ф. Педагогическая психология. - М.: Издательский центр «Академия», 1999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6500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Особенности ФГОС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76" name="Text Box 11"/>
          <p:cNvSpPr/>
          <p:nvPr/>
        </p:nvSpPr>
        <p:spPr>
          <a:xfrm>
            <a:off x="428760" y="1357200"/>
            <a:ext cx="818676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e2e01"/>
                </a:solidFill>
                <a:latin typeface="Arial"/>
              </a:rPr>
              <a:t>1. Ориентация на результат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2e2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e2e01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2e2e01"/>
                </a:solidFill>
                <a:latin typeface="Arial"/>
              </a:rPr>
              <a:t>Три группы планируемых результатов  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2e2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e2e01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2e2e01"/>
                </a:solidFill>
                <a:latin typeface="Arial"/>
              </a:rPr>
              <a:t>Ведущие целевые установки изучения предметов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e2e01"/>
                </a:solidFill>
                <a:latin typeface="Arial"/>
              </a:rPr>
              <a:t>2. Формирование универсальных учебных действий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e2e01"/>
                </a:solidFill>
                <a:latin typeface="Arial"/>
              </a:rPr>
              <a:t>3. Новая система оценивания 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e2e01"/>
                </a:solidFill>
                <a:latin typeface="Arial"/>
              </a:rPr>
              <a:t>4. Системно-деятельностный подход - 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e2e01"/>
                </a:solidFill>
                <a:latin typeface="Arial"/>
              </a:rPr>
              <a:t>вовлечение обучающихся в учебную деятельность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e2e01"/>
                </a:solidFill>
                <a:latin typeface="Arial"/>
              </a:rPr>
              <a:t>5. Уровневая дифференциация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e2e01"/>
                </a:solidFill>
                <a:latin typeface="Arial"/>
              </a:rPr>
              <a:t>6. Внеурочная деятельность (БОП)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1377" name="Picture 4" descr=""/>
          <p:cNvPicPr/>
          <p:nvPr/>
        </p:nvPicPr>
        <p:blipFill>
          <a:blip r:embed="rId1"/>
          <a:stretch/>
        </p:blipFill>
        <p:spPr>
          <a:xfrm>
            <a:off x="7000920" y="428760"/>
            <a:ext cx="185724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Проблемы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идей ФГОС в обучении учащихся (по предмету): новое содержание, УМК, методика обучения, проектирование учебного процесса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емственность между начальной и основной школой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аботка образовательных программ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аботка программы УУД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иторинг качества образован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ая  система оцениван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Проблемы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урочная деятельность учащихс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я проектной и исследовательской деятельност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ка и учет индивидуальных особенностей учащихс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невая дифференциац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деятельностного подход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тивация учебной деятельност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еполагание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предметный подход в обучени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Стандарт</a:t>
            </a:r>
            <a:br>
              <a:rPr sz="4000"/>
            </a:b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как система требований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383" name="Diagram 6"/>
          <p:cNvGrpSpPr/>
          <p:nvPr/>
        </p:nvGrpSpPr>
        <p:grpSpPr>
          <a:xfrm>
            <a:off x="1323720" y="2140200"/>
            <a:ext cx="6495840" cy="3038040"/>
            <a:chOff x="1323720" y="2140200"/>
            <a:chExt cx="6495840" cy="3038040"/>
          </a:xfrm>
        </p:grpSpPr>
        <p:sp>
          <p:nvSpPr>
            <p:cNvPr id="1384" name="_s1028"/>
            <p:cNvSpPr/>
            <p:nvPr/>
          </p:nvSpPr>
          <p:spPr>
            <a:xfrm>
              <a:off x="3114720" y="2680200"/>
              <a:ext cx="2913480" cy="1542960"/>
            </a:xfrm>
            <a:prstGeom prst="ellipse">
              <a:avLst/>
            </a:prstGeom>
            <a:solidFill>
              <a:srgbClr val="ff0066">
                <a:alpha val="50000"/>
              </a:srgbClr>
            </a:solidFill>
            <a:ln w="4680">
              <a:solidFill>
                <a:srgbClr val="c0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5" name="_s1029"/>
            <p:cNvSpPr/>
            <p:nvPr/>
          </p:nvSpPr>
          <p:spPr>
            <a:xfrm>
              <a:off x="4183200" y="2140200"/>
              <a:ext cx="7768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6" name="_s1030"/>
            <p:cNvSpPr/>
            <p:nvPr/>
          </p:nvSpPr>
          <p:spPr>
            <a:xfrm>
              <a:off x="4073040" y="3559680"/>
              <a:ext cx="2914200" cy="1542960"/>
            </a:xfrm>
            <a:prstGeom prst="ellipse">
              <a:avLst/>
            </a:prstGeom>
            <a:solidFill>
              <a:srgbClr val="009900">
                <a:alpha val="50000"/>
              </a:srgbClr>
            </a:solidFill>
            <a:ln w="46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7" name="_s1031"/>
            <p:cNvSpPr/>
            <p:nvPr/>
          </p:nvSpPr>
          <p:spPr>
            <a:xfrm>
              <a:off x="7042680" y="4792680"/>
              <a:ext cx="7768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8" name="_s1032"/>
            <p:cNvSpPr/>
            <p:nvPr/>
          </p:nvSpPr>
          <p:spPr>
            <a:xfrm>
              <a:off x="2152800" y="3558240"/>
              <a:ext cx="2914200" cy="1542960"/>
            </a:xfrm>
            <a:prstGeom prst="ellipse">
              <a:avLst/>
            </a:prstGeom>
            <a:solidFill>
              <a:srgbClr val="ffccff">
                <a:alpha val="50000"/>
              </a:srgbClr>
            </a:solidFill>
            <a:ln w="46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9" name="_s1033"/>
            <p:cNvSpPr/>
            <p:nvPr/>
          </p:nvSpPr>
          <p:spPr>
            <a:xfrm>
              <a:off x="1323720" y="4792680"/>
              <a:ext cx="7768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0" name="Rectangle 14"/>
            <p:cNvSpPr/>
            <p:nvPr/>
          </p:nvSpPr>
          <p:spPr>
            <a:xfrm>
              <a:off x="2253240" y="3884040"/>
              <a:ext cx="1978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383ad"/>
                  </a:solidFill>
                  <a:latin typeface="Arial"/>
                </a:rPr>
                <a:t>к структуре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383ad"/>
                  </a:solidFill>
                  <a:latin typeface="Arial"/>
                </a:rPr>
                <a:t>образователь-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383ad"/>
                  </a:solidFill>
                  <a:latin typeface="Arial"/>
                </a:rPr>
                <a:t>ных программ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1" name="Rectangle 15"/>
            <p:cNvSpPr/>
            <p:nvPr/>
          </p:nvSpPr>
          <p:spPr>
            <a:xfrm>
              <a:off x="3548880" y="2905200"/>
              <a:ext cx="204552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Arial"/>
                </a:rPr>
                <a:t>к результатам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Arial"/>
                </a:rPr>
                <a:t>образования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2" name="Rectangle 16"/>
            <p:cNvSpPr/>
            <p:nvPr/>
          </p:nvSpPr>
          <p:spPr>
            <a:xfrm>
              <a:off x="5073120" y="3954240"/>
              <a:ext cx="185256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Arial"/>
                </a:rPr>
                <a:t>к условиям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Arial"/>
                </a:rPr>
                <a:t>образования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861840" y="1981080"/>
            <a:ext cx="8282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94" name="AutoShape 17"/>
          <p:cNvSpPr/>
          <p:nvPr/>
        </p:nvSpPr>
        <p:spPr>
          <a:xfrm>
            <a:off x="179280" y="2205000"/>
            <a:ext cx="2305080" cy="1008000"/>
          </a:xfrm>
          <a:prstGeom prst="wedgeRoundRectCallout">
            <a:avLst>
              <a:gd name="adj1" fmla="val 116115"/>
              <a:gd name="adj2" fmla="val 168268"/>
              <a:gd name="adj3" fmla="val 16667"/>
            </a:avLst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189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95" name="Text Box 18"/>
          <p:cNvSpPr/>
          <p:nvPr/>
        </p:nvSpPr>
        <p:spPr>
          <a:xfrm>
            <a:off x="179280" y="234936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1"/>
                </a:solidFill>
                <a:latin typeface="Arial"/>
              </a:rPr>
              <a:t>организация 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1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96" name="AutoShape 19"/>
          <p:cNvSpPr/>
          <p:nvPr/>
        </p:nvSpPr>
        <p:spPr>
          <a:xfrm>
            <a:off x="6804000" y="2565360"/>
            <a:ext cx="2087640" cy="1008000"/>
          </a:xfrm>
          <a:prstGeom prst="wedgeRoundRectCallout">
            <a:avLst>
              <a:gd name="adj1" fmla="val -91138"/>
              <a:gd name="adj2" fmla="val 26851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97" name="Text Box 20"/>
          <p:cNvSpPr/>
          <p:nvPr/>
        </p:nvSpPr>
        <p:spPr>
          <a:xfrm>
            <a:off x="6732720" y="26370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1"/>
                </a:solidFill>
                <a:latin typeface="Arial"/>
              </a:rPr>
              <a:t>Планируемые результаты достижения ОП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98" name="AutoShape 21"/>
          <p:cNvSpPr/>
          <p:nvPr/>
        </p:nvSpPr>
        <p:spPr>
          <a:xfrm>
            <a:off x="6643800" y="5357880"/>
            <a:ext cx="1944720" cy="792000"/>
          </a:xfrm>
          <a:prstGeom prst="wedgeRoundRectCallout">
            <a:avLst>
              <a:gd name="adj1" fmla="val -59060"/>
              <a:gd name="adj2" fmla="val -102106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99" name="Text Box 22"/>
          <p:cNvSpPr/>
          <p:nvPr/>
        </p:nvSpPr>
        <p:spPr>
          <a:xfrm>
            <a:off x="6715080" y="54291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1"/>
                </a:solidFill>
                <a:latin typeface="Arial"/>
              </a:rPr>
              <a:t>ресурсы и условия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 txBox="1"/>
          <p:nvPr/>
        </p:nvSpPr>
        <p:spPr>
          <a:xfrm>
            <a:off x="428760" y="1571400"/>
            <a:ext cx="850104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Arial"/>
              </a:rPr>
              <a:t>ФГОС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Требования к результатам освоения основной образовательной программы (личностные, метапредметные, предметные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Требования к структуре основной образовательной программ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01"/>
                </a:solidFill>
                <a:latin typeface="Arial"/>
              </a:rPr>
              <a:t>Требования к условиям реализации основной образовательной программы (финансы, кадры, материально-техническое оснащение и т.д.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01" name="Прямоугольник 4"/>
          <p:cNvSpPr/>
          <p:nvPr/>
        </p:nvSpPr>
        <p:spPr>
          <a:xfrm>
            <a:off x="192888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383ad"/>
                </a:solidFill>
                <a:latin typeface="Arial"/>
              </a:rPr>
              <a:t>Структура стандарта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ПРИМЕР ТРЕБОВАНИЙ </a:t>
            </a:r>
            <a:br>
              <a:rPr sz="2400"/>
            </a:b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К ОСНОВНОЙ ОБРАЗОВАТЕЛЬНОЙ ПРОГРАММЕ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571320" y="164304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e2e01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2e01"/>
                </a:solidFill>
                <a:latin typeface="Arial"/>
              </a:rPr>
              <a:t>пояснительная записка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e2e01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2e01"/>
                </a:solidFill>
                <a:latin typeface="Arial"/>
              </a:rPr>
              <a:t>планируемые результаты освоения обучающимися основной образовательной программы;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e2e01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2e01"/>
                </a:solidFill>
                <a:latin typeface="Arial"/>
              </a:rPr>
              <a:t>учебный план;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e2e01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2e01"/>
                </a:solidFill>
                <a:latin typeface="Arial"/>
              </a:rPr>
              <a:t>программа формирования универсальных учебных действий у обучающихся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e2e01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2e01"/>
                </a:solidFill>
                <a:latin typeface="Arial"/>
              </a:rPr>
              <a:t>программы отдельных учебных предметов, курсов;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e2e01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2e01"/>
                </a:solidFill>
                <a:latin typeface="Arial"/>
              </a:rPr>
              <a:t>программа духовно-нравственного развития, воспитания обучающихся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e2e01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2e01"/>
                </a:solidFill>
                <a:latin typeface="Arial"/>
              </a:rPr>
              <a:t>программа формирования культуры  здорового и безопасного образа жизни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e2e01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2e01"/>
                </a:solidFill>
                <a:latin typeface="Arial"/>
              </a:rPr>
              <a:t>программа коррекционной работы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e2e01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2e01"/>
                </a:solidFill>
                <a:latin typeface="Arial"/>
              </a:rPr>
              <a:t>система оценки достижения планируемых результатов освоения основной образовательной программы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Arial"/>
              </a:rPr>
              <a:t>ООП разрабатывается каждым ОУ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7:32:43Z</dcterms:created>
  <dc:creator>Admin</dc:creator>
  <dc:description/>
  <dc:language>en-US</dc:language>
  <cp:lastModifiedBy>1</cp:lastModifiedBy>
  <dcterms:modified xsi:type="dcterms:W3CDTF">2011-10-16T21:39:04Z</dcterms:modified>
  <cp:revision>52</cp:revision>
  <dc:subject/>
  <dc:title>Слайд 1</dc:title>
</cp:coreProperties>
</file>