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camera.wav" ContentType="audio/x-wav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  <p:sldId id="291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slide" Target="slides/slide36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3084C-CAC4-4167-A7D7-A17D04383A7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B9CCC-A718-42D5-9C09-1CE0DB3279B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50AF0-31F6-4795-90CF-1327F36A10B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AFB5A-BDA5-4126-88FA-329E1942A3C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5F82F-4B1B-4B98-AB22-76A9B0208B3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6F273-4F83-4A8F-BCA1-EFAE599248B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3839E-6A0F-4342-A039-417012F1C46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9C88F-DBBE-4E23-94CE-18B73B020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1308960"/>
            <a:ext cx="822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31837-4415-4714-9F14-F5B00C915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13089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13089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F0BD3-851B-4D4B-8BDF-5B82F54A8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990360"/>
            <a:ext cx="264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990360"/>
            <a:ext cx="264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1308960"/>
            <a:ext cx="264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1308960"/>
            <a:ext cx="264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1308960"/>
            <a:ext cx="264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517F4-1400-45E8-A920-FF55B1EF7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9FE2F-21F2-46BE-A73B-C583CB5C5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DA900-C54F-4460-B489-4194B1B86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2F516-1D68-4570-9631-9F7C8D749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5A28E-A799-4F9C-A33E-3F8330623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6AD48-CD61-4B37-B2DE-8ADAADC00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0" y="22824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B9F34-5044-4739-B0B3-48CDC51A9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13089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4740D-5D83-4E11-8E24-F2A265514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7D3B7-D2D4-4207-AF1E-E885F024B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13089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D65C9-D52B-422F-9376-FA9A1551B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1308960"/>
            <a:ext cx="822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EBA9D-AED5-42FB-BCD2-1CCCB3928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1308960"/>
            <a:ext cx="822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D59BA-EF3E-4EB5-B515-D3FA0C440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13089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13089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CAD6F-ED2D-43CA-B0AC-933EB482D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990360"/>
            <a:ext cx="264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990360"/>
            <a:ext cx="264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1308960"/>
            <a:ext cx="264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1308960"/>
            <a:ext cx="264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1308960"/>
            <a:ext cx="264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70DBE-3AF5-4648-AC08-B49CD81B3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9B5762-9ADA-4B74-8A02-DBF931B24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1BDADA-7560-428D-90D6-953CB3CA5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A4E620-8024-401E-B0E8-1ACCF4E11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F6D4EB-6099-4F82-A068-870DD5B35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BB33DF-72D4-41DF-8E0D-753FB22AB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AD8E5-21CA-4D7D-9D02-23313F20B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0" y="22824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11BD7F-3917-43FD-A8B4-1C1983ECB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13089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FAF269-2216-4D82-9FC2-B76ABC0E9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13089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0BC03B-A48F-4D2A-AA6A-D7CD550F7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1308960"/>
            <a:ext cx="822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E5F1F4-1291-4533-8EB6-C2BDF74D5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1308960"/>
            <a:ext cx="822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BBB15D-7FDC-4491-95F4-7F17DCA9E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13089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13089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4DC4A2-093F-4518-811A-1EEE8487B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990360"/>
            <a:ext cx="264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990360"/>
            <a:ext cx="264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1308960"/>
            <a:ext cx="264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1308960"/>
            <a:ext cx="264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1308960"/>
            <a:ext cx="264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F9B8A2-07D6-41F1-8884-9305838B0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341EA8-DDC2-4791-816B-054F4B194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5F5CC5-E349-40D4-89F9-7A3280100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98F1E9-5092-41C4-A0CF-3B0351747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52868-097A-4ED1-B632-3D4FFC0AE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A8371B-0AD4-4954-B01F-25A2685A6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7811D5-181F-4A12-A255-A69FA7948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0" y="22824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8BB168-50AD-4648-B77F-EABC891DC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13089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77235F-A312-4864-9810-C6A9635D3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4240" y="13089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8D5E4C-545B-41B3-B820-9F8C5936E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1308960"/>
            <a:ext cx="822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25E8B5-9CC5-498D-830B-5490345D4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1308960"/>
            <a:ext cx="822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EE5323-0801-4A0C-AC03-02C3E7059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13089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4240" y="13089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38E6F2-EA43-466E-9DD7-4D2BEDE97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39640" y="990360"/>
            <a:ext cx="264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22080" y="990360"/>
            <a:ext cx="264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1308960"/>
            <a:ext cx="264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39640" y="1308960"/>
            <a:ext cx="264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22080" y="1308960"/>
            <a:ext cx="264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5DAE8B-1AA6-4157-9D01-790E72F6A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A13892-6E88-4287-9382-0ADC1CB2A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20D85-C25A-4B1B-B078-000097196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F53E87-8707-4554-85DA-B6C1169EF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52AC6D-C237-49B5-A4FD-B3E041E91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31E2F0-B651-4189-B013-A96653BEC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605212-E0C4-42F8-96C8-3C7CC4D74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0" y="22824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3926DE-707C-4FA2-A8AE-C30C8FFC3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13089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849BB0-3D68-46CD-8192-DB7A465FD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674240" y="13089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2B75A0-E32F-4DC7-BAE1-343AF9922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1308960"/>
            <a:ext cx="822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616B3E-1D0C-4C63-9090-C66B45C26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57200" y="1308960"/>
            <a:ext cx="822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01BB30-7DC9-4562-8DCC-BB0F94079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13089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674240" y="13089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445358-A6FE-47C3-8C9F-4E6963270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22824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92664-1919-4EB2-A62A-8F69C96BB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239640" y="990360"/>
            <a:ext cx="264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022080" y="990360"/>
            <a:ext cx="264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57200" y="1308960"/>
            <a:ext cx="264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239640" y="1308960"/>
            <a:ext cx="264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6022080" y="1308960"/>
            <a:ext cx="264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7C304F-E8BB-4083-A803-BB9D054D1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7E2F05-3AF4-48B4-A37A-FBA9790F8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4F0CD2-3359-4357-B428-A5EB837D5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59E5FD-0870-42EA-954B-59D17F6CB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A8415A-3280-4E6D-BACE-8EFED6D41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95B514-2399-49DB-A3CE-63506E6C7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0" y="22824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DF676A-4974-4DB3-89E7-75E1005C4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13089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AFAF4F-E924-430E-B24E-5C85356EE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674240" y="13089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457BFD-E6E4-4AAF-ACC0-C4648D2F8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1308960"/>
            <a:ext cx="822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BCB584-5325-442D-B1CD-8E18DE80D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13089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5F5D7-3D71-4CE3-8973-DEEF8326E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57200" y="1308960"/>
            <a:ext cx="822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C0640A-EB28-467D-97F9-3C76B92D6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13089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674240" y="13089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C223F9-C47A-43D6-BC17-D2C00CB30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239640" y="990360"/>
            <a:ext cx="264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022080" y="990360"/>
            <a:ext cx="264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57200" y="1308960"/>
            <a:ext cx="264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239640" y="1308960"/>
            <a:ext cx="264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022080" y="1308960"/>
            <a:ext cx="264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4D17E3-B46D-4FB6-BBC2-B67F5F93F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13089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98616-8267-4DC2-9D5B-C47327211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1308960"/>
            <a:ext cx="822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6130C-FC36-49AC-B520-F4FBB43B8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b3b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97155-AD4E-4821-8477-047C036894F1}" type="slidenum">
              <a:rPr b="0" lang="en-US" sz="10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5000"/>
          </a:bodyPr>
          <a:p>
            <a:pPr marL="85680" indent="-85680">
              <a:spcBef>
                <a:spcPts val="400"/>
              </a:spcBef>
              <a:buClr>
                <a:srgbClr val="1ace9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1" marL="185760" indent="-71280">
              <a:spcBef>
                <a:spcPts val="400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2" marL="285480" indent="-56880">
              <a:spcBef>
                <a:spcPts val="400"/>
              </a:spcBef>
              <a:buClr>
                <a:srgbClr val="00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3" marL="399960" indent="-56880">
              <a:spcBef>
                <a:spcPts val="400"/>
              </a:spcBef>
              <a:buClr>
                <a:srgbClr val="ffffcc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4" marL="514080" indent="-56880">
              <a:spcBef>
                <a:spcPts val="400"/>
              </a:spcBef>
              <a:buClr>
                <a:srgbClr val="948cce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5" marL="514080" indent="-56880">
              <a:spcBef>
                <a:spcPts val="40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6" marL="514080" indent="-56880">
              <a:spcBef>
                <a:spcPts val="40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43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92945-B968-463F-B573-5928B3968FB6}" type="slidenum">
              <a:rPr b="0" lang="en-US" sz="1000" spc="-1" strike="noStrike">
                <a:solidFill>
                  <a:srgbClr val="a7a3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7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88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D240B-F1FA-4DA5-B07B-A83AA8169B81}" type="slidenum">
              <a:rPr b="0" lang="en-US" sz="1000" spc="-1" strike="noStrike">
                <a:solidFill>
                  <a:srgbClr val="a7a3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2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133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F02D7-C117-49EB-9F4E-013B3C88B2EB}" type="slidenum">
              <a:rPr b="0" lang="en-US" sz="1000" spc="-1" strike="noStrike">
                <a:solidFill>
                  <a:srgbClr val="a7a3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EAB5E-27AF-4266-B1B6-3833BA24F67A}" type="slidenum">
              <a:rPr b="0" lang="en-US" sz="1000" spc="-1" strike="noStrike">
                <a:solidFill>
                  <a:srgbClr val="a7a3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>
              <a:gd name="textAreaLeft" fmla="*/ 0 w 2324160"/>
              <a:gd name="textAreaRight" fmla="*/ 2305800 w 2324160"/>
              <a:gd name="textAreaTop" fmla="*/ 0 h 4343400"/>
              <a:gd name="textAreaBottom" fmla="*/ 4343760 h 4343400"/>
            </a:gdLst>
            <a:ahLst/>
            <a:rect l="textAreaLeft" t="textAreaTop" r="textAreaRight" b="textAreaBottom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lnTo>
                  <a:pt x="2260234" y="0"/>
                </a:lnTo>
                <a:arcTo wR="63866" hR="63866" stAng="-5400000" swAng="5400000"/>
                <a:lnTo>
                  <a:pt x="2324100" y="4343400"/>
                </a:lnTo>
                <a:lnTo>
                  <a:pt x="0" y="434340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F42A9-D3C8-435E-8097-B7DD74BA2700}" type="slidenum">
              <a:rPr b="0" lang="en-US" sz="1000" spc="-1" strike="noStrike">
                <a:solidFill>
                  <a:srgbClr val="a7a3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6294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Calibri"/>
              </a:rPr>
              <a:t>Использование  новых образовательных технологий при формировании метапредметных компетенций в средней школе</a:t>
            </a:r>
            <a:br>
              <a:rPr sz="4800"/>
            </a:br>
            <a:br>
              <a:rPr sz="4800"/>
            </a:br>
            <a:br>
              <a:rPr sz="4800"/>
            </a:b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Ингилевич В.В.</a:t>
            </a:r>
            <a:br>
              <a:rPr sz="3600"/>
            </a:br>
            <a:r>
              <a:rPr b="0" i="1" lang="ru-RU" sz="2800" spc="-1" strike="noStrike">
                <a:solidFill>
                  <a:srgbClr val="ffffff"/>
                </a:solidFill>
                <a:latin typeface="Calibri"/>
              </a:rPr>
              <a:t>Центр инновационных образовательных технологий </a:t>
            </a:r>
            <a:br>
              <a:rPr sz="2800"/>
            </a:br>
            <a:r>
              <a:rPr b="0" i="1" lang="ru-RU" sz="2800" spc="-1" strike="noStrike">
                <a:solidFill>
                  <a:srgbClr val="ffffff"/>
                </a:solidFill>
                <a:latin typeface="Calibri"/>
              </a:rPr>
              <a:t>ПОИПКРО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Социальный заказ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18" name="Содержимое 2" descr=""/>
          <p:cNvPicPr/>
          <p:nvPr/>
        </p:nvPicPr>
        <p:blipFill>
          <a:blip r:embed="rId1"/>
          <a:stretch/>
        </p:blipFill>
        <p:spPr>
          <a:xfrm>
            <a:off x="133200" y="1096920"/>
            <a:ext cx="9034560" cy="550548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10" descr="http://im2-tub.yandex.net/i?id=15295551&amp;tov=2"/>
          <p:cNvPicPr/>
          <p:nvPr/>
        </p:nvPicPr>
        <p:blipFill>
          <a:blip r:embed="rId2"/>
          <a:stretch/>
        </p:blipFill>
        <p:spPr>
          <a:xfrm>
            <a:off x="7596360" y="0"/>
            <a:ext cx="1547640" cy="116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Изменения в школе</a:t>
            </a: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12720" y="1197000"/>
            <a:ext cx="815328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12480" indent="-312480">
              <a:spcBef>
                <a:spcPts val="524"/>
              </a:spcBef>
              <a:buClr>
                <a:srgbClr val="aac0c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Calibri"/>
              </a:rPr>
              <a:t>от цели школьного обучения-усвоения знаний, умений, навыков к цели-формированию умения учиться как компетенции, обеспечивающей овладение новыми компетенциями;</a:t>
            </a:r>
            <a:endParaRPr b="0" lang="en-US" sz="2100" spc="-1" strike="noStrike">
              <a:solidFill>
                <a:srgbClr val="ffffff"/>
              </a:solidFill>
              <a:latin typeface="Calibri"/>
            </a:endParaRPr>
          </a:p>
          <a:p>
            <a:pPr marL="312480" indent="-312480">
              <a:spcBef>
                <a:spcPts val="524"/>
              </a:spcBef>
              <a:buClr>
                <a:srgbClr val="aac0c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2100" spc="-1" strike="noStrike">
                <a:solidFill>
                  <a:srgbClr val="ffffff"/>
                </a:solidFill>
                <a:latin typeface="Calibri"/>
              </a:rPr>
              <a:t>от «изолированного» изучения учащимися системы научных понятий, составляющих содержание учебного предмета, к включению содержания обучения в контекст решения значимых жизненных задач; </a:t>
            </a:r>
            <a:endParaRPr b="0" lang="en-US" sz="2100" spc="-1" strike="noStrike">
              <a:solidFill>
                <a:srgbClr val="ffffff"/>
              </a:solidFill>
              <a:latin typeface="Calibri"/>
            </a:endParaRPr>
          </a:p>
          <a:p>
            <a:pPr marL="312480" indent="-312480">
              <a:spcBef>
                <a:spcPts val="524"/>
              </a:spcBef>
              <a:buClr>
                <a:srgbClr val="aac0c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Calibri"/>
              </a:rPr>
              <a:t>от стихийности учебной деятельности ученика к её целенаправленной организации и планомерному формированию, созданию индивидуальных образовательных траекторий; </a:t>
            </a:r>
            <a:endParaRPr b="0" lang="en-US" sz="2100" spc="-1" strike="noStrike">
              <a:solidFill>
                <a:srgbClr val="ffffff"/>
              </a:solidFill>
              <a:latin typeface="Calibri"/>
            </a:endParaRPr>
          </a:p>
          <a:p>
            <a:pPr marL="312480" indent="-312480">
              <a:spcBef>
                <a:spcPts val="524"/>
              </a:spcBef>
              <a:buClr>
                <a:srgbClr val="aac0c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Calibri"/>
              </a:rPr>
              <a:t>от индивидуальной формы усвоения знаний к признанию решающей роли учебного сотрудничества в достижении целей обучения</a:t>
            </a:r>
            <a:endParaRPr b="0" lang="en-US" sz="2100" spc="-1" strike="noStrike">
              <a:solidFill>
                <a:srgbClr val="ffffff"/>
              </a:solidFill>
              <a:latin typeface="Calibri"/>
            </a:endParaRPr>
          </a:p>
          <a:p>
            <a:pPr marL="312480" indent="-312480" algn="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Calibri"/>
            </a:endParaRPr>
          </a:p>
          <a:p>
            <a:pPr marL="312480" indent="-312480" algn="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100" spc="-1" strike="noStrike">
                <a:solidFill>
                  <a:srgbClr val="ffffff"/>
                </a:solidFill>
                <a:latin typeface="Calibri"/>
              </a:rPr>
              <a:t>Концепция федеральных государственных образовательных стандартов общего образования</a:t>
            </a:r>
            <a:endParaRPr b="0" lang="en-US" sz="2100" spc="-1" strike="noStrike">
              <a:solidFill>
                <a:srgbClr val="ffffff"/>
              </a:solidFill>
              <a:latin typeface="Calibri"/>
            </a:endParaRPr>
          </a:p>
          <a:p>
            <a:pPr marL="312480" indent="-312480">
              <a:spcBef>
                <a:spcPts val="524"/>
              </a:spcBef>
              <a:buClr>
                <a:srgbClr val="aac0c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2" name="Номер слайда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BABEE-72C0-4927-8FC0-0E5CA045F1B5}" type="slidenum">
              <a:rPr b="0" lang="en-US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Современные 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образовательные результаты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buClr>
                <a:srgbClr val="aac0c0"/>
              </a:buClr>
              <a:buSzPct val="60000"/>
              <a:buFont typeface="Wingdings" charset="2"/>
              <a:buChar char="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ru-RU" sz="2500" spc="-1" strike="noStrike">
                <a:solidFill>
                  <a:srgbClr val="ffffff"/>
                </a:solidFill>
                <a:latin typeface="Calibri"/>
              </a:rPr>
              <a:t>трактуются как изменения в личностных ресурсах (мотивационных, операциональных, когнитивных), которые могут быть использованы при решении значимых для личности и общества проблем;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aac0c0"/>
              </a:buClr>
              <a:buSzPct val="60000"/>
              <a:buFont typeface="Wingdings" charset="2"/>
              <a:buChar char="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2500" spc="-1" strike="noStrike">
                <a:solidFill>
                  <a:srgbClr val="ffffff"/>
                </a:solidFill>
                <a:latin typeface="Calibri"/>
              </a:rPr>
              <a:t>представляют собой многокомпонентную систему, в которой образовательную ценность представляет не только система знаний ученика, но и освоение способов их получения, способность выявлять потребность в новых знаниях, умение быстро и эффективно, самостоятельно или во взаимодействии с другими учащимися восполнять имеющиеся пробелы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aac0c0"/>
              </a:buClr>
              <a:buSzPct val="60000"/>
              <a:buFont typeface="Wingdings" charset="2"/>
              <a:buChar char="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aac0c0"/>
              </a:buClr>
              <a:buSzPct val="60000"/>
              <a:buFont typeface="Wingdings" charset="2"/>
              <a:buChar char="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5" name="Номер слайда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4BE68-2A3D-47DC-87D6-CE8D51A67080}" type="slidenum">
              <a:rPr b="0" lang="en-US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246240" y="189000"/>
            <a:ext cx="850248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80d07"/>
                </a:solidFill>
                <a:latin typeface="Verdana"/>
              </a:rPr>
              <a:t>ФГОС</a:t>
            </a:r>
            <a:br>
              <a:rPr sz="3600"/>
            </a:br>
            <a:r>
              <a:rPr b="1" lang="ru-RU" sz="3600" spc="-1" strike="noStrike">
                <a:solidFill>
                  <a:srgbClr val="080d07"/>
                </a:solidFill>
                <a:latin typeface="Verdana"/>
              </a:rPr>
              <a:t>Требования к результатам освоения </a:t>
            </a:r>
            <a:br>
              <a:rPr sz="3600"/>
            </a:br>
            <a:r>
              <a:rPr b="1" lang="ru-RU" sz="3600" spc="-1" strike="noStrike">
                <a:solidFill>
                  <a:srgbClr val="080d07"/>
                </a:solidFill>
                <a:latin typeface="Verdana"/>
              </a:rPr>
              <a:t>основной образовательной программы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7" name="Прямоугольник 2"/>
          <p:cNvSpPr/>
          <p:nvPr/>
        </p:nvSpPr>
        <p:spPr>
          <a:xfrm>
            <a:off x="395280" y="2492280"/>
            <a:ext cx="8353440" cy="36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Метапредметны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Arial"/>
              </a:rPr>
              <a:t>Универсальные учебные действия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3399"/>
                </a:solidFill>
                <a:latin typeface="Arial"/>
              </a:rPr>
              <a:t>познавательны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3399"/>
                </a:solidFill>
                <a:latin typeface="Arial"/>
              </a:rPr>
              <a:t>регулятивны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3399"/>
                </a:solidFill>
                <a:latin typeface="Arial"/>
              </a:rPr>
              <a:t>коммуникативны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246240" y="189000"/>
            <a:ext cx="85024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80d07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80d07"/>
                </a:solidFill>
                <a:latin typeface="Times New Roman"/>
                <a:ea typeface="Times New Roman"/>
              </a:rPr>
              <a:t>Метапредметные результаты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457200" y="1052640"/>
            <a:ext cx="8229600" cy="58053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80d07"/>
                </a:solidFill>
                <a:latin typeface="Times New Roman"/>
                <a:ea typeface="Times New Roman"/>
              </a:rPr>
              <a:t>овладение способностью принимать и сохранять цели и задачи учебной деятельности, поиска средств ее осуществления; 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80d07"/>
                </a:solidFill>
                <a:latin typeface="Times New Roman"/>
                <a:ea typeface="Times New Roman"/>
              </a:rPr>
              <a:t>освоение способов решения проблем творческого и поискового характера;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80d07"/>
                </a:solidFill>
                <a:latin typeface="Times New Roman"/>
                <a:ea typeface="Times New Roman"/>
              </a:rPr>
              <a:t>формирование умения планировать, контролировать и оценивать учебные действия в соответствии с поставленной задачей и условиями ее реализации; определять наиболее эффективные способы решения;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80d07"/>
                </a:solidFill>
                <a:latin typeface="Times New Roman"/>
                <a:ea typeface="Times New Roman"/>
              </a:rPr>
              <a:t>формирование умения понимать причины успеха/неуспеха учебной деятельности и способности конструктивно действовать в ситуациях неуспеха; 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246240" y="188640"/>
            <a:ext cx="85024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80d07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80d07"/>
                </a:solidFill>
                <a:latin typeface="Times New Roman"/>
                <a:ea typeface="Times New Roman"/>
              </a:rPr>
              <a:t>Метапредметные результаты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685800" y="1412640"/>
            <a:ext cx="7772400" cy="48495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80d07"/>
                </a:solidFill>
                <a:latin typeface="Times New Roman"/>
                <a:ea typeface="Times New Roman"/>
              </a:rPr>
              <a:t>освоение начальных форм познавательной и личностной рефлексии;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80d07"/>
                </a:solidFill>
                <a:latin typeface="Times New Roman"/>
                <a:ea typeface="Times New Roman"/>
              </a:rPr>
              <a:t> </a:t>
            </a:r>
            <a:r>
              <a:rPr b="0" lang="ru-RU" sz="3000" spc="-1" strike="noStrike">
                <a:solidFill>
                  <a:srgbClr val="080d07"/>
                </a:solidFill>
                <a:latin typeface="Times New Roman"/>
                <a:ea typeface="Times New Roman"/>
              </a:rPr>
              <a:t>использование знаково-символических средств представления информации для создания моделей изучаемых объектов и процессов, схем решения учебных и практических задач;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80d07"/>
                </a:solidFill>
                <a:latin typeface="Times New Roman"/>
                <a:ea typeface="Times New Roman"/>
              </a:rPr>
              <a:t>активное использование речевых средств и средств информационных и коммуникационных технологий (ИКТ) для решения коммуникативных и познавательных задач;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80d07"/>
                </a:solidFill>
                <a:latin typeface="Times New Roman"/>
                <a:ea typeface="Times New Roman"/>
              </a:rPr>
              <a:t>Метапредметные результаты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179280" y="1125000"/>
            <a:ext cx="8964720" cy="55436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80d07"/>
                </a:solidFill>
                <a:latin typeface="Times New Roman"/>
                <a:ea typeface="Times New Roman"/>
              </a:rPr>
              <a:t>использование различных способов поиска (в справочных источниках и открытом учебном информационном пространстве Интернета), сбора, обработки, анализа, организации, передачи и интерпретации информации в соответствии с коммуникативными и познавательными задачами и технологиями учебного предмета; в том числе умение вводить текст с помощью клавиатуры, фиксировать (записывать) в цифровой форме и анализировать изображения, звуки, измеряемые величины, готовить свое выступление и выступать с аудио-, видео- и графическим сопровождением; соблюдать нормы информационной избирательности, этики и этикета;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71280" y="620280"/>
            <a:ext cx="7047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80d07"/>
                </a:solidFill>
                <a:latin typeface="Times New Roman"/>
                <a:ea typeface="Times New Roman"/>
              </a:rPr>
              <a:t>Метапредметные результаты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80d07"/>
                </a:solidFill>
                <a:latin typeface="Times New Roman"/>
                <a:ea typeface="Times New Roman"/>
              </a:rPr>
              <a:t>овладение навыками смыслового чтения текстов различных стилей и жанров в соответствии с целями и задачами; осознанно строить речевое высказывание в соответствии с задачами коммуникации и составлять тексты в устной и письменной форме; 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80d07"/>
                </a:solidFill>
                <a:latin typeface="Times New Roman"/>
                <a:ea typeface="Times New Roman"/>
              </a:rPr>
              <a:t>овладение логическими действиями сравнения, анализа, синтеза, обобщения, классификации по родовидовым признакам, установления аналогий и причинно-следственных связей, построения рассуждений, отнесения к известным понятиям; 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245880" y="189000"/>
            <a:ext cx="86468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80d07"/>
                </a:solidFill>
                <a:latin typeface="Times New Roman"/>
                <a:ea typeface="Times New Roman"/>
              </a:rPr>
              <a:t>Метапредметные результаты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685800" y="134136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80d07"/>
                </a:solidFill>
                <a:latin typeface="Times New Roman"/>
                <a:ea typeface="Times New Roman"/>
              </a:rPr>
              <a:t>готовность слушать собеседника и вести диалог; признавать возможность существования различных точек зрения и права каждого иметь свою; излагать свое мнение и аргументировать свою точку зрения и оценку событий;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80d07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80d07"/>
                </a:solidFill>
                <a:latin typeface="Times New Roman"/>
                <a:ea typeface="Times New Roman"/>
              </a:rPr>
              <a:t>определение общей цели и путей ее достижения; договариваться о распределении функций и ролей в совместной деятельности; осуществлять взаимный контроль в совместной деятельности, адекватно оценивать собственное поведение и поведение окружающих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246240" y="-171360"/>
            <a:ext cx="85737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80d07"/>
                </a:solidFill>
                <a:latin typeface="Times New Roman"/>
                <a:ea typeface="Times New Roman"/>
              </a:rPr>
              <a:t>Метапредметные результаты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1052640"/>
            <a:ext cx="7772400" cy="52099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7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80d07"/>
                </a:solidFill>
                <a:latin typeface="Times New Roman"/>
                <a:ea typeface="Times New Roman"/>
              </a:rPr>
              <a:t>готовность конструктивно разрешать конфликты посредством компромисса и сотрудничества;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7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80d07"/>
                </a:solidFill>
                <a:latin typeface="Times New Roman"/>
                <a:ea typeface="Times New Roman"/>
              </a:rPr>
              <a:t>овладение начальными сведениями о сущности и особенностях объектов, процессов и явлений действительности (природных, социальных, культурных, технических и др.) в соответствии с содержанием конкретного учебного предмета; 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7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80d07"/>
                </a:solidFill>
                <a:latin typeface="Times New Roman"/>
                <a:ea typeface="Times New Roman"/>
              </a:rPr>
              <a:t>овладение базовыми предметными и межпредметными понятиями, отражающими существенные связи и отношения между объектами и процессами;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7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80d07"/>
                </a:solidFill>
                <a:latin typeface="Times New Roman"/>
                <a:ea typeface="Times New Roman"/>
              </a:rPr>
              <a:t>умение работать в материальной и информационной среде начального образования (в том числе с учебными моделями) в соответствии с содержанием конкретного учебного предмета. 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2552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Достижение метапредметных образовательных результатов школьников обеспечивается, если инновации охватывают нововведения на уровне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7200" y="2565000"/>
            <a:ext cx="822960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ace9f"/>
              </a:buClr>
              <a:buSzPct val="6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Calibri"/>
              </a:rPr>
              <a:t>Содержания учебного материала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, определяемого инновационным характером целей образования;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1ace9f"/>
              </a:buClr>
              <a:buSzPct val="6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Calibri"/>
              </a:rPr>
              <a:t>Методов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(использование проектной деятельности как формы решения учебной задачи, сочетание различных способов самоорганизации и сотрудничества школьников);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1ace9f"/>
              </a:buClr>
              <a:buSzPct val="6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Calibri"/>
              </a:rPr>
              <a:t>Технологий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(использование современных информационно-коммуникационных технологий в процессе преподавания);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1ace9f"/>
              </a:buClr>
              <a:buSzPct val="6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Calibri"/>
              </a:rPr>
              <a:t>Способов оценки 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образовательных результатов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1ace9f"/>
              </a:buClr>
              <a:buSzPct val="6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94920" y="-360"/>
            <a:ext cx="8373960" cy="4437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91919"/>
                </a:solidFill>
                <a:latin typeface="Verdana"/>
                <a:ea typeface="Times New Roman"/>
              </a:rPr>
              <a:t>Кейс-метод </a:t>
            </a:r>
            <a:r>
              <a:rPr b="1" lang="ru-RU" sz="2400" spc="-1" strike="noStrike">
                <a:solidFill>
                  <a:srgbClr val="ff8d3e"/>
                </a:solidFill>
                <a:latin typeface="Verdana"/>
              </a:rPr>
              <a:t>(1 500 000)</a:t>
            </a:r>
            <a:br>
              <a:rPr sz="3200"/>
            </a:br>
            <a:r>
              <a:rPr b="1" lang="ru-RU" sz="3200" spc="-1" strike="noStrike">
                <a:solidFill>
                  <a:srgbClr val="191919"/>
                </a:solidFill>
                <a:latin typeface="Verdana"/>
                <a:ea typeface="Times New Roman"/>
              </a:rPr>
              <a:t> (кейс-стади </a:t>
            </a:r>
            <a:r>
              <a:rPr b="1" lang="ru-RU" sz="2400" spc="-1" strike="noStrike">
                <a:solidFill>
                  <a:srgbClr val="ff8d3e"/>
                </a:solidFill>
                <a:latin typeface="Verdana"/>
              </a:rPr>
              <a:t>(1 570 000)</a:t>
            </a:r>
            <a:r>
              <a:rPr b="1" lang="ru-RU" sz="2400" spc="-1" strike="noStrike">
                <a:solidFill>
                  <a:srgbClr val="191919"/>
                </a:solidFill>
                <a:latin typeface="Verdana"/>
                <a:ea typeface="Times New Roman"/>
              </a:rPr>
              <a:t>, </a:t>
            </a:r>
            <a:br>
              <a:rPr sz="3200"/>
            </a:br>
            <a:r>
              <a:rPr b="1" lang="ru-RU" sz="3200" spc="-1" strike="noStrike">
                <a:solidFill>
                  <a:srgbClr val="191919"/>
                </a:solidFill>
                <a:latin typeface="Verdana"/>
                <a:ea typeface="Times New Roman"/>
              </a:rPr>
              <a:t>метод ситуаций </a:t>
            </a:r>
            <a:r>
              <a:rPr b="1" lang="ru-RU" sz="2400" spc="-1" strike="noStrike">
                <a:solidFill>
                  <a:srgbClr val="ff8d3e"/>
                </a:solidFill>
                <a:latin typeface="Verdana"/>
              </a:rPr>
              <a:t>(28 900 000)</a:t>
            </a:r>
            <a:r>
              <a:rPr b="1" lang="ru-RU" sz="2400" spc="-1" strike="noStrike">
                <a:solidFill>
                  <a:srgbClr val="191919"/>
                </a:solidFill>
                <a:latin typeface="Verdana"/>
                <a:ea typeface="Times New Roman"/>
              </a:rPr>
              <a:t>,</a:t>
            </a:r>
            <a:br>
              <a:rPr sz="3200"/>
            </a:br>
            <a:r>
              <a:rPr b="1" i="1" lang="ru-RU" sz="3200" spc="-1" strike="noStrike">
                <a:solidFill>
                  <a:srgbClr val="ff8d3e"/>
                </a:solidFill>
                <a:latin typeface="Verdan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метод инцидента и анализа конкретных ситуаций </a:t>
            </a:r>
            <a:r>
              <a:rPr b="1" lang="ru-RU" sz="2400" spc="-1" strike="noStrike">
                <a:solidFill>
                  <a:srgbClr val="ff8d3e"/>
                </a:solidFill>
                <a:latin typeface="Verdana"/>
              </a:rPr>
              <a:t>(603 000)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br>
              <a:rPr sz="3200"/>
            </a:br>
            <a:r>
              <a:rPr b="1" lang="ru-RU" sz="3200" spc="-1" strike="noStrike">
                <a:solidFill>
                  <a:srgbClr val="191919"/>
                </a:solidFill>
                <a:latin typeface="Verdana"/>
                <a:ea typeface="Times New Roman"/>
              </a:rPr>
              <a:t>ситуационный анализ/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«SWOT-</a:t>
            </a:r>
            <a:r>
              <a:rPr b="1" i="1" lang="ru-RU" sz="3200" spc="-1" strike="noStrike">
                <a:solidFill>
                  <a:srgbClr val="000000"/>
                </a:solidFill>
                <a:latin typeface="Verdana"/>
              </a:rPr>
              <a:t>анализ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»</a:t>
            </a:r>
            <a:r>
              <a:rPr b="1" lang="ru-RU" sz="2400" spc="-1" strike="noStrike">
                <a:solidFill>
                  <a:srgbClr val="ff8d3e"/>
                </a:solidFill>
                <a:latin typeface="Verdana"/>
              </a:rPr>
              <a:t>(532 000)</a:t>
            </a:r>
            <a:r>
              <a:rPr b="1" lang="ru-RU" sz="3200" spc="-1" strike="noStrike">
                <a:solidFill>
                  <a:srgbClr val="191919"/>
                </a:solidFill>
                <a:latin typeface="Verdana"/>
                <a:ea typeface="Times New Roman"/>
              </a:rPr>
              <a:t>,</a:t>
            </a:r>
            <a:r>
              <a:rPr b="1" lang="ru-RU" sz="2400" spc="-1" strike="noStrike">
                <a:solidFill>
                  <a:srgbClr val="191919"/>
                </a:solidFill>
                <a:latin typeface="Verdana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191919"/>
                </a:solidFill>
                <a:latin typeface="Verdana"/>
                <a:ea typeface="Times New Roman"/>
              </a:rPr>
              <a:t>ситуационные задачи </a:t>
            </a:r>
            <a:r>
              <a:rPr b="1" lang="ru-RU" sz="2400" spc="-1" strike="noStrike">
                <a:solidFill>
                  <a:srgbClr val="ff8d3e"/>
                </a:solidFill>
                <a:latin typeface="Verdana"/>
              </a:rPr>
              <a:t>(278 000)</a:t>
            </a:r>
            <a:r>
              <a:rPr b="1" lang="ru-RU" sz="2400" spc="-1" strike="noStrike">
                <a:solidFill>
                  <a:srgbClr val="191919"/>
                </a:solidFill>
                <a:latin typeface="Verdana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191919"/>
                </a:solidFill>
                <a:latin typeface="Verdana"/>
                <a:ea typeface="Times New Roman"/>
              </a:rPr>
              <a:t>-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ubTitle"/>
          </p:nvPr>
        </p:nvSpPr>
        <p:spPr>
          <a:xfrm>
            <a:off x="900000" y="4653000"/>
            <a:ext cx="7863120" cy="172872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технология обучения, использующая описание (не)реальных экономических и социальных ситуаций 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(от англ. case — «случай»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35344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91919"/>
                </a:solidFill>
                <a:latin typeface="Verdana"/>
                <a:ea typeface="Times New Roman"/>
              </a:rPr>
              <a:t>Метод разработан в 20-х гг. </a:t>
            </a:r>
            <a:br>
              <a:rPr sz="3600"/>
            </a:br>
            <a:r>
              <a:rPr b="1" lang="en-US" sz="3600" spc="-1" strike="noStrike">
                <a:solidFill>
                  <a:srgbClr val="191919"/>
                </a:solidFill>
                <a:latin typeface="Verdana"/>
              </a:rPr>
              <a:t>XX</a:t>
            </a:r>
            <a:r>
              <a:rPr b="1" lang="ru-RU" sz="3600" spc="-1" strike="noStrike">
                <a:solidFill>
                  <a:srgbClr val="191919"/>
                </a:solidFill>
                <a:latin typeface="Verdana"/>
              </a:rPr>
              <a:t> в. </a:t>
            </a:r>
            <a:r>
              <a:rPr b="1" lang="ru-RU" sz="3600" spc="-1" strike="noStrike">
                <a:solidFill>
                  <a:srgbClr val="191919"/>
                </a:solidFill>
                <a:latin typeface="Verdana"/>
                <a:ea typeface="Times New Roman"/>
              </a:rPr>
              <a:t>в Гарварде.</a:t>
            </a:r>
            <a:br>
              <a:rPr sz="3600"/>
            </a:br>
            <a:r>
              <a:rPr b="1" lang="ru-RU" sz="3600" spc="-1" strike="noStrike">
                <a:solidFill>
                  <a:srgbClr val="191919"/>
                </a:solidFill>
                <a:latin typeface="Verdana"/>
                <a:ea typeface="Times New Roman"/>
              </a:rPr>
              <a:t> </a:t>
            </a:r>
            <a:br>
              <a:rPr sz="3600"/>
            </a:br>
            <a:r>
              <a:rPr b="1" lang="ru-RU" sz="3600" spc="-1" strike="noStrike">
                <a:solidFill>
                  <a:srgbClr val="191919"/>
                </a:solidFill>
                <a:latin typeface="Verdana"/>
                <a:ea typeface="Times New Roman"/>
              </a:rPr>
              <a:t>Кейсы</a:t>
            </a:r>
            <a:r>
              <a:rPr b="1" lang="en-US" sz="3600" spc="-1" strike="noStrike">
                <a:solidFill>
                  <a:srgbClr val="191919"/>
                </a:solidFill>
                <a:latin typeface="Verdana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191919"/>
                </a:solidFill>
                <a:latin typeface="Verdana"/>
              </a:rPr>
              <a:t>бывают</a:t>
            </a:r>
            <a:r>
              <a:rPr b="1" lang="ru-RU" sz="3600" spc="-1" strike="noStrike">
                <a:solidFill>
                  <a:srgbClr val="191919"/>
                </a:solidFill>
                <a:latin typeface="Verdana"/>
                <a:ea typeface="Times New Roman"/>
              </a:rPr>
              <a:t> объем</a:t>
            </a:r>
            <a:r>
              <a:rPr b="1" lang="ru-RU" sz="3600" spc="-1" strike="noStrike">
                <a:solidFill>
                  <a:srgbClr val="191919"/>
                </a:solidFill>
                <a:latin typeface="Verdana"/>
              </a:rPr>
              <a:t>ом от 1 до</a:t>
            </a:r>
            <a:r>
              <a:rPr b="1" lang="ru-RU" sz="3600" spc="-1" strike="noStrike">
                <a:solidFill>
                  <a:srgbClr val="191919"/>
                </a:solidFill>
                <a:latin typeface="Verdana"/>
                <a:ea typeface="Times New Roman"/>
              </a:rPr>
              <a:t> 25 страниц.</a:t>
            </a: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191919"/>
                </a:solidFill>
                <a:latin typeface="Verdana"/>
                <a:ea typeface="Times New Roman"/>
              </a:rPr>
              <a:t>Все кейсы, как правило, не имеют единственно верного решения, многовариантны.</a:t>
            </a:r>
            <a:r>
              <a:rPr b="1" lang="ru-RU" sz="3600" spc="-1" strike="noStrike">
                <a:solidFill>
                  <a:srgbClr val="191919"/>
                </a:solidFill>
                <a:latin typeface="Verdana"/>
              </a:rPr>
              <a:t> 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857376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  <a:ea typeface="Times New Roman"/>
              </a:rPr>
              <a:t>Сюжетная структура кейса</a:t>
            </a: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09480" y="1989000"/>
            <a:ext cx="7772400" cy="38023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 fontScale="83000"/>
          </a:bodyPr>
          <a:p>
            <a:pPr marL="219600"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На 1-2 (10-15) листах бумаги должна разыграться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драма, способная приковать к себе внимание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19600"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19600"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Чем ярче будет представлена проблема, поставленная в кейсе, тем больший интерес она вызовет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19600"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19600"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Столкновение идей или людей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 - лучшая гарантия успеха кейса.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3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380880" y="929880"/>
            <a:ext cx="843912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О</a:t>
            </a:r>
            <a:r>
              <a:rPr b="1" lang="ru-RU" sz="3600" spc="-1" strike="noStrike">
                <a:solidFill>
                  <a:srgbClr val="000000"/>
                </a:solidFill>
                <a:latin typeface="Verdana"/>
                <a:ea typeface="Times New Roman"/>
              </a:rPr>
              <a:t>бучающихся просят </a:t>
            </a:r>
            <a:r>
              <a:rPr b="1" lang="ru-RU" sz="3600" spc="-1" strike="noStrike" u="sng">
                <a:solidFill>
                  <a:srgbClr val="000000"/>
                </a:solidFill>
                <a:uFillTx/>
                <a:latin typeface="Verdana"/>
                <a:ea typeface="Times New Roman"/>
              </a:rPr>
              <a:t>проанализировать </a:t>
            </a:r>
            <a:r>
              <a:rPr b="1" lang="ru-RU" sz="3600" spc="-1" strike="noStrike">
                <a:solidFill>
                  <a:srgbClr val="000000"/>
                </a:solidFill>
                <a:latin typeface="Verdana"/>
                <a:ea typeface="Times New Roman"/>
              </a:rPr>
              <a:t>ситуацию,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br>
              <a:rPr sz="3600"/>
            </a:br>
            <a:r>
              <a:rPr b="1" lang="ru-RU" sz="3600" spc="-1" strike="noStrike" u="sng">
                <a:solidFill>
                  <a:srgbClr val="000000"/>
                </a:solidFill>
                <a:uFillTx/>
                <a:latin typeface="Verdana"/>
                <a:ea typeface="Times New Roman"/>
              </a:rPr>
              <a:t>разобраться в сути</a:t>
            </a:r>
            <a:r>
              <a:rPr b="1" lang="ru-RU" sz="3600" spc="-1" strike="noStrike">
                <a:solidFill>
                  <a:srgbClr val="000000"/>
                </a:solidFill>
                <a:latin typeface="Verdana"/>
                <a:ea typeface="Times New Roman"/>
              </a:rPr>
              <a:t> проблем, </a:t>
            </a: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Verdana"/>
                <a:ea typeface="Times New Roman"/>
              </a:rPr>
              <a:t>предложить </a:t>
            </a:r>
            <a:r>
              <a:rPr b="1" lang="ru-RU" sz="3600" spc="-1" strike="noStrike" u="sng">
                <a:solidFill>
                  <a:srgbClr val="000000"/>
                </a:solidFill>
                <a:uFillTx/>
                <a:latin typeface="Verdana"/>
                <a:ea typeface="Times New Roman"/>
              </a:rPr>
              <a:t>возможные решения</a:t>
            </a:r>
            <a:r>
              <a:rPr b="1" lang="ru-RU" sz="36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Verdana"/>
                <a:ea typeface="Times New Roman"/>
              </a:rPr>
              <a:t>и </a:t>
            </a:r>
            <a:r>
              <a:rPr b="1" lang="ru-RU" sz="3600" spc="-1" strike="noStrike" u="sng">
                <a:solidFill>
                  <a:srgbClr val="000000"/>
                </a:solidFill>
                <a:uFillTx/>
                <a:latin typeface="Verdana"/>
                <a:ea typeface="Times New Roman"/>
              </a:rPr>
              <a:t>выбрать лучшее</a:t>
            </a:r>
            <a:r>
              <a:rPr b="1" lang="ru-RU" sz="3600" spc="-1" strike="noStrike">
                <a:solidFill>
                  <a:srgbClr val="000000"/>
                </a:solidFill>
                <a:latin typeface="Verdana"/>
                <a:ea typeface="Times New Roman"/>
              </a:rPr>
              <a:t> из них. 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245880" y="404640"/>
            <a:ext cx="864684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Схема работы над кейсом: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95280" y="980640"/>
            <a:ext cx="8353440" cy="52815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 fontScale="93000"/>
          </a:bodyPr>
          <a:p>
            <a:pPr marL="5666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I.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Ознакомление с текстом кейс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666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666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II.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 Работа с текстом кейса в классе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666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1. Постановка основных вопросов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666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2. Распределение по группам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666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3. Работа в группах (определение выступающих и др.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666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4. Организация презентаций от групп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666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5. Организация  общей дискуссии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666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6. Обобщение учителя, его анализ ситуации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666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7. Оценивание работы учащихся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666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3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3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3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3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3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3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3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/>
          </p:nvPr>
        </p:nvSpPr>
        <p:spPr>
          <a:xfrm>
            <a:off x="762120" y="476280"/>
            <a:ext cx="7772400" cy="47815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609480"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Составление схемы кейса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609480"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писание действия и действующих лиц,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писание ситуации (в форме диалога),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указание элементов среды (предприятие и окружающие факторы)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3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3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23640" y="914040"/>
            <a:ext cx="8515080" cy="5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Источники информации для кейса: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09480" y="2060640"/>
            <a:ext cx="7848720" cy="42019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материалы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 библиотек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статьи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 в периодической печати;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архивы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;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организации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;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Интернет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;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личные связи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3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600" y="1142640"/>
            <a:ext cx="777240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Tahoma"/>
              </a:rPr>
              <a:t>Формирование подгрупп</a:t>
            </a:r>
            <a:br>
              <a:rPr sz="3200"/>
            </a:b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Группа разбивается на отдельные подгруппы. Формирование подгрупп учащиеся осуществляют самостоятельно,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Verdana"/>
                <a:ea typeface="Times New Roman"/>
              </a:rPr>
              <a:t>на добровольной основе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В состав подгруппы должно входить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4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6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человек. Предпочтение отдается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Verdana"/>
                <a:ea typeface="Times New Roman"/>
              </a:rPr>
              <a:t>четному числу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 участников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52" dur="500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57" dur="500"/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246240" y="476280"/>
            <a:ext cx="88977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Verdana"/>
              </a:rPr>
              <a:t>Размещение подгрупп </a:t>
            </a:r>
            <a:endParaRPr b="1" lang="en-US" sz="4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09480" y="1412640"/>
            <a:ext cx="7772400" cy="4454280"/>
          </a:xfrm>
          <a:prstGeom prst="rect">
            <a:avLst/>
          </a:prstGeom>
          <a:noFill/>
          <a:ln w="9360">
            <a:solidFill>
              <a:srgbClr val="323232"/>
            </a:solidFill>
            <a:miter/>
          </a:ln>
        </p:spPr>
        <p:txBody>
          <a:bodyPr lIns="182880" tIns="91440" anchor="t">
            <a:normAutofit/>
          </a:bodyPr>
          <a:p>
            <a:pPr marL="264960"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Tahoma"/>
              </a:rPr>
              <a:t>азмещение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учащихся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Tahoma"/>
              </a:rPr>
              <a:t>в подгруппе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Tahoma"/>
              </a:rPr>
              <a:t> должно быть таким,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Verdana"/>
                <a:ea typeface="Tahoma"/>
              </a:rPr>
              <a:t>чтобы у каждого обучающегося был потенциальный собеседник.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Tahoma"/>
              </a:rPr>
              <a:t> Поэтому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учащихся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Tahoma"/>
              </a:rPr>
              <a:t>лучше всего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Verdana"/>
                <a:ea typeface="Tahoma"/>
              </a:rPr>
              <a:t>усаживать попарно друг против друга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Tahoma"/>
              </a:rPr>
              <a:t>(в идеале – за круглым столом). Подгруппы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Verdana"/>
                <a:ea typeface="Tahoma"/>
              </a:rPr>
              <a:t>не должны мешать друг другу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Tahoma"/>
              </a:rPr>
              <a:t>, поэтому должны располагаться по возможности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Verdana"/>
                <a:ea typeface="Tahoma"/>
              </a:rPr>
              <a:t>на каком-то расстоянии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/>
          </p:nvPr>
        </p:nvSpPr>
        <p:spPr>
          <a:xfrm>
            <a:off x="685800" y="259920"/>
            <a:ext cx="7772400" cy="60022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Основная ценность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кейс-метод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  <a:ea typeface="Times New Roman"/>
              </a:rPr>
              <a:t>При решении кейса учащийся </a:t>
            </a:r>
            <a:r>
              <a:rPr b="1" lang="ru-RU" sz="2600" spc="-1" strike="noStrike">
                <a:solidFill>
                  <a:srgbClr val="000000"/>
                </a:solidFill>
                <a:latin typeface="Verdana"/>
                <a:ea typeface="Times New Roman"/>
              </a:rPr>
              <a:t>не только использует полученные знания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  <a:ea typeface="Times New Roman"/>
              </a:rPr>
              <a:t>, но и </a:t>
            </a:r>
            <a:r>
              <a:rPr b="1" lang="ru-RU" sz="2600" spc="-1" strike="noStrike">
                <a:solidFill>
                  <a:srgbClr val="000000"/>
                </a:solidFill>
                <a:latin typeface="Verdana"/>
                <a:ea typeface="Times New Roman"/>
              </a:rPr>
              <a:t>проявляет свои личностные качества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  <a:ea typeface="Times New Roman"/>
              </a:rPr>
              <a:t>, в частности, умение работать в группе, а также </a:t>
            </a:r>
            <a:r>
              <a:rPr b="1" lang="ru-RU" sz="2600" spc="-1" strike="noStrike">
                <a:solidFill>
                  <a:srgbClr val="000000"/>
                </a:solidFill>
                <a:latin typeface="Verdana"/>
                <a:ea typeface="Times New Roman"/>
              </a:rPr>
              <a:t>демонстрирует уровень понимания ситуации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  <a:ea typeface="Times New Roman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  <a:ea typeface="Times New Roman"/>
              </a:rPr>
              <a:t>Нередко, ситуация, изложенная в кейсе, весьма отличается от теоретического курса. Кейс-метод помогает </a:t>
            </a:r>
            <a:r>
              <a:rPr b="1" lang="ru-RU" sz="2600" spc="-1" strike="noStrike">
                <a:solidFill>
                  <a:srgbClr val="000000"/>
                </a:solidFill>
                <a:latin typeface="Verdana"/>
                <a:ea typeface="Times New Roman"/>
              </a:rPr>
              <a:t>приобрести опыт решения практических ситуаций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  <a:ea typeface="Times New Roman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2120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2" name="AutoShape 9"/>
          <p:cNvSpPr/>
          <p:nvPr/>
        </p:nvSpPr>
        <p:spPr>
          <a:xfrm>
            <a:off x="2057400" y="2565360"/>
            <a:ext cx="5181480" cy="863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415f"/>
              </a:gs>
              <a:gs pos="50000">
                <a:srgbClr val="948cce"/>
              </a:gs>
              <a:gs pos="100000">
                <a:srgbClr val="44415f"/>
              </a:gs>
            </a:gsLst>
            <a:lin ang="5400000"/>
          </a:gradFill>
          <a:ln w="255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едагогика сотрудничеств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AutoShape 10"/>
          <p:cNvSpPr/>
          <p:nvPr/>
        </p:nvSpPr>
        <p:spPr>
          <a:xfrm>
            <a:off x="755640" y="3933720"/>
            <a:ext cx="7561440" cy="935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184776"/>
              </a:gs>
              <a:gs pos="50000">
                <a:srgbClr val="3399ff"/>
              </a:gs>
              <a:gs pos="100000">
                <a:srgbClr val="184776"/>
              </a:gs>
            </a:gsLst>
            <a:lin ang="5400000"/>
          </a:gradFill>
          <a:ln w="255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Гуманно-личностная технология Ш.А. Амонашвил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AutoShape 11"/>
          <p:cNvSpPr/>
          <p:nvPr/>
        </p:nvSpPr>
        <p:spPr>
          <a:xfrm>
            <a:off x="755640" y="5300640"/>
            <a:ext cx="7561440" cy="1152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13068"/>
              </a:gs>
              <a:gs pos="50000">
                <a:srgbClr val="8d67e1"/>
              </a:gs>
              <a:gs pos="100000">
                <a:srgbClr val="413068"/>
              </a:gs>
            </a:gsLst>
            <a:lin ang="5400000"/>
          </a:gradFill>
          <a:ln w="255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истема Е.Н. Ильина: преподавание литературы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ак предмета, формирующего челове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AutoShape 9"/>
          <p:cNvSpPr/>
          <p:nvPr/>
        </p:nvSpPr>
        <p:spPr>
          <a:xfrm>
            <a:off x="395280" y="333360"/>
            <a:ext cx="8497800" cy="1366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415f"/>
              </a:gs>
              <a:gs pos="50000">
                <a:srgbClr val="948cce"/>
              </a:gs>
              <a:gs pos="100000">
                <a:srgbClr val="44415f"/>
              </a:gs>
            </a:gsLst>
            <a:lin ang="5400000"/>
          </a:gradFill>
          <a:ln w="255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омплексные педагогические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ехнологии (методы, системы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45880" y="333000"/>
            <a:ext cx="864684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Роль преподавателя: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0" algn="just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Verdana"/>
                <a:ea typeface="Tahoma"/>
              </a:rPr>
              <a:t>Руководящая роль преподавателя сводится к минимуму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Tahoma"/>
              </a:rPr>
              <a:t>. Преподаватель должен удерживаться от соблазна предлагать свои варианты решения и оценивать правильность действий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учащихся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Tahoma"/>
              </a:rPr>
              <a:t>в ходе работы над кейсом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just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Tahoma"/>
              </a:rPr>
              <a:t>Вмешательство преподавателя в работу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учащихся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Tahoma"/>
              </a:rPr>
              <a:t>должно быть резко ограничено, оно сводится лишь к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Verdana"/>
                <a:ea typeface="Tahoma"/>
              </a:rPr>
              <a:t>регулирующей функции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2" dur="500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7" dur="500"/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246240" y="188640"/>
            <a:ext cx="871848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Кейс для учащихся 11 класса (физика)</a:t>
            </a:r>
            <a:br>
              <a:rPr sz="4000"/>
            </a:br>
            <a:endParaRPr b="1" lang="en-US" sz="28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196640"/>
            <a:ext cx="7772400" cy="50655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 fontScale="99000"/>
          </a:bodyPr>
          <a:p>
            <a:pPr marL="26208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Добрый демон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208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2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Verdana"/>
              </a:rPr>
              <a:t>Использования атомной энергетики очень выгодно, т.к. при сгорании одного грамма урана выделяется столько энергии, сколько при сгорании 3-4 тонн каменного угля. Кроме того, атомные реакторы считаются самыми экологически безопасными (видеозапись).</a:t>
            </a:r>
            <a:r>
              <a:rPr b="0" lang="ru-RU" sz="23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262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Verdana"/>
              </a:rPr>
              <a:t>Ночью 26 апреля 1986 года все было как обычно. Люди спокойно спали. Пели ночные птицы, тихо текли воды Припяти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262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Verdana"/>
              </a:rPr>
              <a:t>Никто не предполагал, что наступившее утро несет в себе угрозу. Зарево пожара известило о том, что взорвался 4-й энергоблок Чернобыльской АЭС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262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Verdana"/>
              </a:rPr>
              <a:t>Прошло много лет, но до сих пор мы ощущаем последствия той аварии… 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50920" y="333360"/>
            <a:ext cx="864216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Вопросы:</a:t>
            </a:r>
            <a:endParaRPr b="1" lang="en-US" sz="28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395280" y="981000"/>
            <a:ext cx="8353440" cy="56167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609480" indent="-60948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Почему до сих пор умирают люди и животные в Чернобыльской зоне? Почему рождаются больные дети?  Почему не уменьшается число онкологических заболеваний у людей? Почему наблюдается мутация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Есть ли какие-то сроки, когда закончится влияние этой катастрофы, и  как ликвидировать ее влияние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4 группы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                 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-  энергетики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-  медики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                 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-  экологи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-  физики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60948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___________________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60948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Verdana"/>
              </a:rPr>
              <a:t>Этот  кейс был подготовлен под руководством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60948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Verdana"/>
              </a:rPr>
              <a:t>Виктора Ингилевича для преподавателей физики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60948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Verdana"/>
              </a:rPr>
              <a:t>©Татьяна Логинова, Маргарита Смелова, Светлана Чашина,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60948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Verdana"/>
              </a:rPr>
              <a:t>Татьяна Крупнова, Людмила Уланова,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60948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Verdana"/>
              </a:rPr>
              <a:t>куратор – Елена Пуденкова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60948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60948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Verdana"/>
              </a:rPr>
              <a:t>Псков 2007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246240" y="0"/>
            <a:ext cx="8573760" cy="18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Что же могут изменить ситуационные задачи (кейсы) в образовательном процессе?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685800" y="1628640"/>
            <a:ext cx="7772400" cy="46339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 fontScale="97000"/>
          </a:bodyPr>
          <a:p>
            <a:pPr marL="256680" indent="-256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56680" indent="-256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Возможные области изменений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56680" indent="-256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•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Мотивация учебной деятельности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56680" indent="-256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•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Актуализация предметных знаний и умений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56680" indent="-256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•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Интеграция знаний по различным предметам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56680" indent="-256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•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Интеграция «школьных» и «внешкольных» знаний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56680" indent="-256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•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Включение родителей учащихся в образовательный процесс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56680" indent="-256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•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Достижение метапредметных результатов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56680" indent="-256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•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Развитие партнёрских отношений между участниками образовательного процесса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56680" indent="-256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•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«Проблемное» планирование образовательного процесса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56680" indent="-256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46240" y="333000"/>
            <a:ext cx="857376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Недостатки кейс-метода</a:t>
            </a:r>
            <a:br>
              <a:rPr sz="3200"/>
            </a:b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85800" y="1196640"/>
            <a:ext cx="7772400" cy="50403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457200" indent="-45720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1. Дороговизна метода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2. Сложность подготовки кейсов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3. Отсутствие инструментальных методик и алгоритмов постановки и решения задач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4. «Учебность» ситуации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249"/>
              </a:spcBef>
              <a:buClr>
                <a:srgbClr val="f07f0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другой контекст,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249"/>
              </a:spcBef>
              <a:buClr>
                <a:srgbClr val="f07f0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другие временные рамки,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249"/>
              </a:spcBef>
              <a:buClr>
                <a:srgbClr val="f07f0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другие ресурсные ограничения и  другая мере ответственности за предлагаемые решения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503280" y="188640"/>
            <a:ext cx="818352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Перспективы кейс-метода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503280" y="1557360"/>
            <a:ext cx="8183520" cy="49672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Verdana"/>
              </a:rPr>
              <a:t>Разработка «изобретательских кейсов» (case-guidе</a:t>
            </a: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0" lang="ru-RU" sz="2700" spc="-1" strike="noStrike">
                <a:solidFill>
                  <a:srgbClr val="000000"/>
                </a:solidFill>
                <a:latin typeface="Verdana"/>
              </a:rPr>
              <a:t>), в которых совмещен процесс решения и методический процесс. 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Verdana"/>
              </a:rPr>
              <a:t>Создание кейсов на основе реальных изобретательских задач по технологии ТРИЗ (Теории Решения Изобретательских Задач) .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5937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СПАСИБО  ЗА  ВНИМАНИЕ 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И  УСПЕХОВ 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В  ИСПОЛЬЗОВАНИИ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 НОВЫХ ОБРАЗОВАТЕЛЬНЫХ ТЕХНОЛОГИЙ 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ПРИ ФОРМИРОВАНИИ МЕТАПРЕДМЕТНЫХ КОМПЕТЕНЦИЙ В СРЕДНЕЙ ШКОЛЕ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AutoShape 8"/>
          <p:cNvSpPr/>
          <p:nvPr/>
        </p:nvSpPr>
        <p:spPr>
          <a:xfrm>
            <a:off x="250920" y="189000"/>
            <a:ext cx="8642160" cy="8636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едагогические технологии на основе активизации 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нтенсификации деятельности учащихс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AutoShape 9"/>
          <p:cNvSpPr/>
          <p:nvPr/>
        </p:nvSpPr>
        <p:spPr>
          <a:xfrm>
            <a:off x="250920" y="1341360"/>
            <a:ext cx="8642160" cy="511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415f"/>
              </a:gs>
              <a:gs pos="50000">
                <a:srgbClr val="948cce"/>
              </a:gs>
              <a:gs pos="100000">
                <a:srgbClr val="44415f"/>
              </a:gs>
            </a:gsLst>
            <a:lin ang="5400000"/>
          </a:gradFill>
          <a:ln w="255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гровые технологи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облемное обучени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ехнология коммуникативного обучени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ноязычной культуре (Е.И. Пассов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ехнология интенсификации обучения на основ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хемных и знаковых моделей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чебного материала (В.Ф. Шаталов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ехнология С.Н. Лысенковой: перспективно-опережающе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бучение с использованием опорных схем пр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омментируемом управлени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ехнология программированного обучени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оллективный способ обучения (А.Г. Ривин, В.К. Дьяченко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овые информационные технологии обуч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AutoShape 8"/>
          <p:cNvSpPr/>
          <p:nvPr/>
        </p:nvSpPr>
        <p:spPr>
          <a:xfrm>
            <a:off x="250920" y="260280"/>
            <a:ext cx="8642160" cy="10080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едагогические технологии на основе дидактического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усовершенствования и реконструирования материал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AutoShape 9"/>
          <p:cNvSpPr/>
          <p:nvPr/>
        </p:nvSpPr>
        <p:spPr>
          <a:xfrm>
            <a:off x="1692360" y="1700280"/>
            <a:ext cx="5904000" cy="72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415f"/>
              </a:gs>
              <a:gs pos="50000">
                <a:srgbClr val="948cce"/>
              </a:gs>
              <a:gs pos="100000">
                <a:srgbClr val="44415f"/>
              </a:gs>
            </a:gsLst>
            <a:lin ang="5400000"/>
          </a:gradFill>
          <a:ln w="255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«Экология и диалектика» (Л.В. Тарасов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AutoShape 10"/>
          <p:cNvSpPr/>
          <p:nvPr/>
        </p:nvSpPr>
        <p:spPr>
          <a:xfrm>
            <a:off x="755640" y="2708280"/>
            <a:ext cx="7561440" cy="865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184776"/>
              </a:gs>
              <a:gs pos="50000">
                <a:srgbClr val="3399ff"/>
              </a:gs>
              <a:gs pos="100000">
                <a:srgbClr val="184776"/>
              </a:gs>
            </a:gsLst>
            <a:lin ang="5400000"/>
          </a:gradFill>
          <a:ln w="255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«Диалог культур» (В.С. Библер, С.Ю. Курганов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AutoShape 11"/>
          <p:cNvSpPr/>
          <p:nvPr/>
        </p:nvSpPr>
        <p:spPr>
          <a:xfrm>
            <a:off x="324000" y="3933720"/>
            <a:ext cx="8496000" cy="863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13068"/>
              </a:gs>
              <a:gs pos="50000">
                <a:srgbClr val="8d67e1"/>
              </a:gs>
              <a:gs pos="100000">
                <a:srgbClr val="413068"/>
              </a:gs>
            </a:gsLst>
            <a:lin ang="5400000"/>
          </a:gradFill>
          <a:ln w="255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крупнение дидактических единиц (П.М. Эрдниев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AutoShape 11"/>
          <p:cNvSpPr/>
          <p:nvPr/>
        </p:nvSpPr>
        <p:spPr>
          <a:xfrm>
            <a:off x="395280" y="5157720"/>
            <a:ext cx="8497800" cy="1079640"/>
          </a:xfrm>
          <a:prstGeom prst="roundRect">
            <a:avLst>
              <a:gd name="adj" fmla="val 16667"/>
            </a:avLst>
          </a:prstGeom>
          <a:solidFill>
            <a:srgbClr val="cc3399"/>
          </a:solidFill>
          <a:ln w="255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еализация теории поэтапного формировани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мственных действий (М.Б. Волович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AutoShape 8"/>
          <p:cNvSpPr/>
          <p:nvPr/>
        </p:nvSpPr>
        <p:spPr>
          <a:xfrm>
            <a:off x="250920" y="260280"/>
            <a:ext cx="8642160" cy="10080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Частнопредметные педагогические технолог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AutoShape 9"/>
          <p:cNvSpPr/>
          <p:nvPr/>
        </p:nvSpPr>
        <p:spPr>
          <a:xfrm>
            <a:off x="1692360" y="1700280"/>
            <a:ext cx="5904000" cy="72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415f"/>
              </a:gs>
              <a:gs pos="50000">
                <a:srgbClr val="948cce"/>
              </a:gs>
              <a:gs pos="100000">
                <a:srgbClr val="44415f"/>
              </a:gs>
            </a:gsLst>
            <a:lin ang="5400000"/>
          </a:gradFill>
          <a:ln w="255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ехнология раннего и интенсивного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бучения грамоте (Н.А. Зайцев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AutoShape 10"/>
          <p:cNvSpPr/>
          <p:nvPr/>
        </p:nvSpPr>
        <p:spPr>
          <a:xfrm>
            <a:off x="755640" y="2708280"/>
            <a:ext cx="7561440" cy="865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184776"/>
              </a:gs>
              <a:gs pos="50000">
                <a:srgbClr val="3399ff"/>
              </a:gs>
              <a:gs pos="100000">
                <a:srgbClr val="184776"/>
              </a:gs>
            </a:gsLst>
            <a:lin ang="5400000"/>
          </a:gradFill>
          <a:ln w="255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ехнология обучения математик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 основе решения задач (Р.Г. Хазанкин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AutoShape 11"/>
          <p:cNvSpPr/>
          <p:nvPr/>
        </p:nvSpPr>
        <p:spPr>
          <a:xfrm>
            <a:off x="324000" y="3933720"/>
            <a:ext cx="8496000" cy="863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13068"/>
              </a:gs>
              <a:gs pos="50000">
                <a:srgbClr val="8d67e1"/>
              </a:gs>
              <a:gs pos="100000">
                <a:srgbClr val="413068"/>
              </a:gs>
            </a:gsLst>
            <a:lin ang="5400000"/>
          </a:gradFill>
          <a:ln w="255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едагогическая технология на основе системы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эффективных уроков (А.А. Окунев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7" name="AutoShape 11"/>
          <p:cNvGrpSpPr/>
          <p:nvPr/>
        </p:nvGrpSpPr>
        <p:grpSpPr>
          <a:xfrm>
            <a:off x="365040" y="5126040"/>
            <a:ext cx="8632800" cy="1214280"/>
            <a:chOff x="365040" y="5126040"/>
            <a:chExt cx="8632800" cy="1214280"/>
          </a:xfrm>
        </p:grpSpPr>
        <p:pic>
          <p:nvPicPr>
            <p:cNvPr id="288" name="AutoShape 11" descr=""/>
            <p:cNvPicPr/>
            <p:nvPr/>
          </p:nvPicPr>
          <p:blipFill>
            <a:blip r:embed="rId1"/>
            <a:stretch/>
          </p:blipFill>
          <p:spPr>
            <a:xfrm>
              <a:off x="365040" y="5126040"/>
              <a:ext cx="8632800" cy="121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9" name=""/>
            <p:cNvSpPr/>
            <p:nvPr/>
          </p:nvSpPr>
          <p:spPr>
            <a:xfrm>
              <a:off x="447840" y="5210280"/>
              <a:ext cx="8391240" cy="9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Arial"/>
                </a:rPr>
                <a:t>Система поэтапного обучения физике (Н.Н. Палтышев)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AutoShape 8"/>
          <p:cNvSpPr/>
          <p:nvPr/>
        </p:nvSpPr>
        <p:spPr>
          <a:xfrm>
            <a:off x="250920" y="260280"/>
            <a:ext cx="8642160" cy="10080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Альтернативные технолог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AutoShape 9"/>
          <p:cNvSpPr/>
          <p:nvPr/>
        </p:nvSpPr>
        <p:spPr>
          <a:xfrm>
            <a:off x="1692360" y="1700280"/>
            <a:ext cx="5904000" cy="72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415f"/>
              </a:gs>
              <a:gs pos="50000">
                <a:srgbClr val="948cce"/>
              </a:gs>
              <a:gs pos="100000">
                <a:srgbClr val="44415f"/>
              </a:gs>
            </a:gsLst>
            <a:lin ang="5400000"/>
          </a:gradFill>
          <a:ln w="255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альдорфская педагогика (Р. Штейнер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AutoShape 10"/>
          <p:cNvSpPr/>
          <p:nvPr/>
        </p:nvSpPr>
        <p:spPr>
          <a:xfrm>
            <a:off x="755640" y="2708280"/>
            <a:ext cx="7561440" cy="865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184776"/>
              </a:gs>
              <a:gs pos="50000">
                <a:srgbClr val="3399ff"/>
              </a:gs>
              <a:gs pos="100000">
                <a:srgbClr val="184776"/>
              </a:gs>
            </a:gsLst>
            <a:lin ang="5400000"/>
          </a:gradFill>
          <a:ln w="255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ехнология свободного труда (С. Френе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AutoShape 11"/>
          <p:cNvSpPr/>
          <p:nvPr/>
        </p:nvSpPr>
        <p:spPr>
          <a:xfrm>
            <a:off x="324000" y="3933720"/>
            <a:ext cx="8496000" cy="863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13068"/>
              </a:gs>
              <a:gs pos="50000">
                <a:srgbClr val="8d67e1"/>
              </a:gs>
              <a:gs pos="100000">
                <a:srgbClr val="413068"/>
              </a:gs>
            </a:gsLst>
            <a:lin ang="5400000"/>
          </a:gradFill>
          <a:ln w="255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ехнология вероятностного образования (А.М. Лобок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4" name="AutoShape 11"/>
          <p:cNvGrpSpPr/>
          <p:nvPr/>
        </p:nvGrpSpPr>
        <p:grpSpPr>
          <a:xfrm>
            <a:off x="938160" y="5126040"/>
            <a:ext cx="7407360" cy="1000080"/>
            <a:chOff x="938160" y="5126040"/>
            <a:chExt cx="7407360" cy="1000080"/>
          </a:xfrm>
        </p:grpSpPr>
        <p:pic>
          <p:nvPicPr>
            <p:cNvPr id="295" name="AutoShape 11" descr=""/>
            <p:cNvPicPr/>
            <p:nvPr/>
          </p:nvPicPr>
          <p:blipFill>
            <a:blip r:embed="rId1"/>
            <a:stretch/>
          </p:blipFill>
          <p:spPr>
            <a:xfrm>
              <a:off x="938160" y="5126040"/>
              <a:ext cx="740736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6" name=""/>
            <p:cNvSpPr/>
            <p:nvPr/>
          </p:nvSpPr>
          <p:spPr>
            <a:xfrm>
              <a:off x="1014480" y="5199120"/>
              <a:ext cx="718812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Arial"/>
                </a:rPr>
                <a:t>Технология саморазвития (М. Монтессори)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AutoShape 8"/>
          <p:cNvSpPr/>
          <p:nvPr/>
        </p:nvSpPr>
        <p:spPr>
          <a:xfrm>
            <a:off x="250920" y="260280"/>
            <a:ext cx="8642160" cy="6476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ехнологии развивающего обуч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AutoShape 9"/>
          <p:cNvSpPr/>
          <p:nvPr/>
        </p:nvSpPr>
        <p:spPr>
          <a:xfrm>
            <a:off x="826920" y="1125360"/>
            <a:ext cx="7561440" cy="574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415f"/>
              </a:gs>
              <a:gs pos="50000">
                <a:srgbClr val="948cce"/>
              </a:gs>
              <a:gs pos="100000">
                <a:srgbClr val="44415f"/>
              </a:gs>
            </a:gsLst>
            <a:lin ang="5400000"/>
          </a:gradFill>
          <a:ln w="255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истема развивающего обучения Л.В. Занков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AutoShape 10"/>
          <p:cNvSpPr/>
          <p:nvPr/>
        </p:nvSpPr>
        <p:spPr>
          <a:xfrm>
            <a:off x="1476360" y="1989000"/>
            <a:ext cx="6191280" cy="935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184776"/>
              </a:gs>
              <a:gs pos="50000">
                <a:srgbClr val="3399ff"/>
              </a:gs>
              <a:gs pos="100000">
                <a:srgbClr val="184776"/>
              </a:gs>
            </a:gsLst>
            <a:lin ang="5400000"/>
          </a:gradFill>
          <a:ln w="255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ехнология развивающего обучени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.Б. Эльконина - В.В. Давыдов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AutoShape 11"/>
          <p:cNvSpPr/>
          <p:nvPr/>
        </p:nvSpPr>
        <p:spPr>
          <a:xfrm>
            <a:off x="324000" y="3141720"/>
            <a:ext cx="8496000" cy="1295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13068"/>
              </a:gs>
              <a:gs pos="50000">
                <a:srgbClr val="8d67e1"/>
              </a:gs>
              <a:gs pos="100000">
                <a:srgbClr val="413068"/>
              </a:gs>
            </a:gsLst>
            <a:lin ang="5400000"/>
          </a:gradFill>
          <a:ln w="255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истемы развивающего обучения с направленностью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 развитие творческих качеств личност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И.П. Волков, Г.С. Альтшуллер, И.П. Иванов)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1" name="AutoShape 11"/>
          <p:cNvGrpSpPr/>
          <p:nvPr/>
        </p:nvGrpSpPr>
        <p:grpSpPr>
          <a:xfrm>
            <a:off x="579600" y="4694400"/>
            <a:ext cx="8046720" cy="1000080"/>
            <a:chOff x="579600" y="4694400"/>
            <a:chExt cx="8046720" cy="1000080"/>
          </a:xfrm>
        </p:grpSpPr>
        <p:pic>
          <p:nvPicPr>
            <p:cNvPr id="302" name="AutoShape 11" descr=""/>
            <p:cNvPicPr/>
            <p:nvPr/>
          </p:nvPicPr>
          <p:blipFill>
            <a:blip r:embed="rId1"/>
            <a:stretch/>
          </p:blipFill>
          <p:spPr>
            <a:xfrm>
              <a:off x="579600" y="4694400"/>
              <a:ext cx="804672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3" name=""/>
            <p:cNvSpPr/>
            <p:nvPr/>
          </p:nvSpPr>
          <p:spPr>
            <a:xfrm>
              <a:off x="654120" y="4767120"/>
              <a:ext cx="776448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Arial"/>
                </a:rPr>
                <a:t>Личностно-ориентированное развивающее обучение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Arial"/>
                </a:rPr>
                <a:t>(И.С. Якиманская).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04" name="AutoShape 11"/>
          <p:cNvGrpSpPr/>
          <p:nvPr/>
        </p:nvGrpSpPr>
        <p:grpSpPr>
          <a:xfrm>
            <a:off x="219240" y="5846760"/>
            <a:ext cx="8705520" cy="852480"/>
            <a:chOff x="219240" y="5846760"/>
            <a:chExt cx="8705520" cy="852480"/>
          </a:xfrm>
        </p:grpSpPr>
        <p:pic>
          <p:nvPicPr>
            <p:cNvPr id="305" name="AutoShape 11" descr=""/>
            <p:cNvPicPr/>
            <p:nvPr/>
          </p:nvPicPr>
          <p:blipFill>
            <a:blip r:embed="rId2"/>
            <a:stretch/>
          </p:blipFill>
          <p:spPr>
            <a:xfrm>
              <a:off x="219240" y="5846760"/>
              <a:ext cx="8705520" cy="8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6" name=""/>
            <p:cNvSpPr/>
            <p:nvPr/>
          </p:nvSpPr>
          <p:spPr>
            <a:xfrm>
              <a:off x="287280" y="5911920"/>
              <a:ext cx="8497800" cy="65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Arial"/>
                </a:rPr>
                <a:t>Технология саморазвивающего обучения (Г.К. Селевко)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AutoShape 8"/>
          <p:cNvSpPr/>
          <p:nvPr/>
        </p:nvSpPr>
        <p:spPr>
          <a:xfrm>
            <a:off x="250920" y="260280"/>
            <a:ext cx="8642160" cy="6476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едагогические технологии авторских шко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AutoShape 9"/>
          <p:cNvSpPr/>
          <p:nvPr/>
        </p:nvSpPr>
        <p:spPr>
          <a:xfrm>
            <a:off x="826920" y="1268280"/>
            <a:ext cx="756144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415f"/>
              </a:gs>
              <a:gs pos="50000">
                <a:srgbClr val="948cce"/>
              </a:gs>
              <a:gs pos="100000">
                <a:srgbClr val="44415f"/>
              </a:gs>
            </a:gsLst>
            <a:lin ang="5400000"/>
          </a:gradFill>
          <a:ln w="255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Школа адаптирующей педагогик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Е.А. Ямбург, Б.А. Бройде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AutoShape 10"/>
          <p:cNvSpPr/>
          <p:nvPr/>
        </p:nvSpPr>
        <p:spPr>
          <a:xfrm>
            <a:off x="900000" y="2492280"/>
            <a:ext cx="7488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184776"/>
              </a:gs>
              <a:gs pos="50000">
                <a:srgbClr val="3399ff"/>
              </a:gs>
              <a:gs pos="100000">
                <a:srgbClr val="184776"/>
              </a:gs>
            </a:gsLst>
            <a:lin ang="5400000"/>
          </a:gradFill>
          <a:ln w="255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ехнология авторской Школы самоопределени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А.Н. Тубельский)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AutoShape 11"/>
          <p:cNvSpPr/>
          <p:nvPr/>
        </p:nvSpPr>
        <p:spPr>
          <a:xfrm>
            <a:off x="1476360" y="3716280"/>
            <a:ext cx="6335640" cy="72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13068"/>
              </a:gs>
              <a:gs pos="50000">
                <a:srgbClr val="8d67e1"/>
              </a:gs>
              <a:gs pos="100000">
                <a:srgbClr val="413068"/>
              </a:gs>
            </a:gsLst>
            <a:lin ang="5400000"/>
          </a:gradFill>
          <a:ln w="255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Школа-парк (М.А. Балабан)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1" name="AutoShape 11"/>
          <p:cNvGrpSpPr/>
          <p:nvPr/>
        </p:nvGrpSpPr>
        <p:grpSpPr>
          <a:xfrm>
            <a:off x="1444680" y="4694400"/>
            <a:ext cx="6473880" cy="779400"/>
            <a:chOff x="1444680" y="4694400"/>
            <a:chExt cx="6473880" cy="779400"/>
          </a:xfrm>
        </p:grpSpPr>
        <p:pic>
          <p:nvPicPr>
            <p:cNvPr id="312" name="AutoShape 11" descr=""/>
            <p:cNvPicPr/>
            <p:nvPr/>
          </p:nvPicPr>
          <p:blipFill>
            <a:blip r:embed="rId1"/>
            <a:stretch/>
          </p:blipFill>
          <p:spPr>
            <a:xfrm>
              <a:off x="1444680" y="4694400"/>
              <a:ext cx="6473880" cy="77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3" name=""/>
            <p:cNvSpPr/>
            <p:nvPr/>
          </p:nvSpPr>
          <p:spPr>
            <a:xfrm>
              <a:off x="1506600" y="4756320"/>
              <a:ext cx="6273720" cy="5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Arial"/>
                </a:rPr>
                <a:t>Агрошкола А.А. Католикова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4" name="AutoShape 11"/>
          <p:cNvGrpSpPr/>
          <p:nvPr/>
        </p:nvGrpSpPr>
        <p:grpSpPr>
          <a:xfrm>
            <a:off x="1444680" y="5699160"/>
            <a:ext cx="6473880" cy="860400"/>
            <a:chOff x="1444680" y="5699160"/>
            <a:chExt cx="6473880" cy="860400"/>
          </a:xfrm>
        </p:grpSpPr>
        <p:pic>
          <p:nvPicPr>
            <p:cNvPr id="315" name="AutoShape 11" descr=""/>
            <p:cNvPicPr/>
            <p:nvPr/>
          </p:nvPicPr>
          <p:blipFill>
            <a:blip r:embed="rId2"/>
            <a:stretch/>
          </p:blipFill>
          <p:spPr>
            <a:xfrm>
              <a:off x="1444680" y="5699160"/>
              <a:ext cx="6473880" cy="86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6" name=""/>
            <p:cNvSpPr/>
            <p:nvPr/>
          </p:nvSpPr>
          <p:spPr>
            <a:xfrm>
              <a:off x="1511280" y="5769000"/>
              <a:ext cx="6265800" cy="64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Arial"/>
                </a:rPr>
                <a:t>Школа Завтрашнего Дня (Д. Ховард)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5T22:07:44Z</dcterms:created>
  <dc:creator>user</dc:creator>
  <dc:description/>
  <dc:language>en-US</dc:language>
  <cp:lastModifiedBy>user</cp:lastModifiedBy>
  <dcterms:modified xsi:type="dcterms:W3CDTF">2011-10-18T09:25:43Z</dcterms:modified>
  <cp:revision>65</cp:revision>
  <dc:subject/>
  <dc:title>СОВРЕМЕННЫЕ ОБРАЗОВАТЕЛЬНЫЕ ТЕХНОЛОГИИ</dc:title>
</cp:coreProperties>
</file>