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88E-4AA7-423C-86C9-4116ED7B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FD2-4C12-420E-95AD-5C4336FE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CD6-BF81-46E3-A61E-BF5FC192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DC0-8FA8-400F-97F0-4EF3AD27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CED-D95A-42FD-96DC-FEEB2F6A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D25-9C50-420A-8033-78E1303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1123-BE2D-4321-80DE-73E9F86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78B0-5C6A-4CED-8DC1-BEAFDC2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B31-EF39-4186-BDA9-5D5D022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065-31F2-4E25-AE34-013F8C3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AC6D-5894-40DA-A37B-63963AB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CDB-9DE5-4E09-B8E0-9CBFC90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42D0-AA8E-4C27-8167-DFE4299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0F02-1297-4773-9B3A-A6F8FBB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8A96-ACB1-4779-9F7B-23632D7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932-49A8-45E2-BBE1-E9EBB09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EDE3-D1AB-4174-8AF7-71060122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723-3154-4549-90F1-B86841BB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582-CA67-4D1D-957A-D96B1F82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B69-AD74-469D-8E81-C64C408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65E-94C1-4AF9-8042-22F0A96F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9B7-E3E4-4940-A4BE-CA466436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4F7-1FC2-408E-B122-BFE689C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496-A954-4D78-BB95-6F99433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706-7C6B-4F14-8892-D686FD39DA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AFEF-D3B3-40DD-BC6F-AFC2FB97E3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Организация внутришкольного контроля в условиях реализации новых образовательных стандартов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хайлова Н.К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цент кафед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ения образовательными системами ПОИПК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763560" y="949320"/>
            <a:ext cx="7186680" cy="5403960"/>
            <a:chOff x="763560" y="949320"/>
            <a:chExt cx="7186680" cy="5403960"/>
          </a:xfrm>
        </p:grpSpPr>
        <p:sp>
          <p:nvSpPr>
            <p:cNvPr id="171" name="_s55355"/>
            <p:cNvSpPr/>
            <p:nvPr/>
          </p:nvSpPr>
          <p:spPr>
            <a:xfrm>
              <a:off x="793800" y="949320"/>
              <a:ext cx="2371680" cy="16606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зультата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воения основ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тельно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560" y="2781360"/>
              <a:ext cx="2368440" cy="166824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ловия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ализ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ой общ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3800" y="4692600"/>
              <a:ext cx="2371680" cy="16606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тель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73800" y="976320"/>
              <a:ext cx="2368440" cy="16606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 Учебн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спитате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ц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8720" y="2852640"/>
              <a:ext cx="2369880" cy="16588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. Педагогическ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0000" y="4692600"/>
              <a:ext cx="2370240" cy="16606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. Учебн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атери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360" y="1060560"/>
              <a:ext cx="287640" cy="5105160"/>
            </a:xfrm>
            <a:custGeom>
              <a:avLst/>
              <a:gdLst>
                <a:gd name="textAreaLeft" fmla="*/ 0 w 287640"/>
                <a:gd name="textAreaRight" fmla="*/ 103680 w 287640"/>
                <a:gd name="textAreaTop" fmla="*/ 132840 h 5105160"/>
                <a:gd name="textAreaBottom" fmla="*/ 4972320 h 51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1052640"/>
              <a:ext cx="287280" cy="51130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133200 h 5113080"/>
                <a:gd name="textAreaBottom" fmla="*/ 4979880 h 51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18160" y="9036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ФГ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4520" y="9036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ВШ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9080" y="29383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9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68360" y="976320"/>
            <a:ext cx="8351640" cy="5621400"/>
            <a:chOff x="468360" y="976320"/>
            <a:chExt cx="8351640" cy="5621400"/>
          </a:xfrm>
        </p:grpSpPr>
        <p:sp>
          <p:nvSpPr>
            <p:cNvPr id="183" name="_s58372"/>
            <p:cNvSpPr/>
            <p:nvPr/>
          </p:nvSpPr>
          <p:spPr>
            <a:xfrm>
              <a:off x="468360" y="976320"/>
              <a:ext cx="2413080" cy="1727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зультата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воения основ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тельно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55"/>
            <p:cNvSpPr/>
            <p:nvPr/>
          </p:nvSpPr>
          <p:spPr>
            <a:xfrm>
              <a:off x="468360" y="2882880"/>
              <a:ext cx="2409840" cy="173520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ловия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ализ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ой общ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55"/>
            <p:cNvSpPr/>
            <p:nvPr/>
          </p:nvSpPr>
          <p:spPr>
            <a:xfrm>
              <a:off x="468360" y="4870440"/>
              <a:ext cx="2413080" cy="172728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ребования 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ов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тель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рамм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55"/>
            <p:cNvSpPr/>
            <p:nvPr/>
          </p:nvSpPr>
          <p:spPr>
            <a:xfrm>
              <a:off x="5010120" y="1004760"/>
              <a:ext cx="2960640" cy="97812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Качество результат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ученик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55"/>
            <p:cNvSpPr/>
            <p:nvPr/>
          </p:nvSpPr>
          <p:spPr>
            <a:xfrm>
              <a:off x="5302080" y="2208240"/>
              <a:ext cx="2926080" cy="74916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Качество процес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55"/>
            <p:cNvSpPr/>
            <p:nvPr/>
          </p:nvSpPr>
          <p:spPr>
            <a:xfrm>
              <a:off x="6475320" y="4229280"/>
              <a:ext cx="2343240" cy="89820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о компетент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ности учите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55"/>
            <p:cNvSpPr/>
            <p:nvPr/>
          </p:nvSpPr>
          <p:spPr>
            <a:xfrm>
              <a:off x="6948360" y="3181320"/>
              <a:ext cx="1871640" cy="74772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событиям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урока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55"/>
            <p:cNvSpPr/>
            <p:nvPr/>
          </p:nvSpPr>
          <p:spPr>
            <a:xfrm>
              <a:off x="3470400" y="3929040"/>
              <a:ext cx="2325600" cy="2379600"/>
            </a:xfrm>
            <a:custGeom>
              <a:avLst/>
              <a:gdLst>
                <a:gd name="textAreaLeft" fmla="*/ 113400 w 2325600"/>
                <a:gd name="textAreaRight" fmla="*/ 2212200 w 2325600"/>
                <a:gd name="textAreaTop" fmla="*/ 113400 h 2379600"/>
                <a:gd name="textAreaBottom" fmla="*/ 2266200 h 2379600"/>
              </a:gdLst>
              <a:ahLst/>
              <a:rect l="textAreaLeft" t="textAreaTop" r="textAreaRight" b="textAreaBottom"/>
              <a:pathLst>
                <a:path w="21600" h="22101">
                  <a:moveTo>
                    <a:pt x="3600" y="0"/>
                  </a:moveTo>
                  <a:arcTo wR="3600" hR="3600" stAng="16200000" swAng="-5400000"/>
                  <a:lnTo>
                    <a:pt x="0" y="18501"/>
                  </a:lnTo>
                  <a:arcTo wR="3600" hR="3600" stAng="10800000" swAng="-5400000"/>
                  <a:lnTo>
                    <a:pt x="18000" y="22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ачество систем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правления – п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ачеству ВШК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компетент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дминистр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55"/>
            <p:cNvSpPr/>
            <p:nvPr/>
          </p:nvSpPr>
          <p:spPr>
            <a:xfrm>
              <a:off x="6012000" y="5578560"/>
              <a:ext cx="2808000" cy="898560"/>
            </a:xfrm>
            <a:prstGeom prst="roundRect">
              <a:avLst>
                <a:gd name="adj" fmla="val 16667"/>
              </a:avLst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 кабинетам, ма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техническом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снащен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3640" y="3213000"/>
              <a:ext cx="1800000" cy="360360"/>
            </a:xfrm>
            <a:prstGeom prst="rightArrow">
              <a:avLst>
                <a:gd name="adj1" fmla="val 50000"/>
                <a:gd name="adj2" fmla="val 124875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56000" y="5589720"/>
              <a:ext cx="1079280" cy="360360"/>
            </a:xfrm>
            <a:prstGeom prst="rightArrow">
              <a:avLst>
                <a:gd name="adj1" fmla="val 50000"/>
                <a:gd name="adj2" fmla="val 74875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88000" y="2925720"/>
              <a:ext cx="216000" cy="1224000"/>
            </a:xfrm>
            <a:prstGeom prst="downArrow">
              <a:avLst>
                <a:gd name="adj1" fmla="val 50000"/>
                <a:gd name="adj2" fmla="val 141667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012000" y="2997360"/>
              <a:ext cx="288720" cy="2592360"/>
            </a:xfrm>
            <a:prstGeom prst="downArrow">
              <a:avLst>
                <a:gd name="adj1" fmla="val 50000"/>
                <a:gd name="adj2" fmla="val 224470"/>
              </a:avLst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29440" y="18900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ФГ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135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ВШ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(в соответствии с требованиями ФГО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1341360"/>
            <a:ext cx="1800360" cy="360360"/>
          </a:xfrm>
          <a:prstGeom prst="rightArrow">
            <a:avLst>
              <a:gd name="adj1" fmla="val 50000"/>
              <a:gd name="adj2" fmla="val 124900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364000" y="299736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2924280"/>
            <a:ext cx="14436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лгоритм проектирования ВШ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ачала операционально и диагностично прописываются цели ВШК как результаты деятельности всех субъектов, определяющих качество школьного образов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яется содержание по целям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объекты контроля и критериальный аппарат оценки качества этих объект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данного содержания выбирается диагностический инструментарий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формы, методы и технологии измер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яются условия реализации каждой процедуры ВШ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яется формат получаемых продуктов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справки, обобщения, аналитические докумен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ределяются механизмы обратной связи – кому и зачем нужны данные полученных продуктов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управление по результатам ВШК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Особенности содержания ВШК в соответствии с ФГОС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ВШК качества результат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11280" y="1700280"/>
          <a:ext cx="8137440" cy="4464000"/>
        </p:xfrm>
        <a:graphic>
          <a:graphicData uri="http://schemas.openxmlformats.org/drawingml/2006/table">
            <a:tbl>
              <a:tblPr/>
              <a:tblGrid>
                <a:gridCol w="3168720"/>
                <a:gridCol w="4968720"/>
              </a:tblGrid>
              <a:tr h="1060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Личностные образовательные результат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изированности и воспита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о-позновательной мотивации (базовый, позновательный, социальный, социально-духов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нности ценностей ЗО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ШК качества результатов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773360"/>
          <a:ext cx="8435880" cy="4440240"/>
        </p:xfrm>
        <a:graphic>
          <a:graphicData uri="http://schemas.openxmlformats.org/drawingml/2006/table">
            <a:tbl>
              <a:tblPr/>
              <a:tblGrid>
                <a:gridCol w="2962440"/>
                <a:gridCol w="5473440"/>
              </a:tblGrid>
              <a:tr h="13176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тапредметные образовательные результ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еализации регулятивных УУД (</a:t>
                      </a:r>
                      <a:r>
                        <a:rPr b="0" lang="en-US" sz="2000" spc="-1" strike="noStrike" u="sng">
                          <a:solidFill>
                            <a:srgbClr val="330066"/>
                          </a:solidFill>
                          <a:uFillTx/>
                          <a:latin typeface="Arial"/>
                        </a:rPr>
                        <a:t>самоорганизация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управление, </a:t>
                      </a:r>
                      <a:r>
                        <a:rPr b="0" lang="en-US" sz="2000" spc="-1" strike="noStrike" u="sng">
                          <a:solidFill>
                            <a:srgbClr val="330066"/>
                          </a:solidFill>
                          <a:uFillTx/>
                          <a:latin typeface="Arial"/>
                        </a:rPr>
                        <a:t>навыки системного экологического мыш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еализации познавательных УУД (мыслительные УУД, логические ум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еализации коммуникативных УУД (смысловое чтение, </a:t>
                      </a:r>
                      <a:r>
                        <a:rPr b="0" lang="en-US" sz="2000" spc="-1" strike="noStrike" u="sng">
                          <a:solidFill>
                            <a:srgbClr val="330066"/>
                          </a:solidFill>
                          <a:uFillTx/>
                          <a:latin typeface="Arial"/>
                        </a:rPr>
                        <a:t>работа в групп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звития ИКТ – компетентности (преобразование информации, владение ПК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и грамотного использования Интрене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 системе «воспитатель, учитель-ученик»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Обуче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измеряемая отметкой по предмету определяет </a:t>
            </a:r>
            <a:r>
              <a:rPr b="0" lang="ru-RU" sz="2200" spc="-1" strike="noStrike" u="sng">
                <a:solidFill>
                  <a:srgbClr val="330066"/>
                </a:solidFill>
                <a:uFillTx/>
                <a:latin typeface="Arial"/>
              </a:rPr>
              <a:t>дозу педагогической помощ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данного ребенка по данному предме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Обучаем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ченика определяет для воспитателя или учителя </a:t>
            </a:r>
            <a:r>
              <a:rPr b="0" lang="ru-RU" sz="2200" spc="-1" strike="noStrike" u="sng">
                <a:solidFill>
                  <a:srgbClr val="330066"/>
                </a:solidFill>
                <a:uFillTx/>
                <a:latin typeface="Arial"/>
              </a:rPr>
              <a:t>уровень педагогической помощ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Уровень развития ОУУН, УУ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для воспитателя или учителя </a:t>
            </a:r>
            <a:r>
              <a:rPr b="0" lang="ru-RU" sz="2200" spc="-1" strike="noStrike" u="sng">
                <a:solidFill>
                  <a:srgbClr val="330066"/>
                </a:solidFill>
                <a:uFillTx/>
                <a:latin typeface="Arial"/>
              </a:rPr>
              <a:t>выбор форм и приемов учебной деятельности учен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мфортных для него, или развивающих недостаточно сформированные навы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Особенности психологических процессов и психофизиологии, уровень развития мотивационно-волевой сф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для воспитателя и учителя формы знаний, </a:t>
            </a:r>
            <a:r>
              <a:rPr b="0" lang="ru-RU" sz="2200" spc="-1" strike="noStrike" u="sng">
                <a:solidFill>
                  <a:srgbClr val="330066"/>
                </a:solidFill>
                <a:uFillTx/>
                <a:latin typeface="Arial"/>
              </a:rPr>
              <a:t>развивающих память, внимание, каналы приема и переработки информации, виды и формы общения каждого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 системе «завуч – М/О – воспитатель, ученик - учитель»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Обучен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озволяет оценить и скорректировать вклад учителя, М/О в развитие детей средствами учебных предметов и внеклассной коррекционной и воспитательной раб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Обучаем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зволяет оценить и скорректировать вклад каждого воспитателя и учителя в М/О в увеличения зоны ближайшего развития уче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Уровень развития ОУУН, УУ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зволяет оценить эффективность работы воспитателей, учителей в каждом М/О по внедрению деятельностного подхода в обучении и развитии каждого ребе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Анализ динамики состояния психологических и психофизических параметров личност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ценить уровень психологического комфорта детей, скорректировать при необходимости способы и виды воздействия и общения, динамику и вектор направления развития интересов уче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ШК качества проце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1197000"/>
          <a:ext cx="8229600" cy="51112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713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обучающей предмет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планирования и организации уроков по предм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развитию метапредметных умений (УУ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реализации требований по сохранению здоровья обучающихся в учебном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обучению и развитию обучающихся на основе использования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проектированию и реализации индивидуальных учебных программ для отдельных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ШК качества проце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197000"/>
          <a:ext cx="8569440" cy="5403960"/>
        </p:xfrm>
        <a:graphic>
          <a:graphicData uri="http://schemas.openxmlformats.org/drawingml/2006/table">
            <a:tbl>
              <a:tblPr/>
              <a:tblGrid>
                <a:gridCol w="2327400"/>
                <a:gridCol w="6242040"/>
              </a:tblGrid>
              <a:tr h="7038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обучающей предмет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организации и проведению предметных событий в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о организации и проведению внешкольной предметной деятельности обучающихся: экскурсий, экспедиций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реализации требований Закона об инклюзии – деятельности по обучению детей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учителей по развитию и обустройству предметного кабинета как ресурса образовательного пространства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педколлектива по реализации внеурочной деятельности как ресурса реализации требований к «портрету выпускн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ШК качества проце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1700280"/>
          <a:ext cx="8229600" cy="403236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25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системы воспитатель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и структура программы воспитательной работы (в соответствии с ФГОС: духовно-нравственное развитие и воспитание обучающихся, их социализация и профессиональная ориентация, формирование экологической культуры, культуры здорового и безопасного образа жиз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реализации программы воспитатель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работы с родител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НУТРИШКОЛЬНЫЙ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НТРОЛЬ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его?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0066"/>
                </a:solidFill>
                <a:latin typeface="Arial"/>
              </a:rPr>
              <a:t>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0066"/>
                </a:solidFill>
                <a:latin typeface="Arial"/>
              </a:rPr>
              <a:t>образов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0066"/>
                </a:solidFill>
                <a:latin typeface="Arial"/>
              </a:rPr>
              <a:t>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ШК качества проце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2530440"/>
                <a:gridCol w="5699160"/>
              </a:tblGrid>
              <a:tr h="7038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научно-методической системы школ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ка роста уровня профессиональной компетентности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ое состояние членов педколлектива, их отношение к рабо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методической деятельности М/О, предметных кафед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реализации программы педагогического экспери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работы библиотеки, медиатеки, ресурсных центров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деятельности социально-психологической служ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ШК качества управ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8360" y="1916280"/>
          <a:ext cx="8229600" cy="403380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образовательной программы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программы, содержание и механизмы ее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управления образовательным процес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став и структура ВШ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процесса реализации ВШК как ресурса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управления реализацией требований государственных док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СанПин, ГОСТ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ШК качества управ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484280"/>
          <a:ext cx="8435880" cy="4934160"/>
        </p:xfrm>
        <a:graphic>
          <a:graphicData uri="http://schemas.openxmlformats.org/drawingml/2006/table">
            <a:tbl>
              <a:tblPr/>
              <a:tblGrid>
                <a:gridCol w="3251160"/>
                <a:gridCol w="518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выполнения Положения о документообороте 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та, своевременность и правильность ведения школьной документации всеми участниками 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управления материально-технической базой 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сть и качество оснащения образовательной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ачество управления профессиональным ростом педагогов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и реализация в ВШК необходимой совокупности показателей качества профессиональной деятельности учителя для установления размера стимулирующей части зар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Компетентность субъектов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управленческой компетентности администраторов школы, специалистов, возглавляющих структурные подразд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42064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Благодарю за внимание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74920" y="3933360"/>
            <a:ext cx="579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хайло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лли Константин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онятие кач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435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– существенный признак, свойство, отличающее один предмет или одно лицо от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о - цвет, вкус, форма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ес,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измеря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1700280"/>
            <a:ext cx="40435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98920" y="1413000"/>
            <a:ext cx="554508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чество – степень достоинства, ценности, пригодности вещи, действия, продукта, результата, соответствия тому, каким они должны быть. Соответствие требованиям стандартов, соответствие уровню запланированного резуль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Как измеря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79280" y="692280"/>
            <a:ext cx="1655640" cy="576000"/>
          </a:xfrm>
          <a:prstGeom prst="line">
            <a:avLst/>
          </a:prstGeom>
          <a:ln w="507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692280"/>
            <a:ext cx="1512720" cy="576000"/>
          </a:xfrm>
          <a:prstGeom prst="line">
            <a:avLst/>
          </a:prstGeom>
          <a:ln w="507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5614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Вводя понятие «качество» как 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ключевого критерия для оценки образовательного процесса обязаны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лючить в перечень объектов ВШК все результаты, ресурсы, условия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нятие качеств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ить в процессе ВШК не просто уровень или динамику процессов, но и «степень достоинства, ценности, пригодности»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нятие качеств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ичины необходимости изменений в системе ВШ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анализа результатов ВШК не в должной мере отражают причинно-следственные связи между результатами обучения и вос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определяются пути решения проблем и тенденции обновл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уемые задачи не связываются с переводом учебного заведения на более высокий качественный уровень, ВШК перегружен решением сиюминутных проблем. Результаты контроля связаны с констатацией того, что есть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администрация не пытается выявить причины результатов ВШК. Чаще всего контроль направлен на выявление имеющихся недостатков в работе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(Бахмутский А.Е. «Оценка деятельности современной школ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Модернизации ВШК как инструмента управления образовательным процессом требуют (способствуют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ГОС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СО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Наша новая школа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валификационный справоч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есурсы ВШК в решении причин необходимости изменени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0066"/>
                </a:solidFill>
                <a:latin typeface="Arial"/>
              </a:rPr>
              <a:t>Управленческая несостоятельность администра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быть частично скорректирована проектированием четкой системы ВШК, выстроенной с позиции системно-деятельностного подхода, прозрачной для каждого субъекта образовательного процесса, обеспеченной грамотным инструментарием, оптимизирующим работу с потоками информации по принципу «распределенной ответственност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0066"/>
                </a:solidFill>
                <a:latin typeface="Arial"/>
              </a:rPr>
              <a:t>Недостаточный уровень компетентности педагогов и школьных управленцев в обеспечении субъектной позиции уче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ет в первую очередь мотивации учителей на реализацию субъект-субъектных отношений в образовательной системе «учитель-ученик». Практика показывает, что введение в систему ВШК мониторинга профессиональной компетентности учителя позволяет повысить позиционно-ценностную составляющую общей профессиональной компетентности учителя по отношению к психолого-педагогическим знаниям и умениям, лежащим в основе индивидуализации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есурсы ВШК в решении причин необходимости изменени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330066"/>
                </a:solidFill>
                <a:latin typeface="Arial"/>
              </a:rPr>
              <a:t>Недостатки во внедрении инновац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требуют выстраивания ВШК научно-методической работы в школе на основе критериального и компетентносно-деятельностного подход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330066"/>
                </a:solidFill>
                <a:latin typeface="Arial"/>
              </a:rPr>
              <a:t>Рост числа учащихся с низким уровнем обучаем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требует  введения в систему ВШК мониторинга не только уровня обученности по предметам, но и уровня развития других внутренних ресурсов ученика, отраженных в метапредметных и личностных образовательных результат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330066"/>
                </a:solidFill>
                <a:latin typeface="Arial"/>
              </a:rPr>
              <a:t>Отсутствие единого критериального оценивания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пехов детей, снижающее валидность оценки результатов деятельности как ученика, так и учителя, требует пересмотра и совершенствования в ВШК систем оценивания на основе критериального и компетентностного подходов к оценке уровня учебного успеха ученика и уровня профессиональной компетентности учител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обеспечения эффективности реализации инноваций такого масштаба как ФГОС и НСОТ,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необходим анализ и совершенствование в каждой школе системы ВШК с учетом новых требований как к результатам, так и к процессу их полу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4:13:46Z</dcterms:created>
  <dc:creator>WiZaRd</dc:creator>
  <dc:description/>
  <dc:language>en-US</dc:language>
  <cp:lastModifiedBy>Королёв</cp:lastModifiedBy>
  <dcterms:modified xsi:type="dcterms:W3CDTF">2011-10-18T09:15:50Z</dcterms:modified>
  <cp:revision>28</cp:revision>
  <dc:subject/>
  <dc:title>Организация внутришкольного контроля в условиях реализации новых образовательных стандартов</dc:title>
</cp:coreProperties>
</file>