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BA19-243C-4706-848B-D5F03B5E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DF78-E76C-4F65-A575-91F333C2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B00-8A0D-4527-A77B-D2B6165E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8CA-D9DF-4FA1-8A65-53A9932F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C835-68C8-45B6-9AF7-5E8C0556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E37C-F269-4EEC-9FA9-6C1EF581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986E-71CA-47DB-ACA5-A9D7C1F5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B408-C258-48D8-8858-39750104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AE96-C115-4E9E-8F99-1D558A2F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27E5-F416-4A26-B161-A43D8CF3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9695-CA37-48D0-8589-60474911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049-F637-4924-8EDC-7496F577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D424-E72B-453B-916E-98E4A842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27ED-BC44-43F4-8E5D-E903D917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A566-3C1E-45DE-9CFD-C07CD2A4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2871-82BF-41E2-99C3-97390566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C3AF-1FC9-419D-AB33-49C7892A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BAE48-920F-42AE-B5BD-082CFB97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29305-877F-4AAA-BC0E-EC93C537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E8AB5-1DDE-453A-9308-EB08856E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3FE98-5162-42D3-AABC-C6EA0ABE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FBB52-DD9D-46B0-843A-F962692A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8B9-0E6C-4E9B-8051-54F9989F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5F87F-58C9-41FD-861D-D60AE990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16959-AFA0-43D9-8895-3305F411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71B5A-CD9E-4D80-9236-93A182E2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A8D41-5812-407C-B981-8930D0D9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B420E-C1BC-475B-A6C9-9A92A3FA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C006F-4F6E-43E7-9F87-9D44F62D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D78D3-F971-402D-8B41-6FE2F0BC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E8E13-1A37-4B36-86D7-4F92F07B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1A16A-26A1-4B93-99FB-8A6B3652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5DF14-1E5E-4E4B-8504-64DA38E5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A116-C59B-43F1-8CE7-D50898CA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0F1CB-E5A4-4869-861F-83004B12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0E88C-5EA5-4D09-9435-2AC2A8B3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3D57F-83ED-4E8E-B117-0DCB101B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D1124-BD40-46CB-9F31-1CE563AC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86C57-C858-4AA3-A552-848FA9DF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04ACC-BE2E-4679-9916-206301BC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4203E-033E-4BB2-AFF7-3FBCCAC1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66A66-65E6-43EE-9E24-06E396C0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DAD6B-5E5F-4119-AD48-8DEFA794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CC85C-6D29-4C01-83CF-C602F7A3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CD5B-AAB6-431F-A7EB-E3DE4BFB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F3D5D-EE36-4D2F-837C-60FA44F6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5EF88-F08E-409F-BCB9-AA3E464A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14DDE-2108-43ED-8AE8-C86CA984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909EA-1683-43DD-B8BD-5073B07F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4C939-C1A2-4CE5-AD07-CB773083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C9A72-531A-40E2-98D0-CFDE1D29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5454A-83B1-4DBE-928D-D9DC8352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48815-DE7B-41F1-A2B4-25364B4A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EE775-AB04-4537-B6D7-2CA54909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90004-2D75-419B-84DE-E15B11C6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44CB-CD23-4D22-9D22-EB0CBC47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3573C-E162-40EE-A6BF-E9ABAAAB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2F4-76E5-4B1F-ADC1-3A9C111B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E200-7FFA-4277-8583-4085F1F0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215-207A-4F6E-8C11-4C2AE493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6EBC-9B91-47A8-84A0-C8EA66F3F25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133C-ECCA-4E22-884C-5FED5990C7E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C03D-FDE9-4CD2-B560-60A7747396B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971C-1018-4BB5-9A46-0BF45CBB93BE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64F6-FFA5-4F39-8DB1-A2F9E6C97F7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230640" y="530280"/>
            <a:ext cx="56084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М.Е. Жихаревич, кандидат философских наук, доцент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55600" y="-158760"/>
            <a:ext cx="7450200" cy="16272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Современный национальный воспитательный идеал —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это высоконравственный, творческий, компетентный гражданин России, принимающий судьбу Отечества как свою личную, осознающий ответственность за настоящее и будущее своей страны, укоренённый в духовных и культурных традициях многонационального народа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317520" y="195120"/>
            <a:ext cx="7388280" cy="1273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Важнейшей целью современного отечественного образования и одной из приоритетных задач общества и государства является воспитание, социально-педагогическая поддержка становления и развития высоконравственного, ответственного, творческого, инициативного, компетентного гражданина Росс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512640" y="182520"/>
            <a:ext cx="7345440" cy="15001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оспитание у детей и молодежи активной гражданской позиции, чувства ответственности за свою стран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сновной институт педагогического воздействия на духовно-нравственное развитие личности гражданина России – общее образовани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артнерские отношения общего образования с другими институтами социализ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сновной субъект духовно-нравственного развития и воспитания, - педагогический коллектив общеобразовательного учрежд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атриотиз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циальная солидарность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гражданственность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емь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труд и творчество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наука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традиционные российские религи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искусство и литератур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человечество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396720" y="281160"/>
            <a:ext cx="7442280" cy="11998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нравственный пример педагог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социально-педагогическое партнёрств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индивидуально-личностное развит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интегративность программ духовно-нравственного воспит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социальная  востребованность воспит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Духовно-нравственное развитие достигает содержательной полноты и становится актуальным для самого обучающегося, когда соединяется с жизнью, реальными социальными проблемами, которые необходимо решать на основе морального выбор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Организация воспитательного процесса в системе «школа — семья — социум» потребует педагогов, способных не только учить, но и воспитывать обучающихс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характер современного национального воспитательного идеа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цели и задачи духовно-нравственного развития и воспитания детей и молодеж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систему базовых национальных ценностей, на основе которых возможна духовно-нравственная консолидация многонационального народ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сновные социально-педагогические условия и принципы  духовно-нравственного развития и воспитания обучающихс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51536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rebuchet MS"/>
              </a:rPr>
              <a:t>нация — </a:t>
            </a:r>
            <a:r>
              <a:rPr b="0" i="1" lang="ru-RU" sz="2200" spc="-1" strike="noStrike">
                <a:solidFill>
                  <a:srgbClr val="000000"/>
                </a:solidFill>
                <a:latin typeface="Trebuchet MS"/>
              </a:rPr>
              <a:t>государственно-территориальная и политико-правовая общность, существующая на основе общих политических, историко-культурных и духовно-ценностных характеристик и общего самосознания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rebuchet MS"/>
              </a:rPr>
              <a:t>национальное государство — </a:t>
            </a:r>
            <a:r>
              <a:rPr b="0" i="1" lang="ru-RU" sz="2200" spc="-1" strike="noStrike">
                <a:solidFill>
                  <a:srgbClr val="000000"/>
                </a:solidFill>
                <a:latin typeface="Trebuchet MS"/>
              </a:rPr>
              <a:t>государство с общей, контролируемой центральной властью, хозяйственно-экономической основой, общей территорией, общими историко-культурными ценностями жителей страны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rebuchet MS"/>
              </a:rPr>
              <a:t>национальное самосознание (идентичность) — </a:t>
            </a:r>
            <a:r>
              <a:rPr b="0" i="1" lang="ru-RU" sz="2200" spc="-1" strike="noStrike">
                <a:solidFill>
                  <a:srgbClr val="000000"/>
                </a:solidFill>
                <a:latin typeface="Trebuchet MS"/>
              </a:rPr>
              <a:t>разделяемое всеми гражданами представление о своей стране, её народе, чувство принадлежности к своей стране и народу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51536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формирование национальной идентичности —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формирование у личности представления о многонациональном народе Российской Федерации как о гражданской нации и воспитание патриотизм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патриотизм —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чувство и сформировавшаяся позиция верности своей стране и солидарности с её народ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гражданское общество —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общество, способное к самоорганизации на всех уровнях, от местных сообществ до общенационального (государственного) уровн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51536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многообразие культур и народов —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ультурное многообразие, существующее в стране и в мире в цел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межэтнический мир и согласие —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единство в многообразии, признание и поддержка культур, традиций и самосознания всех представителей многонационального народа Российской Федерации, гарантированное равноправие граждан независимо от национальности, а также политика интеграции, предотвращения напряжённости и разрешения конфликтов на этнической или религиозной основе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51536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социализация —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усвоение человеком социального опыта в процессе образования и жизнедеятельности посредством вхождения в социальную среду, установления социальных связей, принятия ценностей различных социальных групп и общества в целом, активного воспроизводства системы общественных отношен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развитие —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процесс и результат перехода к новому, более совершенному качественному состоянию, от простого к сложному, от низшего к высшему, к некоей степени духовной, умственной зрелости, сознательности, культурности и пр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51536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воспитание —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педагогически организованный целенаправленный процесс развития обучающегося как личности, гражданина, освоения и принятия им ценностей, нравственных установок и моральных норм обществ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национальный воспитательный идеал —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высшая цель образования, нравственное (идеальное) представление о человеке, на воспитание, обучение и развитие которого направлены усилия основных субъектов национальной жизни: государства, семьи, школы, политических партий, религиозных объединений и общественных организац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51536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базовые национальные ценности —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основные  моральные ценности, приоритетные нравственные установки, существующие в культурных, семейных, социально-исторических, религиозных традициях, передаваемые от поколения к поколению и обеспечивающие успешное развитие страны в современных условиях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духовно-нравственное развитие личности —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последовательное расширение и укрепление ценностно-смысловой сферы личности, формирование способности человека оценивать и сознательно выстраивать на основе традиционных моральных норм и нравственных идеалов отношение к себе, другим людям, обществу, государству, Отечеству, миру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51536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духовно-нравственное воспитание личности гражданина России —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педагогически организованный процесс усвоения и принятия обучающимся базовых национальных ценностей, имеющих иерархическую структуру и сложную организацию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15:31:18Z</dcterms:created>
  <dc:creator>1</dc:creator>
  <dc:description/>
  <dc:language>en-US</dc:language>
  <cp:lastModifiedBy>1</cp:lastModifiedBy>
  <dcterms:modified xsi:type="dcterms:W3CDTF">2011-10-18T14:43:33Z</dcterms:modified>
  <cp:revision>10</cp:revision>
  <dc:subject/>
  <dc:title>О концепции духовно-нравственного развития личности </dc:title>
</cp:coreProperties>
</file>