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10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7EBA-4384-4C37-AEDC-0ECF4146E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8912-CCC4-4E59-8067-F1FB0F73C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3FE9D-115C-4FB2-A395-315D693B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E80A4-0195-4317-93C9-BA2BB8517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9D0630-A7AA-4158-A136-5B93B61FF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D9AC84-2108-4616-96B0-A39955BD7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7EEFB6-E8D5-4420-B5A8-1EC84BD0A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5DBDB7-2B2E-4C85-9D1B-5B6C898B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F3F58-BD07-42B9-B60F-B3D075E9E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B2ADC7-B6B2-4C6D-83BB-FF4E394E48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08A6C7D-45F9-4B71-B233-F60EBD048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4A31595-4065-4242-9474-20B561D9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11854-9EC6-409D-BCD8-D53C164DD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584E52F-0896-4900-BBAE-B40C20F63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F84ADF-325E-40CC-A3BD-92280A109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EDF204-3E9B-4189-AB93-60524E714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F93989-155F-4FF4-BF62-FEB4CF66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4A353B-C89F-48AE-A1C1-BF60BB6F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ADF510-9782-4862-B824-EB03D173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0F8C0E8-07F6-4FED-BC0F-5CDC122D7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91E9531-81FF-4622-8988-2B8C74B97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51ADD-6323-4182-B71E-B6DA3CA6B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60F15-FF8A-4A1F-B3D7-7D892150E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D3225-75A5-4BE8-8FD0-6D384ABA00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FFD86-A5A6-489B-976B-36EF6F93A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968492-57DC-477F-8E35-FC091FD5B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C4233D-1591-49C4-B243-3E4BEEF02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F39E48-5504-4A9E-9134-12B73CE14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AD0CF-E7F0-4CB4-AD98-45C08F5E5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57DA3B-1B2A-4DD0-B0BD-1E9158A26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4E5530-0F74-47E7-8F30-1B6C3B930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E61C04-2DA1-4952-A3CA-6676E8233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9932486-A502-4A63-9819-5BDD1E828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8CB289-DBBE-4BCD-A1F3-1ED04EA87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B3907-2CE0-4BA2-92CD-1A6C1AFBB6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508256-7CB6-4D9B-82E1-74C6C936A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37B39C-1E48-4C6B-A2FC-000D1CD78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E12DC3-CC4F-4FF0-AA00-9EC001351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41BB6A-1F86-4815-9621-0B8345F33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765B30-3DED-4EBA-BB55-95A505EC2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5EFE83-D7E6-41BC-9007-BA50C34D3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5F18A5-806A-46E4-992C-613E8529F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6AF0FD-B4B7-4128-8536-19E6E5AE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35D0F2-5D31-4D4B-B901-054AD19C7A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3B1679-B552-4C69-8ADD-CA3EB4B0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A23B5-848F-4AC6-94DE-201B54624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37388C-2AB3-4CD9-A702-6FC71E332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80553D-C160-43C6-A3D8-F150F243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DDD2D2-DBDD-48DD-ABFF-F0168A467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3BD3D3-7041-4A55-B9D7-DBE5FB1E7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E6CEC5-95A1-4D77-AE20-DD9C746D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BF5978-A796-49A3-9E32-F8ED41E9F2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1BE9A3-E47E-4272-87CF-278160F76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012B12-BDB2-429A-A69D-E801654D9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A0E017-3A3E-48EB-A394-265AA07F7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261BA2-D4AD-4E69-B17D-ECFB59D5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B8368-80B6-4845-8916-3D549E11D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9B3EA7-00AC-4912-B6F9-4C1B4847C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F8C64E-79F6-46DB-AF61-02183609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7C812-1E15-4327-A241-07AF28B6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2A7EBC-5DF7-4739-8E50-CE675362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57557E-343F-487D-BFB4-ABFD64181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A2A17F-EE36-4284-A2C3-31F3D0CFF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EAC5FD1-AA44-414A-B7CD-A9E235B3D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D5D92-356F-42BC-9EDE-C84B735D6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AE8E8-7E86-4EAE-92D5-B7715F9B5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2742-C44A-409C-BE73-231CCABF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8A36A-7DC6-4AAA-8657-38EC8DD2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2CAAC-402C-43EC-BA8A-09C8C196C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5C8D-79EB-4F07-BE57-EC948B33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94EA1-D045-4277-8E6A-8E250416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0E2DC-220F-4F20-8729-C6312FFDF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E4620-964A-4F80-840E-5A9EFAE7A4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43E9C-90A6-4AA1-9C2A-B2CFA014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7C856-964B-4417-8FA4-8566397EA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07705A-7D98-4FE9-ACD9-1EFB7125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2C1D78-9D83-42DB-AB3D-576470EC7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8734A-B4FD-491E-9248-007DDE17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26BBF-B5B7-4FA8-B659-14FFFE8E9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34D4-B1B1-44F9-B7DD-9EEC2B24A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D7896-7EAB-4871-9FE1-1D51DBF03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32A1FD-BF30-4F2A-B4E3-691CD841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D6B87C-0C71-4B8E-BD6A-9C52237B6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1D692-56C3-4F5D-8C0C-C3EE3D65B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8D2D4-42E1-487C-B1D6-FEC27B260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4FA46-BC73-45E3-8082-8070FD677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BEDD6-7E2D-4D40-A4BF-A96C3E63F6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222BA-D7DD-4F14-8E3F-80192F15E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D2FCB2-801A-472A-BDE1-5FC136DE5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010558-1B7F-4286-A7F5-B5FE88CC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DDB3A-A1F5-4E0B-BC87-B51D61A28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84CEBB-215C-4FE8-A2C5-7112F94E1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E48859-DEF3-44C9-BC18-34DF0E14D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3DD74-D04E-4A58-B25D-98AE34C5A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95F194-2B0D-496F-B85A-93539DAC7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AB2180-4EAA-4649-A423-EAC0185F2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BC0946-B7FE-40C0-8DAE-0F35ECDF0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6997E-AECD-4B09-8C4F-B9A4F3B84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4383B7-25ED-480D-8867-669D3C3F8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962823-7A1B-4650-94B8-F0CDD7245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0068B2-8B80-41E6-8948-B1E6F7100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A9C9-45CB-43E2-8431-DFD7CAA8A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3FE026-729C-4D0E-BB08-9916135A9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076DA-D310-419F-9BD3-F6B0050A7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6FF1FA-8CCF-486D-ABB2-82CFB8DAD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3A86F1-495B-4C63-9DB7-66C965916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B8A6AC-5E3B-434C-92B6-941C96469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E2A24-8D00-4DBB-88F3-A4FEF131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7E438-86E0-44DD-9985-1666A35A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237AF7-5544-47D1-A221-7AC244406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8F185-ED64-4531-944B-7E77F7985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C8516F-5264-4A1C-8579-C8957F719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4E031-3210-49FE-B4FB-FCF95AF09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BD71A-1BAA-4D45-BC8F-E0A5DCF10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83ECAB-84E1-435E-B22D-A43182271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45EA8A-301D-4DB3-810B-B79185DD2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2402ED-32BF-4205-87EC-0FE579D2D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78D71-DF57-4797-8DF3-76E0704A5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39CF2-8951-4BA7-BBEA-F8518C195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08C389-714D-4675-883A-44B0EA2C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4673C6-272F-4C8B-A049-E8FC2177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662EE9-52D5-4F97-9CEF-7846D393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AD483-5B7A-4477-89BC-FB16988B9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C08E-D2CD-4D2D-B1D0-1C5C1CD5E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FDB518-E7BD-4888-863A-92A49EDAE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B4D773-37DC-462F-92FB-BD815912B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9C5CA9-3903-45A0-A140-9A8A6291B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762A0-E972-4668-B70A-AD378A300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62609A-828E-400A-8AA0-450CBDF01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A4539E-BEA5-4C32-9362-85E109AF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81219-23F7-47EE-91C1-7B635C268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D9727-61AB-4533-A7C0-1AA363ABB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8F0DD-59C7-4CEE-B1BA-76AA1013E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D404DF-A7AE-469E-995C-EE3C61F62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8758-989C-467C-A95F-CEE70D39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02D675-61F4-4418-B4EF-0829CA8C3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D5FDEC-80E7-4C51-AD3B-66387857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877B03-9052-4395-9D24-DD5D04BC2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608CDDB-7D07-4670-8C82-6F7F5DD71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4FDBA6-D9DF-4771-85D8-5D5B881D01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B9547DD-0148-4109-8A56-6B78EA1502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687E8D-B884-425D-94F6-4026D6C60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AABB73-78F6-4668-AE5B-CAFAEB8B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761FD6-91C8-4028-B3AE-52157C84D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037E1A-7DA1-422E-A813-7D1408492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FB16-ECEB-4100-A3EF-ECE8E8FEE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FE06FD-492B-415C-9B9E-C95922014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0F5A4E-E563-4652-90C7-20BD26FBB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32ED20-1410-4797-9F42-BC31926CE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CBF7FA-8D65-4E39-ADE4-907A24DA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F0C39-25BE-4AB7-A491-6667470D0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1DF5B7-0021-4459-9D6C-14467C8F9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7C1170-CF30-427C-BFF9-EB0B427D1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9AA3DB-CF57-4F65-AA0A-0E9429A34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F14236-BFD0-4008-9486-91BB3F338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2A333B-A938-4D35-9D7E-E93F6A21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4E0AA-EDAD-4414-961E-B23410E48EF9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94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 type="dt" idx="28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 type="ftr" idx="29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 type="sldNum" idx="30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331873-D5F9-476A-A9B0-B1A147C8DB3F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7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38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 type="dt" idx="31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 type="ftr" idx="32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 type="sldNum" idx="33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5E144-034A-4229-A13E-A4B64073CF95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1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482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 type="dt" idx="34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 type="ftr" idx="35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 type="sldNum" idx="36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DE41-3083-41CC-BFD7-CFE48D35B30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526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dt" idx="3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 type="ftr" idx="38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 type="sldNum" idx="3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E5AF9-6454-477F-A567-C349B2A1536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3A9C1-C0EF-4F81-9F20-37AB79F6ED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" name="Group 2"/>
          <p:cNvGrpSpPr/>
          <p:nvPr/>
        </p:nvGrpSpPr>
        <p:grpSpPr>
          <a:xfrm>
            <a:off x="-7758000" y="1463760"/>
            <a:ext cx="16902000" cy="10794960"/>
            <a:chOff x="-7758000" y="1463760"/>
            <a:chExt cx="16902000" cy="10794960"/>
          </a:xfrm>
        </p:grpSpPr>
        <p:sp>
          <p:nvSpPr>
            <p:cNvPr id="86" name="Freeform 3"/>
            <p:cNvSpPr/>
            <p:nvPr/>
          </p:nvSpPr>
          <p:spPr>
            <a:xfrm>
              <a:off x="3271680" y="2709720"/>
              <a:ext cx="5872320" cy="4148280"/>
            </a:xfrm>
            <a:prstGeom prst="pie">
              <a:avLst/>
            </a:pr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Arc 4"/>
            <p:cNvSpPr/>
            <p:nvPr/>
          </p:nvSpPr>
          <p:spPr>
            <a:xfrm>
              <a:off x="-7758000" y="1463760"/>
              <a:ext cx="13452480" cy="107949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129528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33375-550B-43F6-B5D1-C85941F509B7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30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dt" idx="10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ftr" idx="11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sldNum" idx="12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24678-23A8-4C91-BBAC-8FAC7E248123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174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dt" idx="13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 type="ftr" idx="14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 type="sldNum" idx="15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3A0DB-3814-43AA-B7ED-17D46B8D7A4E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18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CD6EF-4EDE-4B6A-A094-D871E99E5C56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1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262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A2D6-C78B-445C-B391-A5A29E16BBA1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06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71E06-2FAA-44B1-BE47-4A20E44DC3BA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Group 2"/>
          <p:cNvGrpSpPr/>
          <p:nvPr/>
        </p:nvGrpSpPr>
        <p:grpSpPr>
          <a:xfrm>
            <a:off x="-8405640" y="4680"/>
            <a:ext cx="17538480" cy="13690800"/>
            <a:chOff x="-8405640" y="4680"/>
            <a:chExt cx="17538480" cy="13690800"/>
          </a:xfrm>
        </p:grpSpPr>
        <p:sp>
          <p:nvSpPr>
            <p:cNvPr id="350" name="Freeform 3"/>
            <p:cNvSpPr/>
            <p:nvPr/>
          </p:nvSpPr>
          <p:spPr>
            <a:xfrm>
              <a:off x="5388120" y="1585800"/>
              <a:ext cx="3744720" cy="5261040"/>
            </a:xfrm>
            <a:prstGeom prst="pie">
              <a:avLst/>
            </a:prstGeom>
            <a:gradFill rotWithShape="0">
              <a:gsLst>
                <a:gs pos="0">
                  <a:srgbClr val="2f5e76"/>
                </a:gs>
                <a:gs pos="100000">
                  <a:srgbClr val="66cc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Arc 4"/>
            <p:cNvSpPr/>
            <p:nvPr/>
          </p:nvSpPr>
          <p:spPr>
            <a:xfrm>
              <a:off x="-8405640" y="4680"/>
              <a:ext cx="16821000" cy="1369080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2560" y="609120"/>
            <a:ext cx="8080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256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182520" rIns="18252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90000"/>
              </a:lnSpc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7215120" y="644220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82560" y="6365880"/>
            <a:ext cx="42674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7199280" y="6148440"/>
            <a:ext cx="190512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b">
            <a:noAutofit/>
          </a:bodyPr>
          <a:lstStyle>
            <a:lvl1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lvl="1" marL="4572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F82A-B64A-4F13-81B1-11815FDEC60A}" type="slidenum">
              <a:rPr b="0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1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4000" y="2565000"/>
            <a:ext cx="8134200" cy="79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3200" spc="-1" strike="noStrike">
                <a:solidFill>
                  <a:srgbClr val="800080"/>
                </a:solidFill>
                <a:latin typeface="Arial"/>
              </a:rPr>
              <a:t>Мероприятие – путешеств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2124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Козлова Светлана Георгиевна,</a:t>
            </a:r>
            <a:br>
              <a:rPr sz="2400"/>
            </a:b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МОУ «Средняя общеобразовательная школа № 2»</a:t>
            </a:r>
            <a:br>
              <a:rPr sz="2400"/>
            </a:br>
            <a:r>
              <a:rPr b="1" lang="ru-RU" sz="2400" spc="-1" strike="noStrike">
                <a:solidFill>
                  <a:srgbClr val="800080"/>
                </a:solidFill>
                <a:latin typeface="Times New Roman"/>
              </a:rPr>
              <a:t>г. Великие Луки Псковской области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WordArt 4"/>
          <p:cNvSpPr txBox="1"/>
          <p:nvPr/>
        </p:nvSpPr>
        <p:spPr>
          <a:xfrm>
            <a:off x="684360" y="907920"/>
            <a:ext cx="786744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hevronInverted">
              <a:avLst>
                <a:gd name="adj" fmla="val 75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«ИЗ ПРОШЛОГО В  НАСТОЯЩЕЕ».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4" name="Picture 22" descr="Копия (3) 1236358309_pic_id9336"/>
          <p:cNvPicPr/>
          <p:nvPr/>
        </p:nvPicPr>
        <p:blipFill>
          <a:blip r:embed="rId1"/>
          <a:stretch/>
        </p:blipFill>
        <p:spPr>
          <a:xfrm>
            <a:off x="0" y="0"/>
            <a:ext cx="9144000" cy="7047000"/>
          </a:xfrm>
          <a:prstGeom prst="rect">
            <a:avLst/>
          </a:prstGeom>
          <a:ln w="0">
            <a:noFill/>
          </a:ln>
        </p:spPr>
      </p:pic>
      <p:pic>
        <p:nvPicPr>
          <p:cNvPr id="605" name="Picture 20" descr="150px-Order_of_Lenin"/>
          <p:cNvPicPr/>
          <p:nvPr/>
        </p:nvPicPr>
        <p:blipFill>
          <a:blip r:embed="rId2"/>
          <a:stretch/>
        </p:blipFill>
        <p:spPr>
          <a:xfrm>
            <a:off x="1258920" y="3933720"/>
            <a:ext cx="1312920" cy="2556000"/>
          </a:xfrm>
          <a:prstGeom prst="rect">
            <a:avLst/>
          </a:prstGeom>
          <a:ln w="0">
            <a:noFill/>
          </a:ln>
        </p:spPr>
      </p:pic>
      <p:pic>
        <p:nvPicPr>
          <p:cNvPr id="606" name="Picture 19" descr="150px-Order_of_Lenin"/>
          <p:cNvPicPr/>
          <p:nvPr/>
        </p:nvPicPr>
        <p:blipFill>
          <a:blip r:embed="rId3"/>
          <a:stretch/>
        </p:blipFill>
        <p:spPr>
          <a:xfrm>
            <a:off x="755640" y="2565360"/>
            <a:ext cx="1312920" cy="2556000"/>
          </a:xfrm>
          <a:prstGeom prst="rect">
            <a:avLst/>
          </a:prstGeom>
          <a:ln w="0">
            <a:noFill/>
          </a:ln>
        </p:spPr>
      </p:pic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3995640" y="692280"/>
            <a:ext cx="491328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Arial"/>
              </a:rPr>
              <a:t>Награды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640400" y="1981080"/>
            <a:ext cx="4324320" cy="44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3 Ордена Ленин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рд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расного Зна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рден Трудового Красного Знамен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рден Октябрьской Револю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Picture 8" descr="150px-OrderOfTheRedBannerOfLabour"/>
          <p:cNvPicPr/>
          <p:nvPr/>
        </p:nvPicPr>
        <p:blipFill>
          <a:blip r:embed="rId4"/>
          <a:stretch/>
        </p:blipFill>
        <p:spPr>
          <a:xfrm>
            <a:off x="2411280" y="2997360"/>
            <a:ext cx="1132200" cy="2490480"/>
          </a:xfrm>
          <a:prstGeom prst="rect">
            <a:avLst/>
          </a:prstGeom>
          <a:ln w="0">
            <a:noFill/>
          </a:ln>
        </p:spPr>
      </p:pic>
      <p:pic>
        <p:nvPicPr>
          <p:cNvPr id="610" name="Picture 9" descr="150px-Order_of_Lenin"/>
          <p:cNvPicPr/>
          <p:nvPr/>
        </p:nvPicPr>
        <p:blipFill>
          <a:blip r:embed="rId5"/>
          <a:stretch/>
        </p:blipFill>
        <p:spPr>
          <a:xfrm>
            <a:off x="250920" y="1125360"/>
            <a:ext cx="1312920" cy="2556000"/>
          </a:xfrm>
          <a:prstGeom prst="rect">
            <a:avLst/>
          </a:prstGeom>
          <a:ln w="0">
            <a:noFill/>
          </a:ln>
        </p:spPr>
      </p:pic>
      <p:pic>
        <p:nvPicPr>
          <p:cNvPr id="611" name="Picture 10" descr="150px-Order_of_Red_Banner"/>
          <p:cNvPicPr/>
          <p:nvPr/>
        </p:nvPicPr>
        <p:blipFill>
          <a:blip r:embed="rId6"/>
          <a:stretch/>
        </p:blipFill>
        <p:spPr>
          <a:xfrm>
            <a:off x="2268360" y="1341360"/>
            <a:ext cx="1371600" cy="1582920"/>
          </a:xfrm>
          <a:prstGeom prst="rect">
            <a:avLst/>
          </a:prstGeom>
          <a:ln w="0">
            <a:noFill/>
          </a:ln>
        </p:spPr>
      </p:pic>
      <p:pic>
        <p:nvPicPr>
          <p:cNvPr id="612" name="Picture 11" descr="150px-OrderOfTheOctoberRevolution"/>
          <p:cNvPicPr/>
          <p:nvPr/>
        </p:nvPicPr>
        <p:blipFill>
          <a:blip r:embed="rId7"/>
          <a:stretch/>
        </p:blipFill>
        <p:spPr>
          <a:xfrm>
            <a:off x="3635280" y="4076640"/>
            <a:ext cx="122580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Picture 4" descr="Копия 1236325694_sprin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Rectangle 5"/>
          <p:cNvSpPr/>
          <p:nvPr/>
        </p:nvSpPr>
        <p:spPr>
          <a:xfrm>
            <a:off x="611280" y="620640"/>
            <a:ext cx="8137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ВЕЛИКОЛУКСКА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ГОРОДСКАЯ 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ДЕТСКАЯ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ОБЩЕСТВЕННАЯ </a:t>
            </a:r>
            <a:br>
              <a:rPr sz="4000"/>
            </a:br>
            <a:r>
              <a:rPr b="1" lang="ru-RU" sz="4000" spc="-1" strike="noStrike">
                <a:solidFill>
                  <a:srgbClr val="800000"/>
                </a:solidFill>
                <a:latin typeface="Times New Roman"/>
              </a:rPr>
              <a:t>ОРГАНИЗАЦ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WordArt 7"/>
          <p:cNvSpPr txBox="1"/>
          <p:nvPr/>
        </p:nvSpPr>
        <p:spPr>
          <a:xfrm>
            <a:off x="1258920" y="4005360"/>
            <a:ext cx="684036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cc00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" Л У Ч А Н Е "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cc00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8" descr="Копия (4) 1236358309_pic_id93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800000"/>
                </a:solidFill>
                <a:latin typeface="Arial"/>
              </a:rPr>
              <a:t>ДОО </a:t>
            </a: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«ЛУЧАНЕ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Picture 6" descr="2477jpg"/>
          <p:cNvPicPr/>
          <p:nvPr/>
        </p:nvPicPr>
        <p:blipFill>
          <a:blip r:embed="rId2"/>
          <a:stretch/>
        </p:blipFill>
        <p:spPr>
          <a:xfrm>
            <a:off x="324000" y="2133720"/>
            <a:ext cx="4535280" cy="3590640"/>
          </a:xfrm>
          <a:prstGeom prst="rect">
            <a:avLst/>
          </a:prstGeom>
          <a:ln cap="rnd" w="57240">
            <a:solidFill>
              <a:srgbClr val="800080"/>
            </a:solidFill>
            <a:custDash>
              <a:ds d="100000" sp="1000"/>
            </a:custDash>
            <a:miter/>
          </a:ln>
        </p:spPr>
      </p:pic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03640" y="1773360"/>
            <a:ext cx="388944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Добровольное объединение детей, подростков и взрослы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Ориентируется на общечеловеческие ценности: любовь к Родине, к своему городу, доброе отношение к другим людям, дружба, взаимопомощ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Picture 8" descr="Копия (4) 1236358309_pic_id93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4000" y="691920"/>
            <a:ext cx="8080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Основные направления и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Arial"/>
              </a:rPr>
              <a:t> формы деятельности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03280" y="2133720"/>
            <a:ext cx="396108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Военно-патриотическо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Туристско-краеведческо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Экологическо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Спортивное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Arial"/>
              </a:rPr>
              <a:t>Культурно-образовательное.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7" descr="IMG_2465"/>
          <p:cNvPicPr/>
          <p:nvPr/>
        </p:nvPicPr>
        <p:blipFill>
          <a:blip r:embed="rId2"/>
          <a:stretch/>
        </p:blipFill>
        <p:spPr>
          <a:xfrm>
            <a:off x="395280" y="2421000"/>
            <a:ext cx="4608360" cy="3841560"/>
          </a:xfrm>
          <a:prstGeom prst="rect">
            <a:avLst/>
          </a:prstGeom>
          <a:ln cap="rnd" w="57240">
            <a:solidFill>
              <a:srgbClr val="80008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4" name="Picture 8" descr="Копия (4) 1236358309_pic_id93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0" y="404280"/>
            <a:ext cx="324000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a50021"/>
                </a:solidFill>
                <a:latin typeface="Arial"/>
              </a:rPr>
              <a:t>ЗАКОНЫ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924000" y="1413000"/>
            <a:ext cx="504036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1. 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Закон слова – Лучанин верен своему слову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2. Закон дела – Лучанин не ждет подсказки, всегда активно действу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3. Закон заботы – Лучанин оказывает помощь всем, кто в ней нуждаетс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4. Закон чести – Лучанин бережет свое доброе имя, достоинство своей Родины, своей организаци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5. Закон дружбы – Лучанин надежный друг, верный товарищ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6. Закон здоровья – Лучанин заботится о своем здоровье, ведет здоровый образ жизни и пропагандирует 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7. Закон истории – Лучанин изучает историю своей Родины, своего родного кра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7" name="Picture 4" descr="2472jpg"/>
          <p:cNvPicPr/>
          <p:nvPr/>
        </p:nvPicPr>
        <p:blipFill>
          <a:blip r:embed="rId2"/>
          <a:stretch/>
        </p:blipFill>
        <p:spPr>
          <a:xfrm>
            <a:off x="468360" y="1341360"/>
            <a:ext cx="3271680" cy="4897440"/>
          </a:xfrm>
          <a:prstGeom prst="rect">
            <a:avLst/>
          </a:prstGeom>
          <a:ln cap="rnd" w="57240">
            <a:solidFill>
              <a:srgbClr val="80008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8" descr="Копия (4) 1236358309_pic_id93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Учащиеся 5 «Л» класса</a:t>
            </a:r>
            <a:br>
              <a:rPr sz="3200"/>
            </a:br>
            <a:r>
              <a:rPr b="1" lang="ru-RU" sz="3200" spc="-1" strike="noStrike">
                <a:solidFill>
                  <a:srgbClr val="800000"/>
                </a:solidFill>
                <a:latin typeface="Arial"/>
              </a:rPr>
              <a:t>МОУ «Средняя общеобразовательная школа №2» в ДОО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 «Лучане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219280" y="2060280"/>
            <a:ext cx="374508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злов Илья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ванов Никит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Анисимов Макси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олинова Елизав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кофьев Владими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Фомичева Анн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довкин Михаил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Шишлакова Елизаве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рескунова Маргари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ролев Дмитрий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7" descr="IMG_2474"/>
          <p:cNvPicPr/>
          <p:nvPr/>
        </p:nvPicPr>
        <p:blipFill>
          <a:blip r:embed="rId2"/>
          <a:stretch/>
        </p:blipFill>
        <p:spPr>
          <a:xfrm>
            <a:off x="539640" y="2205000"/>
            <a:ext cx="4608720" cy="3508560"/>
          </a:xfrm>
          <a:prstGeom prst="rect">
            <a:avLst/>
          </a:prstGeom>
          <a:ln cap="rnd" w="57240">
            <a:solidFill>
              <a:srgbClr val="800080"/>
            </a:solidFill>
            <a:custDash>
              <a:ds d="100000" sp="1000"/>
            </a:custDash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Picture 2" descr="Копия (4) 1236358309_pic_id93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3" name="WordArt 10"/>
          <p:cNvSpPr txBox="1"/>
          <p:nvPr/>
        </p:nvSpPr>
        <p:spPr>
          <a:xfrm>
            <a:off x="539640" y="1773360"/>
            <a:ext cx="7993080" cy="345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a50021"/>
                </a:solidFill>
                <a:latin typeface="Times New Roman"/>
              </a:rPr>
              <a:t>В единении - </a:t>
            </a:r>
            <a:endParaRPr b="1" lang="en-US" sz="4400" spc="1" strike="noStrike">
              <a:ln w="9360">
                <a:solidFill>
                  <a:srgbClr val="ffff00"/>
                </a:solidFill>
                <a:miter/>
              </a:ln>
              <a:solidFill>
                <a:srgbClr val="a50021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a50021"/>
                </a:solidFill>
                <a:latin typeface="Times New Roman"/>
              </a:rPr>
              <a:t>сила.</a:t>
            </a:r>
            <a:endParaRPr b="1" lang="en-US" sz="4400" spc="1" strike="noStrike">
              <a:ln w="9360">
                <a:solidFill>
                  <a:srgbClr val="ffff00"/>
                </a:solidFill>
                <a:miter/>
              </a:ln>
              <a:solidFill>
                <a:srgbClr val="a50021"/>
              </a:soli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4" descr="Копия (2) 1236358309_pic_id93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Октября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ктябрята —  учащиеся 7—9 лет, объединяемые в группы при пионерской дружине школ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Группы октябрят создавались в первых классах школ и действовали до вступления октябрят в пионеры и образования пионерских отрядов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Символом группы был красный октябрьский флаж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Группа октябрят состояла из нескольких подразделений, называемых «звёздочками», каждая из которых включала обычно по 5 детей — символ пятиконечной звезд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8" descr="Копия (2) 1236358309_pic_id93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Значок октябрён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648320" y="2400120"/>
            <a:ext cx="4038480" cy="372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При вступлении в ряды октябрят детям выдавался нагрудный значок — пятиконечная рубиновая звезда с изображением Ленина в детств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Picture 7" descr="180px-Oct_star"/>
          <p:cNvPicPr/>
          <p:nvPr/>
        </p:nvPicPr>
        <p:blipFill>
          <a:blip r:embed="rId2"/>
          <a:stretch/>
        </p:blipFill>
        <p:spPr>
          <a:xfrm>
            <a:off x="468360" y="1989000"/>
            <a:ext cx="3744720" cy="365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4" descr="Копия (2) 1236358309_pic_id93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Arial"/>
              </a:rPr>
              <a:t>Правила  октября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ктябрята — будущие пионер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ктябрята — прилежные ребята, любят школу, уважают старши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Только тех, кто любит труд, октябрятами зов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ктябрята — правдивые и смелые, ловкие и умелы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Октябрята — дружные ребята, читают и рисуют, играют и поют, весело живу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Picture 5" descr="Копия 1236358309_pic_id93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3" name="Picture 4" descr="190px-Pioneers_pin"/>
          <p:cNvPicPr/>
          <p:nvPr/>
        </p:nvPicPr>
        <p:blipFill>
          <a:blip r:embed="rId2"/>
          <a:stretch/>
        </p:blipFill>
        <p:spPr>
          <a:xfrm>
            <a:off x="1547640" y="549360"/>
            <a:ext cx="6696360" cy="6308640"/>
          </a:xfrm>
          <a:prstGeom prst="rect">
            <a:avLst/>
          </a:prstGeom>
          <a:ln w="0">
            <a:noFill/>
          </a:ln>
        </p:spPr>
      </p:pic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0752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Всесоюзная пионерская организация имени В. И. Ленин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2565000"/>
            <a:ext cx="82296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ыла образована решением Всероссийской конференции комсомола 19 мая 1922 год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ионерскую организацию принимаются школьники в возрасте от 9 до 14 лет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сший орган дружины, отряда, звена — пионерский сбор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6" name="Picture 20" descr="Копия 1236358309_pic_id93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82560" y="333000"/>
            <a:ext cx="8080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Пионерская символ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5003640" y="1628640"/>
            <a:ext cx="367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ионерский галсту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ионерская фор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Пионерский знач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Picture 18" descr="220px-Sov-pioneer-tajikistan"/>
          <p:cNvPicPr/>
          <p:nvPr/>
        </p:nvPicPr>
        <p:blipFill>
          <a:blip r:embed="rId2"/>
          <a:stretch/>
        </p:blipFill>
        <p:spPr>
          <a:xfrm>
            <a:off x="755640" y="1484280"/>
            <a:ext cx="3672000" cy="2503440"/>
          </a:xfrm>
          <a:prstGeom prst="rect">
            <a:avLst/>
          </a:prstGeom>
          <a:ln w="0">
            <a:noFill/>
          </a:ln>
        </p:spPr>
      </p:pic>
      <p:pic>
        <p:nvPicPr>
          <p:cNvPr id="590" name="Picture 21" descr="190px-Pioneers_pin"/>
          <p:cNvPicPr/>
          <p:nvPr/>
        </p:nvPicPr>
        <p:blipFill>
          <a:blip r:embed="rId3"/>
          <a:stretch/>
        </p:blipFill>
        <p:spPr>
          <a:xfrm>
            <a:off x="1403280" y="4017960"/>
            <a:ext cx="2592360" cy="24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1" name="Picture 11" descr="Копия 1236358309_pic_id93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80802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Законы пион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211640" y="1413000"/>
            <a:ext cx="468144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ионер —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юный строитель коммунизма — трудится и учится для блага Родины, готовится стать её защитник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ионер —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активный борец за мир, друг пионерам и детям трудящихся всех стран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ионер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равняется на коммунистов, готовится стать комсомольцем, ведет за собой октября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ионер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дорожит честью своей организации, своими делами и поступками укрепляет её авторите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Пионер —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адёжный товарищ, уважает старших, заботится о младших, всегда поступает по сове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Picture 9" descr="250px-Vietnamese_young_pioneers"/>
          <p:cNvPicPr/>
          <p:nvPr/>
        </p:nvPicPr>
        <p:blipFill>
          <a:blip r:embed="rId2"/>
          <a:stretch/>
        </p:blipFill>
        <p:spPr>
          <a:xfrm>
            <a:off x="468360" y="2400480"/>
            <a:ext cx="3759120" cy="311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5" name="Picture 8" descr="Копия 1236358309_pic_id93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140000" y="274680"/>
            <a:ext cx="4546440" cy="22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ff"/>
                </a:solidFill>
                <a:latin typeface="Arial"/>
              </a:rPr>
              <a:t>Торжественное обещание пионер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356000" y="2781360"/>
            <a:ext cx="44640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 пионеры принимали 22 апреля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 день рожде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. И. Ленин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 торжественной обстановке.</a:t>
            </a:r>
            <a:r>
              <a:rPr b="0" lang="ru-RU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8" name="Picture 7" descr="170px-Klyatva"/>
          <p:cNvPicPr/>
          <p:nvPr/>
        </p:nvPicPr>
        <p:blipFill>
          <a:blip r:embed="rId2"/>
          <a:stretch/>
        </p:blipFill>
        <p:spPr>
          <a:xfrm>
            <a:off x="395280" y="476280"/>
            <a:ext cx="3889440" cy="60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9" name="Picture 12" descr="Копия (3) 1236358309_pic_id933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440560" cy="14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Всесоюзный Ленинский Коммунистический </a:t>
            </a:r>
            <a:br>
              <a:rPr sz="2800"/>
            </a:br>
            <a:r>
              <a:rPr b="1" lang="ru-RU" sz="2800" spc="-1" strike="noStrike">
                <a:solidFill>
                  <a:srgbClr val="000066"/>
                </a:solidFill>
                <a:latin typeface="Arial"/>
              </a:rPr>
              <a:t>союз молодёжи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1" name="Picture 7" descr="180px-Komsomol_Badge"/>
          <p:cNvPicPr/>
          <p:nvPr/>
        </p:nvPicPr>
        <p:blipFill>
          <a:blip r:embed="rId2"/>
          <a:stretch/>
        </p:blipFill>
        <p:spPr>
          <a:xfrm>
            <a:off x="826920" y="4149720"/>
            <a:ext cx="2186280" cy="2185920"/>
          </a:xfrm>
          <a:prstGeom prst="rect">
            <a:avLst/>
          </a:prstGeom>
          <a:ln w="0">
            <a:noFill/>
          </a:ln>
        </p:spPr>
      </p:pic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3708000" y="1557000"/>
            <a:ext cx="504036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ЛКСМ,  комсомол —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бщественная молодё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организац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Был создан 29 октября 19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года, в 1924 году  бы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присвоено имя В. И. Лени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 1977 году в комсомол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Состояло свыше 36 миллион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молодых людей всех наций 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народностей СССР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Picture 11" descr="350px-Emblema_Komsomol"/>
          <p:cNvPicPr/>
          <p:nvPr/>
        </p:nvPicPr>
        <p:blipFill>
          <a:blip r:embed="rId3"/>
          <a:stretch/>
        </p:blipFill>
        <p:spPr>
          <a:xfrm>
            <a:off x="684360" y="1557360"/>
            <a:ext cx="2422440" cy="21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9T07:21:19Z</dcterms:created>
  <dc:creator>КОЗЛОВА С.Г.</dc:creator>
  <dc:description/>
  <dc:language>en-US</dc:language>
  <cp:lastModifiedBy>Zver</cp:lastModifiedBy>
  <dcterms:modified xsi:type="dcterms:W3CDTF">2009-04-13T10:22:38Z</dcterms:modified>
  <cp:revision>11</cp:revision>
  <dc:subject/>
  <dc:title>Слайд 1</dc:title>
</cp:coreProperties>
</file>