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99F-8A59-4DA6-BAB6-751C70C2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8F1-16F1-48E9-BEAE-DD0FB366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B0C-9DC4-47D6-8DC6-887E7CFB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0E6-2706-42AC-BBE2-CB9BD109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1822-1634-4828-91DC-5E2C90D8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28BE-A4CF-49DD-8548-952DB9E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1FC-1A58-4314-9ADF-A1F539C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7B4-8E29-4A76-BFAF-3F27B01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5253-794B-4397-9256-1306E9B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E5C-F457-4336-A33A-042104F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DAE-CFCB-4578-8130-55DCA7A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C99-5A30-4553-9450-56AE672C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CBE7-F874-4DE5-9ADE-7013285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365-21ED-48B2-8655-A97EF63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564-B7A4-4784-897F-1050A0C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5BF1-35EF-45CA-8BCE-0581C2B0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251-7186-4F8F-9641-3E113E9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C27-B18B-488E-B435-8F20436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13E-E93F-4B16-808A-FEEC5FD2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474-2808-4281-8847-736B6EC2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C13-8A0F-4680-A988-80D8AB6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14D-682F-4FEF-AF26-AD0D615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C70-DB84-40D5-9429-FF97017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04C-5632-4E13-9E62-156884B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2E9-9AD7-467B-868B-1BAA5A6F8A0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14D-721A-4EFC-8F75-663D5395BA2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65240" y="122400"/>
            <a:ext cx="9131040" cy="2242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Герб УО copy.png"/>
          <p:cNvPicPr/>
          <p:nvPr/>
        </p:nvPicPr>
        <p:blipFill>
          <a:blip r:embed="rId2"/>
          <a:stretch/>
        </p:blipFill>
        <p:spPr>
          <a:xfrm>
            <a:off x="428760" y="285840"/>
            <a:ext cx="1643040" cy="1589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4" name="Рисунок 4" descr="Глобус Книга Ветки.png"/>
          <p:cNvPicPr/>
          <p:nvPr/>
        </p:nvPicPr>
        <p:blipFill>
          <a:blip r:embed="rId3"/>
          <a:stretch/>
        </p:blipFill>
        <p:spPr>
          <a:xfrm>
            <a:off x="2771640" y="5013360"/>
            <a:ext cx="350208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714240" y="27860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ланомерный контроль как часть управленческой и методической работы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8780400" y="5715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P1040556копирование.gif"/>
          <p:cNvPicPr/>
          <p:nvPr/>
        </p:nvPicPr>
        <p:blipFill>
          <a:blip r:embed="rId1"/>
          <a:stretch/>
        </p:blipFill>
        <p:spPr>
          <a:xfrm>
            <a:off x="755640" y="1989000"/>
            <a:ext cx="2932200" cy="390384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1"/>
          <p:cNvGrpSpPr/>
          <p:nvPr/>
        </p:nvGrpSpPr>
        <p:grpSpPr>
          <a:xfrm>
            <a:off x="974880" y="334800"/>
            <a:ext cx="7626240" cy="1384560"/>
            <a:chOff x="974880" y="334800"/>
            <a:chExt cx="7626240" cy="1384560"/>
          </a:xfrm>
        </p:grpSpPr>
        <p:pic>
          <p:nvPicPr>
            <p:cNvPr id="14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74880" y="334800"/>
              <a:ext cx="7626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069920" y="40320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екущий контро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AutoShape 9"/>
          <p:cNvSpPr/>
          <p:nvPr/>
        </p:nvSpPr>
        <p:spPr>
          <a:xfrm>
            <a:off x="3780000" y="1844640"/>
            <a:ext cx="4608360" cy="388944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правлен на из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жеднев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 ходе и результат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ического проце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явление прич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рушающих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P1040556копирование.gif"/>
          <p:cNvPicPr/>
          <p:nvPr/>
        </p:nvPicPr>
        <p:blipFill>
          <a:blip r:embed="rId1"/>
          <a:stretch/>
        </p:blipFill>
        <p:spPr>
          <a:xfrm>
            <a:off x="5292720" y="1628640"/>
            <a:ext cx="3535200" cy="4708800"/>
          </a:xfrm>
          <a:prstGeom prst="rect">
            <a:avLst/>
          </a:prstGeom>
          <a:ln w="0">
            <a:noFill/>
          </a:ln>
        </p:spPr>
      </p:pic>
      <p:grpSp>
        <p:nvGrpSpPr>
          <p:cNvPr id="152" name="Скругленный прямоугольник 1"/>
          <p:cNvGrpSpPr/>
          <p:nvPr/>
        </p:nvGrpSpPr>
        <p:grpSpPr>
          <a:xfrm>
            <a:off x="974880" y="334800"/>
            <a:ext cx="7626240" cy="1384560"/>
            <a:chOff x="974880" y="334800"/>
            <a:chExt cx="7626240" cy="1384560"/>
          </a:xfrm>
        </p:grpSpPr>
        <p:pic>
          <p:nvPicPr>
            <p:cNvPr id="153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74880" y="334800"/>
              <a:ext cx="7626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69920" y="40320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ематический контро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AutoShape 8"/>
          <p:cNvSpPr/>
          <p:nvPr/>
        </p:nvSpPr>
        <p:spPr>
          <a:xfrm>
            <a:off x="468360" y="1844640"/>
            <a:ext cx="4608360" cy="36511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могает собрать наибо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ную информаци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время внести корректив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аботу педагог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ллекти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ли отдельного воспитате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ятно 2 1"/>
          <p:cNvSpPr/>
          <p:nvPr/>
        </p:nvSpPr>
        <p:spPr>
          <a:xfrm>
            <a:off x="2050920" y="1484280"/>
            <a:ext cx="4753080" cy="3384720"/>
          </a:xfrm>
          <a:prstGeom prst="irregularSeal2">
            <a:avLst/>
          </a:prstGeom>
          <a:solidFill>
            <a:srgbClr val="4f81bd">
              <a:alpha val="4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Этапы подготовки темат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контроля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Выноска-облако 2"/>
          <p:cNvSpPr/>
          <p:nvPr/>
        </p:nvSpPr>
        <p:spPr>
          <a:xfrm>
            <a:off x="5651640" y="549360"/>
            <a:ext cx="3321000" cy="1643040"/>
          </a:xfrm>
          <a:prstGeom prst="cloudCallout">
            <a:avLst>
              <a:gd name="adj1" fmla="val -40342"/>
              <a:gd name="adj2" fmla="val 95990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2-й этап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Составление плана тематического контрол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Выноска-облако 8"/>
          <p:cNvSpPr/>
          <p:nvPr/>
        </p:nvSpPr>
        <p:spPr>
          <a:xfrm>
            <a:off x="395280" y="4797360"/>
            <a:ext cx="3529080" cy="1916280"/>
          </a:xfrm>
          <a:prstGeom prst="cloudCallout">
            <a:avLst>
              <a:gd name="adj1" fmla="val 29532"/>
              <a:gd name="adj2" fmla="val -106004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3-й этап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готовка к проведению тематического контрол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Выноска-облако 9"/>
          <p:cNvSpPr/>
          <p:nvPr/>
        </p:nvSpPr>
        <p:spPr>
          <a:xfrm>
            <a:off x="4859280" y="4508640"/>
            <a:ext cx="3816360" cy="1971360"/>
          </a:xfrm>
          <a:prstGeom prst="cloudCallout">
            <a:avLst>
              <a:gd name="adj1" fmla="val -31865"/>
              <a:gd name="adj2" fmla="val -88726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4-й эт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 обязанностей, вопросов к изучению, определение сроков выполнения рабо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Выноска-облако 2"/>
          <p:cNvSpPr/>
          <p:nvPr/>
        </p:nvSpPr>
        <p:spPr>
          <a:xfrm>
            <a:off x="179280" y="404640"/>
            <a:ext cx="3529080" cy="1643400"/>
          </a:xfrm>
          <a:prstGeom prst="cloudCallout">
            <a:avLst>
              <a:gd name="adj1" fmla="val 21523"/>
              <a:gd name="adj2" fmla="val 84976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1-й этап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остановка целей тематического контр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одержит пять бло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Скругленный прямоугольник 1"/>
          <p:cNvGrpSpPr/>
          <p:nvPr/>
        </p:nvGrpSpPr>
        <p:grpSpPr>
          <a:xfrm>
            <a:off x="974880" y="189000"/>
            <a:ext cx="7626240" cy="1384200"/>
            <a:chOff x="974880" y="189000"/>
            <a:chExt cx="7626240" cy="1384200"/>
          </a:xfrm>
        </p:grpSpPr>
        <p:pic>
          <p:nvPicPr>
            <p:cNvPr id="16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74880" y="189000"/>
              <a:ext cx="7626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069920" y="25884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лан тематического контрол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Oval 8"/>
          <p:cNvSpPr/>
          <p:nvPr/>
        </p:nvSpPr>
        <p:spPr>
          <a:xfrm>
            <a:off x="324000" y="2060640"/>
            <a:ext cx="302400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вень ЗУН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итанност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324000" y="4869000"/>
            <a:ext cx="302400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ценка ПР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3059280" y="3357720"/>
            <a:ext cx="3024000" cy="1366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вень планир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5580000" y="2060640"/>
            <a:ext cx="302436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ценка профессио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мений воспит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5076720" y="4869000"/>
            <a:ext cx="3527640" cy="1366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заимодействие с родителя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Скругленный прямоугольник 1"/>
          <p:cNvGrpSpPr/>
          <p:nvPr/>
        </p:nvGrpSpPr>
        <p:grpSpPr>
          <a:xfrm>
            <a:off x="974880" y="189000"/>
            <a:ext cx="7626240" cy="1384200"/>
            <a:chOff x="974880" y="189000"/>
            <a:chExt cx="7626240" cy="1384200"/>
          </a:xfrm>
        </p:grpSpPr>
        <p:pic>
          <p:nvPicPr>
            <p:cNvPr id="171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74880" y="189000"/>
              <a:ext cx="7626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69920" y="25884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равила этики поведения проверяюще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AutoShape 7"/>
          <p:cNvSpPr/>
          <p:nvPr/>
        </p:nvSpPr>
        <p:spPr>
          <a:xfrm>
            <a:off x="395280" y="1413000"/>
            <a:ext cx="820728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стность, ясность, последовательность и объект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анализе и изложении сужден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нений по итогам оценки результатов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395280" y="2492280"/>
            <a:ext cx="820728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Стремление к точности и уважение к очевид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395280" y="3573360"/>
            <a:ext cx="820728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стоверность изложенных фак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395280" y="4724280"/>
            <a:ext cx="820728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ежливость, открытость и непредвзятость при обсуждении вопро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с участниками образовательного процесса и должностными лиц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95280" y="5805360"/>
            <a:ext cx="820728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ажительное отношение к предложе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ей образовательных учре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объектам проверки и срокам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7"/>
          <p:cNvSpPr/>
          <p:nvPr/>
        </p:nvSpPr>
        <p:spPr>
          <a:xfrm>
            <a:off x="684360" y="189000"/>
            <a:ext cx="770400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нимание особенностей образовательного учреж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также уважение интересов, общественного автор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оложения отдельных лиц и групп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684360" y="1341360"/>
            <a:ext cx="770400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Признание того, что интересы и благополуч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оспитанников являются важнейшим приоритет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образовательной политики государ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84360" y="2492280"/>
            <a:ext cx="770400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ажительное отношение и предполо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порядочности и честности педагогов,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684360" y="3573360"/>
            <a:ext cx="770400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Понимание того, насколько серьезно изложенное су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проверяющего воздействует на всех, кого оно кас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684360" y="4653000"/>
            <a:ext cx="7848360" cy="165564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ия проверяющего определяются должностной инструкци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ключающей его права и обязанно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амках баланса полномочий и ответств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указанием на конкретную провер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Контроль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ункция управления, способствующая установлению соответствия функционирования и развития системы образовательного процесса нормативно заданным требованиям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ереводу системы в более качественное состояни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ятно 2 1"/>
          <p:cNvSpPr/>
          <p:nvPr/>
        </p:nvSpPr>
        <p:spPr>
          <a:xfrm>
            <a:off x="1116000" y="1557360"/>
            <a:ext cx="7074000" cy="3787920"/>
          </a:xfrm>
          <a:prstGeom prst="irregularSeal2">
            <a:avLst/>
          </a:prstGeom>
          <a:solidFill>
            <a:srgbClr val="4f81bd">
              <a:alpha val="4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ажность функции контроля в единой системе воспитательно-образовательной работы определяется рядом положений</a:t>
            </a:r>
            <a:r>
              <a:rPr b="0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Выноска-облако 2"/>
          <p:cNvSpPr/>
          <p:nvPr/>
        </p:nvSpPr>
        <p:spPr>
          <a:xfrm>
            <a:off x="5572080" y="1413000"/>
            <a:ext cx="3321000" cy="1643040"/>
          </a:xfrm>
          <a:prstGeom prst="cloudCallout">
            <a:avLst>
              <a:gd name="adj1" fmla="val -44120"/>
              <a:gd name="adj2" fmla="val 77824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явление отклонений и причин их возникновен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озможность устранения недочё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Выноска-облако 7"/>
          <p:cNvSpPr/>
          <p:nvPr/>
        </p:nvSpPr>
        <p:spPr>
          <a:xfrm>
            <a:off x="0" y="1268280"/>
            <a:ext cx="3357720" cy="2076480"/>
          </a:xfrm>
          <a:prstGeom prst="cloudCallout">
            <a:avLst>
              <a:gd name="adj1" fmla="val 47023"/>
              <a:gd name="adj2" fmla="val 85472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истематический  контроль позволяет оперативно управлять воспитательно-образовательны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Выноска-облако 8"/>
          <p:cNvSpPr/>
          <p:nvPr/>
        </p:nvSpPr>
        <p:spPr>
          <a:xfrm>
            <a:off x="826920" y="4437000"/>
            <a:ext cx="3865680" cy="2160720"/>
          </a:xfrm>
          <a:prstGeom prst="cloudCallout">
            <a:avLst>
              <a:gd name="adj1" fmla="val 53694"/>
              <a:gd name="adj2" fmla="val -54629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сутствие системы контроля вызывает стихийность в осуществлении воспитательно-образовательного процесс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Выноска-облако 9"/>
          <p:cNvSpPr/>
          <p:nvPr/>
        </p:nvSpPr>
        <p:spPr>
          <a:xfrm>
            <a:off x="5148360" y="4221000"/>
            <a:ext cx="3862440" cy="2232360"/>
          </a:xfrm>
          <a:prstGeom prst="cloudCallout">
            <a:avLst>
              <a:gd name="adj1" fmla="val -51314"/>
              <a:gd name="adj2" fmla="val -53486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нтроль является важнейшим фактором усиления личной ответственности специалистов за исполнение своих обязанност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Выноска-облако 2"/>
          <p:cNvSpPr/>
          <p:nvPr/>
        </p:nvSpPr>
        <p:spPr>
          <a:xfrm>
            <a:off x="3059280" y="260280"/>
            <a:ext cx="3571560" cy="1643040"/>
          </a:xfrm>
          <a:prstGeom prst="cloudCallout">
            <a:avLst>
              <a:gd name="adj1" fmla="val 1912"/>
              <a:gd name="adj2" fmla="val 94828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ответствие деятельности ДОУ нормативным докуме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повое положение о дошкольном 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сьмо Министерства образования Российской Федерации от 7 февраля 2001 г. № 22-06-147 «О содержании и правовом обеспечении должностного контроля руководителей образовательных учреждений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сьмо Министерства образования Российской Федерации от 4 августа 2000 г. № 236/23-16 «Об организации контроля за деятельностью дошкольных образовательных учреждений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сьмо Министерства образования Российской Федерации  от 11 июня 1998 г. № 33 «О работе с рекомендациями об инспектировании в системе общего и профессионального образования РФ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кция Министерства образования РФ от 4 июня 1998 года «О порядке инспектирова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684360" y="1700280"/>
            <a:ext cx="7632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й системы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х направлений деятельности 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684360" y="2852640"/>
            <a:ext cx="7632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роль необходимо планирова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684360" y="4076640"/>
            <a:ext cx="7632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явление причин, вызывающих 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84360" y="5300640"/>
            <a:ext cx="770400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оевременность и выполнение рекоменд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Скругленный прямоугольник 1"/>
          <p:cNvGrpSpPr/>
          <p:nvPr/>
        </p:nvGrpSpPr>
        <p:grpSpPr>
          <a:xfrm>
            <a:off x="901800" y="262080"/>
            <a:ext cx="7626240" cy="1384200"/>
            <a:chOff x="901800" y="262080"/>
            <a:chExt cx="7626240" cy="1384200"/>
          </a:xfrm>
        </p:grpSpPr>
        <p:pic>
          <p:nvPicPr>
            <p:cNvPr id="101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01800" y="262080"/>
              <a:ext cx="7626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98640" y="33012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ебования к контрол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200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Скругленный прямоугольник 1"/>
          <p:cNvGrpSpPr/>
          <p:nvPr/>
        </p:nvGrpSpPr>
        <p:grpSpPr>
          <a:xfrm>
            <a:off x="901800" y="262080"/>
            <a:ext cx="7626240" cy="1384200"/>
            <a:chOff x="901800" y="262080"/>
            <a:chExt cx="7626240" cy="1384200"/>
          </a:xfrm>
        </p:grpSpPr>
        <p:pic>
          <p:nvPicPr>
            <p:cNvPr id="10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01800" y="262080"/>
              <a:ext cx="7626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998640" y="330120"/>
              <a:ext cx="7118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ебования к контрол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AutoShape 9"/>
          <p:cNvSpPr/>
          <p:nvPr/>
        </p:nvSpPr>
        <p:spPr>
          <a:xfrm>
            <a:off x="971640" y="1773360"/>
            <a:ext cx="7200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азание помощи в реализации рекоменда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971640" y="2924280"/>
            <a:ext cx="7200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роль и его итоги должны быть глас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971640" y="4076640"/>
            <a:ext cx="7200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роль должен быть направ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поиск положительного оп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971640" y="5373720"/>
            <a:ext cx="7200720" cy="9144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и и задачи контроля должны вытекать из целей и зада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/о процесса и годовых задач 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Скругленный прямоугольник 1"/>
          <p:cNvGrpSpPr/>
          <p:nvPr/>
        </p:nvGrpSpPr>
        <p:grpSpPr>
          <a:xfrm>
            <a:off x="914400" y="122400"/>
            <a:ext cx="7632720" cy="1382400"/>
            <a:chOff x="914400" y="122400"/>
            <a:chExt cx="7632720" cy="1382400"/>
          </a:xfrm>
        </p:grpSpPr>
        <p:pic>
          <p:nvPicPr>
            <p:cNvPr id="11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14400" y="122400"/>
              <a:ext cx="763272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12680" y="192240"/>
              <a:ext cx="71186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Условия рациональной организации контрол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AutoShape 15"/>
          <p:cNvSpPr/>
          <p:nvPr/>
        </p:nvSpPr>
        <p:spPr>
          <a:xfrm>
            <a:off x="611280" y="1413000"/>
            <a:ext cx="2663640" cy="12967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нерализ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5435640" y="3068640"/>
            <a:ext cx="2663640" cy="129708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маниз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5435640" y="4869000"/>
            <a:ext cx="2663640" cy="12967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фференци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5435640" y="1484280"/>
            <a:ext cx="2663640" cy="129708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гр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611280" y="3068640"/>
            <a:ext cx="2808360" cy="129708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дивидуализ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3" descr="P1020067копирование.gif"/>
          <p:cNvPicPr/>
          <p:nvPr/>
        </p:nvPicPr>
        <p:blipFill>
          <a:blip r:embed="rId2"/>
          <a:stretch/>
        </p:blipFill>
        <p:spPr>
          <a:xfrm>
            <a:off x="971640" y="4005360"/>
            <a:ext cx="2149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Скругленный прямоугольник 1"/>
          <p:cNvGrpSpPr/>
          <p:nvPr/>
        </p:nvGrpSpPr>
        <p:grpSpPr>
          <a:xfrm>
            <a:off x="914400" y="122400"/>
            <a:ext cx="7632720" cy="1382400"/>
            <a:chOff x="914400" y="122400"/>
            <a:chExt cx="7632720" cy="1382400"/>
          </a:xfrm>
        </p:grpSpPr>
        <p:pic>
          <p:nvPicPr>
            <p:cNvPr id="12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14400" y="122400"/>
              <a:ext cx="763272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012680" y="192240"/>
              <a:ext cx="71186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Алгоритм контрол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Рисунок 3" descr="P1040482копирование.gif"/>
          <p:cNvPicPr/>
          <p:nvPr/>
        </p:nvPicPr>
        <p:blipFill>
          <a:blip r:embed="rId2"/>
          <a:stretch/>
        </p:blipFill>
        <p:spPr>
          <a:xfrm>
            <a:off x="357120" y="1428840"/>
            <a:ext cx="2063880" cy="535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5" name="AutoShape 9"/>
          <p:cNvSpPr/>
          <p:nvPr/>
        </p:nvSpPr>
        <p:spPr>
          <a:xfrm>
            <a:off x="2700360" y="1413000"/>
            <a:ext cx="4680000" cy="7189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пределение цели и объекта контро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700360" y="2276640"/>
            <a:ext cx="4680000" cy="7189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работка программы контро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700360" y="3141720"/>
            <a:ext cx="4680000" cy="7189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бор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700360" y="4005360"/>
            <a:ext cx="4680000" cy="7189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ализ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700360" y="4869000"/>
            <a:ext cx="4680000" cy="71892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работка рекомендаций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пределение путей их реализ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2700360" y="5734080"/>
            <a:ext cx="4680000" cy="71928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верка исполнения рекомендац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Скругленный прямоугольник 1"/>
          <p:cNvGrpSpPr/>
          <p:nvPr/>
        </p:nvGrpSpPr>
        <p:grpSpPr>
          <a:xfrm>
            <a:off x="1238400" y="-19080"/>
            <a:ext cx="6699240" cy="957240"/>
            <a:chOff x="1238400" y="-19080"/>
            <a:chExt cx="6699240" cy="957240"/>
          </a:xfrm>
        </p:grpSpPr>
        <p:pic>
          <p:nvPicPr>
            <p:cNvPr id="13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38400" y="-19080"/>
              <a:ext cx="6699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4360" y="28440"/>
              <a:ext cx="6229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Виды контрол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Прямоугольник с двумя скругленными противолежащими углами 4"/>
          <p:cNvSpPr/>
          <p:nvPr/>
        </p:nvSpPr>
        <p:spPr>
          <a:xfrm>
            <a:off x="142920" y="1357200"/>
            <a:ext cx="3071880" cy="3571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трольная деятельность в виде плановых проверок проходит в соответствии с утвержденным планом-графиком, который обеспечивает периодичность и исключает нерациональное дублирование в организации проверок и доводится до членов педаго­гического коллектива в начал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с двумя скругленными противолежащими углами 5"/>
          <p:cNvSpPr/>
          <p:nvPr/>
        </p:nvSpPr>
        <p:spPr>
          <a:xfrm>
            <a:off x="3286080" y="1285920"/>
            <a:ext cx="2500200" cy="2928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кущий  контроль направлен на изучение вопросов, требующих постоянного контроля,  контроля не реже  одного раза в квартал,  контроля не реже одного раза в месяц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6"/>
          <p:cNvSpPr/>
          <p:nvPr/>
        </p:nvSpPr>
        <p:spPr>
          <a:xfrm>
            <a:off x="5786280" y="1285920"/>
            <a:ext cx="3214800" cy="4143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трольная деятельность в виде оперативных проверок осуществляется для установления фактов и проверки сведений о нарушениях, указанных в обращениях родителей (законных представителей) или других граждан, организаций, урегулирования конфликтных ситуаций в отношениях между участниками образователь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7"/>
          <p:cNvSpPr/>
          <p:nvPr/>
        </p:nvSpPr>
        <p:spPr>
          <a:xfrm>
            <a:off x="214200" y="571680"/>
            <a:ext cx="2928960" cy="642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ЛАНОВ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с двумя скругленными противолежащими углами 8"/>
          <p:cNvSpPr/>
          <p:nvPr/>
        </p:nvSpPr>
        <p:spPr>
          <a:xfrm>
            <a:off x="3286080" y="571680"/>
            <a:ext cx="2571840" cy="642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КУ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9"/>
          <p:cNvSpPr/>
          <p:nvPr/>
        </p:nvSpPr>
        <p:spPr>
          <a:xfrm>
            <a:off x="5929200" y="571680"/>
            <a:ext cx="3071880" cy="642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ПЕРА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1"/>
          <p:cNvSpPr/>
          <p:nvPr/>
        </p:nvSpPr>
        <p:spPr>
          <a:xfrm>
            <a:off x="214200" y="5072040"/>
            <a:ext cx="257184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214200" y="5786280"/>
            <a:ext cx="2500560" cy="50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ЛЕК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13"/>
          <p:cNvSpPr/>
          <p:nvPr/>
        </p:nvSpPr>
        <p:spPr>
          <a:xfrm>
            <a:off x="3286080" y="5072040"/>
            <a:ext cx="25002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сон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кругленный прямоугольник 14"/>
          <p:cNvSpPr/>
          <p:nvPr/>
        </p:nvSpPr>
        <p:spPr>
          <a:xfrm>
            <a:off x="3214800" y="5786280"/>
            <a:ext cx="2571480" cy="50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ронт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право 25"/>
          <p:cNvSpPr/>
          <p:nvPr/>
        </p:nvSpPr>
        <p:spPr>
          <a:xfrm>
            <a:off x="2786040" y="52149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трелка вправо 26"/>
          <p:cNvSpPr/>
          <p:nvPr/>
        </p:nvSpPr>
        <p:spPr>
          <a:xfrm>
            <a:off x="2714760" y="59292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1:27:59Z</dcterms:created>
  <dc:creator>Lis-JR</dc:creator>
  <dc:description/>
  <dc:language>en-US</dc:language>
  <cp:lastModifiedBy>User</cp:lastModifiedBy>
  <dcterms:modified xsi:type="dcterms:W3CDTF">2009-12-10T09:24:36Z</dcterms:modified>
  <cp:revision>68</cp:revision>
  <dc:subject/>
  <dc:title>Слайд 1</dc:title>
</cp:coreProperties>
</file>