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3D0-E1CF-4641-93E9-7E44E450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6DB-911E-4F80-8DF2-41D6E32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E99-EE58-4219-BC09-A94ED05A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4F6-FB2B-4AD8-B381-929BB278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E4B1-1633-422B-B423-2E897A12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72F-21CC-4AA6-8F26-B586414C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4C8F-CC01-4EA6-B196-568D932C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D44-272D-4629-A8FE-794663D0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667-CC10-4F75-8BBC-D1C714C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081D-548E-453E-A9B5-D802F20F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CA8B-F596-4956-9DC9-8D3E2949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0C7-9FC9-4626-811B-FA6669B2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E47-6B91-46BA-BF69-A52E27C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C541-020F-4AB3-B92A-316AF53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E69-2F52-4A13-B0ED-DA9A389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2E46-6A29-4CBD-A692-2D4EBD65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97E9-3863-4B27-A18A-16DA818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886-B9BA-495B-A644-ED77AE8F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7EA-B5AE-46A7-93C1-DE1AEFD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075-32C8-47DA-90D3-55670CA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069-54BC-4334-B1B6-8AF799F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B2D-BCD1-44D3-9D4D-539797D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C04-33E8-4695-B06F-027AFC8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F15-7E24-4E14-B90D-782CCDE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3B3C-D46C-4E42-9FA1-9BE71728A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73AD-69D7-4EA2-AE6E-ADBF9CE78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7313400" cy="2405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Изме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в демоверсии ГИА 2012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698508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адание А4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яет освоение нового элемента содержания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(раздел «Фонети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А4 Укажите ошибочное 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) В слове НЕИЗВЕСТНЫХ (предложение 5) согласный звук [т] является непроизнос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) В слове ВХОДЯ (предложение 1) первый звук – [ф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) В слове ДОСТАНЬТЕ (предложение 16) мягкость согласного [н’] на письме обозначена буквой Ь (мягкий зна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) В слове СЕРЬЁЗНОГО (предложение 1) звуков больше, чем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Часть 2: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задания части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держание и типология тестовых заданий части В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е изменены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меньшено количество заданий по синтаксису и пунктуации с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до </a:t>
            </a:r>
            <a:r>
              <a:rPr b="1" lang="ru-RU" sz="2000" spc="-1" strike="noStrike">
                <a:solidFill>
                  <a:srgbClr val="0000cc"/>
                </a:solidFill>
                <a:latin typeface="Arial Black"/>
              </a:rPr>
              <a:t>5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да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Arial Black"/>
              </a:rPr>
              <a:t>объединены задания В6 и В7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(Демо 201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6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приведённых ниже предложениях из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очитанного текста пронуме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се запятые. Выпишите цифры,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бозначающие запятые между ча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ложного предложения, связанными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чинительной связ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47560" y="549000"/>
            <a:ext cx="73134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сключено задание </a:t>
            </a:r>
            <a:r>
              <a:rPr b="1" lang="ru-RU" sz="3200" spc="-1" strike="noStrike">
                <a:solidFill>
                  <a:srgbClr val="0000cc"/>
                </a:solidFill>
                <a:latin typeface="Arial Black"/>
              </a:rPr>
              <a:t>В13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(Демо 20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 Black"/>
              </a:rPr>
              <a:t>В13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Среди предложений 11–15 найдите сложное бессоюзное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едложение. Напишите номер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эт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1600200"/>
          <a:ext cx="7645320" cy="5205240"/>
        </p:xfrm>
        <a:graphic>
          <a:graphicData uri="http://schemas.openxmlformats.org/drawingml/2006/table">
            <a:tbl>
              <a:tblPr/>
              <a:tblGrid>
                <a:gridCol w="6264360"/>
                <a:gridCol w="1380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Содержательные разде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чь. Слушание. Адекватное понимание устной речи. Изложение. Письменное воспроизведение текста с заданной степенью свернутости (сжатое изложение содержания прослушанного тек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чь. Чтение. Адекватное понимание письменно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он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ексика и фраз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нтакс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рф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ункту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64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спределение заданий КИМ по содержанию и видам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42920" y="1268280"/>
          <a:ext cx="7720200" cy="5184720"/>
        </p:xfrm>
        <a:graphic>
          <a:graphicData uri="http://schemas.openxmlformats.org/drawingml/2006/table">
            <a:tbl>
              <a:tblPr/>
              <a:tblGrid>
                <a:gridCol w="5977080"/>
                <a:gridCol w="1743120"/>
              </a:tblGrid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Содержательные разде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Arial Black"/>
                        </a:rPr>
                        <a:t>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ыразительность русск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чь. Письмо. Создание текста в соответствии с заданной темой и функционально-смысловым типом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ктическая грамотность и фактическая точ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Части 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(в цел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того: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429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спределение заданий КИМ по содержанию и видам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одержание заданий части В  К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42920" y="1125360"/>
          <a:ext cx="7921800" cy="5432760"/>
        </p:xfrm>
        <a:graphic>
          <a:graphicData uri="http://schemas.openxmlformats.org/drawingml/2006/table">
            <a:tbl>
              <a:tblPr/>
              <a:tblGrid>
                <a:gridCol w="889200"/>
                <a:gridCol w="7032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кст как речевое произведение. Смысловая и композиционная целостность текста. Анализ тек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нализ текста. Лексическое значение сл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ыразительные средства лексики и фразеолог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нализ средств вырази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онетика. Звуки и букв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онетический анализ сл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словарных с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приставок. Слитное, дефисно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здельное напис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суффиксов различных частей речи (кроме -Н-/-НН-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-Н- и -НН- в различных частях ре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авописание личных окончаний глаголов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уффиксов причастий настоящего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7920" y="260280"/>
          <a:ext cx="7313400" cy="6242040"/>
        </p:xfrm>
        <a:graphic>
          <a:graphicData uri="http://schemas.openxmlformats.org/drawingml/2006/table">
            <a:tbl>
              <a:tblPr/>
              <a:tblGrid>
                <a:gridCol w="963360"/>
                <a:gridCol w="63500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ексика и фразеолог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нонимы. Фразеологические обороты. Группы слов по происхождению и употреб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ловосоче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дложение. Грамматическая (предикативная) основа предложения. Подлежащее и сказуемое как главные члены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сложненное простое предл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унктуационный анализ. Знаки препинания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дложениях со словами и конструкци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мматически не связанными с членами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нтаксический анализ сложного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унктуационный анализ. Знаки препинания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ложносочиненном и в сложноподчинен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дло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нтаксический анализ сложного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ложные предложения с разными видами связи между част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ние С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64532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пишите сочинение-рассуждение, приняв в качестве тезиса слова известного лингвиста Г. Степанова: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Словарь языка свидетельствует, о чём думают люди, а грамматика – как они думаю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ргументируя свой ответ, приведите по 1 примеру из прочитанного текста, иллюстрирующему лексические и грамматические явления (всего 2 прим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водя примеры, указывайте номера нужных предложений или применяйте ци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 можете писать работу в научном или публицистическом стиле, раскрывая тему на лингвистическом материале. Начать сочинение Вы можете словами Г.Степа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ъём сочинения должен составлять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не менее 70 слов.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рогнозируемые трудности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езис дан как образное высказывание. Он требует узнавания предмета высказывания на основе сформированных лингвистических знаний и интерпретации (объяснение смысла) высказы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3660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овые критерии оценивания сочинения-рассуждения на лингвистическую тему (С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1197000"/>
          <a:ext cx="8785440" cy="5295960"/>
        </p:xfrm>
        <a:graphic>
          <a:graphicData uri="http://schemas.openxmlformats.org/drawingml/2006/table">
            <a:tbl>
              <a:tblPr/>
              <a:tblGrid>
                <a:gridCol w="892440"/>
                <a:gridCol w="6995880"/>
                <a:gridCol w="897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С1К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Наличие обоснованного ответа на поставленный вопрос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вёл рассуждение на теоретическ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ровне. Фактических ошибок, связанных с понимани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зиса, не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вёл рассуждение на теоретическ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ровне. Допущена 1 фактическая ошибка, связанная 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ниманием тези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вёл рассуждение на теоретическом уровн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суждение построил на анализе или только лексических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ли только грамматических явл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актических ошибок, связанных с пониманием тезиса (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асти), не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53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 Black"/>
              </a:rPr>
              <a:t>Характеристика структуры и содержания КИМ 20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6000" y="1196640"/>
            <a:ext cx="784872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работу по русскому языку включ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7 заданий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с выбором ответа из  4-х предложенных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9 заданий,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требующих самостоятельного краткого ответа учащегося,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2 задания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с развернутым ответом: краткое изложение и одно альтернативное задание (сочи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кзаменационная работа по русскому языку состоит из тре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a800"/>
                </a:solidFill>
                <a:latin typeface="Arial Black"/>
              </a:rPr>
              <a:t>Часть 1 – краткое из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Часть 2 (А1–А7, В1–В9) – задания с выбором ответа и задания с кратким ответом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Black"/>
              </a:rPr>
              <a:t>Часть 3 (С2.1 или С2.2) – задания открытого типа с развернутым ответом (сочинение), проверяющие умение создавать собственное высказывание на основе прочитан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овые критерии оценивания сочинения-рассуждения на лингвистическую тему (С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87280" y="1341360"/>
          <a:ext cx="7632360" cy="5400360"/>
        </p:xfrm>
        <a:graphic>
          <a:graphicData uri="http://schemas.openxmlformats.org/drawingml/2006/table">
            <a:tbl>
              <a:tblPr/>
              <a:tblGrid>
                <a:gridCol w="1031400"/>
                <a:gridCol w="5638680"/>
                <a:gridCol w="962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С1К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Наличие обоснованного ответа на поставленный вопрос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вёл рассуждение на теоретическ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ровне. Допущено 2 и более фактических ошибок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вязанных с пониманием тезис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зис не доказан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ано рассуждение вне контекста зад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зис доказан на бытовом уров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(См. Демоверсию 2012 г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5740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истема оценивания выполнения отдельных заданий и экзаменационной работы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8101080" cy="56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твет на задание </a:t>
            </a:r>
            <a:r>
              <a:rPr b="0" lang="ru-RU" sz="1600" spc="-1" strike="noStrike">
                <a:solidFill>
                  <a:srgbClr val="6600cc"/>
                </a:solidFill>
                <a:latin typeface="Arial Black"/>
              </a:rPr>
              <a:t>С1 (сжатое изложение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части 1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боты оценивается по специально разработанным критериям. Максимальное количество баллов за сжатое изложение – </a:t>
            </a:r>
            <a:r>
              <a:rPr b="1" lang="ru-RU" sz="1600" spc="-1" strike="noStrike" u="sng">
                <a:solidFill>
                  <a:srgbClr val="6600cc"/>
                </a:solidFill>
                <a:uFillTx/>
                <a:latin typeface="Arial Black"/>
              </a:rPr>
              <a:t>7 б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 верное выполнение каждого задания </a:t>
            </a:r>
            <a:r>
              <a:rPr b="1" lang="ru-RU" sz="1600" spc="-1" strike="noStrike" u="sng">
                <a:solidFill>
                  <a:srgbClr val="660066"/>
                </a:solidFill>
                <a:uFillTx/>
                <a:latin typeface="Arial Black"/>
              </a:rPr>
              <a:t>части 2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боты выпускник получает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Arial Black"/>
              </a:rPr>
              <a:t>1 балл.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За неверный ответ или его отсутствие выставляется 0 баллов. Максимальное количество баллов, которое может набрать экзаменуемый, правильно выполнивший задания второй части работы, – </a:t>
            </a:r>
            <a:r>
              <a:rPr b="1" lang="ru-RU" sz="1600" spc="-1" strike="noStrike" u="sng">
                <a:solidFill>
                  <a:srgbClr val="660066"/>
                </a:solidFill>
                <a:uFillTx/>
                <a:latin typeface="Arial Black"/>
              </a:rPr>
              <a:t>16 баллов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ценка ответа на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Arial Black"/>
              </a:rPr>
              <a:t>задание С2.1 или С2.2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 Black"/>
              </a:rPr>
              <a:t>части 3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существляется по специально разработанным критериям. Максимальное количество баллов за сочинение-рассуждение (альтернативное задание) –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 Black"/>
              </a:rPr>
              <a:t>9 б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Оценка практической грамотности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кзаменуемого и фактической точности его письменной речи производится на основании проверки изложения и сочинения в целом и составляет </a:t>
            </a:r>
            <a:r>
              <a:rPr b="1" lang="ru-RU" sz="1600" spc="-1" strike="noStrike" u="sng">
                <a:solidFill>
                  <a:srgbClr val="00a800"/>
                </a:solidFill>
                <a:uFillTx/>
                <a:latin typeface="Arial Black"/>
              </a:rPr>
              <a:t>10 баллов</a:t>
            </a:r>
            <a:r>
              <a:rPr b="0" lang="ru-RU" sz="1600" spc="-1" strike="noStrike" u="sng">
                <a:solidFill>
                  <a:srgbClr val="00a800"/>
                </a:solidFill>
                <a:uFillTx/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Максимальное количество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, которое может получ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кзаменуемый за выполнение всей экзаменационной работы, </a:t>
            </a: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– </a:t>
            </a:r>
            <a:r>
              <a:rPr b="1" lang="ru-RU" sz="2000" spc="-1" strike="noStrike">
                <a:solidFill>
                  <a:srgbClr val="003366"/>
                </a:solidFill>
                <a:latin typeface="Arial Black"/>
              </a:rPr>
              <a:t>42 балла</a:t>
            </a: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47560" y="692280"/>
            <a:ext cx="7313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360" y="1989000"/>
            <a:ext cx="7272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пехов на экзамене!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Изменения в КИМ 2012 г. по сравнению с 201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6453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о количество заданий с выбором ответа с</a:t>
            </a:r>
            <a:r>
              <a:rPr b="0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 </a:t>
            </a: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личество заданий с кратким ответом с 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о с 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a8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2400" spc="-1" strike="noStrike">
                <a:solidFill>
                  <a:srgbClr val="00a8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личество микротем исходного текста для написания сжатого изложения (С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 объем изложения и соч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о задание С2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ы системы оценивания заданий С1 и С2.1 и С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5986800" cy="106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Часть 1: С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кращёно с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до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количество микротем исходного текста для написания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жатого из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что приводит к уменьшению объема исходного текста (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35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слов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 сравнении с демоверсией 2011 –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248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ы рекомендации по объему изло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«Объём изложения – не менее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70 слов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 критерий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К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одель проведения сжатого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836640"/>
          <a:ext cx="7777440" cy="6075360"/>
        </p:xfrm>
        <a:graphic>
          <a:graphicData uri="http://schemas.openxmlformats.org/drawingml/2006/table">
            <a:tbl>
              <a:tblPr/>
              <a:tblGrid>
                <a:gridCol w="432000"/>
                <a:gridCol w="2592360"/>
                <a:gridCol w="3206880"/>
                <a:gridCol w="154620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абота организ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Действия экзаменуе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-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Поставить аудиоза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первый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ослушивают исходный текст. Во время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кста экзаменуемые делают записи в чернови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5 -3 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Дать время на осмы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ботают с чернов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–4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Поставить аудиоза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торой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ослушивают исход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5–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ыключить запи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Сообщить о нач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написания изложения и о возможности пользоваться слова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ишут сжатое изложение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(не менее 70 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7560" y="620280"/>
            <a:ext cx="73134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 экзамен по русскому языку в аудиторию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не допускаются специалисты-филологи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кзаменуемые прослушивают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исходный текст в аудиозаписи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. Во время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ения текста экзаменуемым разрешается делать записи в чернов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335640" cy="80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ритерии оценивания сжатого из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87280" y="1484280"/>
          <a:ext cx="7499520" cy="4417920"/>
        </p:xfrm>
        <a:graphic>
          <a:graphicData uri="http://schemas.openxmlformats.org/drawingml/2006/table">
            <a:tbl>
              <a:tblPr/>
              <a:tblGrid>
                <a:gridCol w="901800"/>
                <a:gridCol w="5832720"/>
                <a:gridCol w="765000"/>
              </a:tblGrid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К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жатие исходного текст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 протяжении всего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ля сжатия 2 микротем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приёмо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атия текста, использовав их для сжатия 1 микротемы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не использовал приёмов сжатия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Часть 2: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задания части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6453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величен объем текста для самостоятельного чтения и анализа (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4 слова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 сравнении с демоверсией 2011 –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323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л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о количество заданий с выбором ответа (А) с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до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А1-А7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и количество заданий с кратким ответом (В) с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до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1-В9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менено содержание тестовых заданий части 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А1-А3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 – содержательный анализ текста, </a:t>
            </a: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А4-А7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 –лингвистический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76280"/>
            <a:ext cx="7777080" cy="60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ипология заданий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1-А3 не изменена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. Задания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4-А7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–  нов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ля формата ГИА типолог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4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5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6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В каком слове правописание приставки определяется её значением –«приближе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7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 каком слове правописание суффикса является исключением из прав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5400000">
            <a:off x="-2776680" y="2973240"/>
            <a:ext cx="6651360" cy="73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latin typeface="Arial"/>
              </a:rPr>
              <a:t>Готовимся к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1-08-24T13:16:5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